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335D-8ADC-498B-8F84-04465B6BFA9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C711-2F06-432C-9150-8CF647BD3C7C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25560" y="685800"/>
            <a:ext cx="500868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BA87-4B65-4095-A47D-4FD8F6DB02C0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25560" y="685800"/>
            <a:ext cx="500868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E46-1800-47DD-BAE4-79E190C2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187-AA3D-477F-922D-8715DCD2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683-1A21-4244-AD36-96CF8DE9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0F6-68E4-4169-9094-C9D0EC0A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B666-ABED-4187-B1DA-2B193E57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05E-8BDD-4024-9EFB-69B34352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11C-0689-4AB9-8D3F-CE355445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DF5-DD71-4EBD-8EB7-6C5AFFBB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A66-40CA-44FE-B7AC-7F0A4E54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4C3-2F0D-41B6-BF0C-9C7FDD08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9A1-93EE-4DF4-8D52-52051C8D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073-BE9C-4241-895B-4BFE0137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D271-62A9-4BBD-8A6D-1D62278F7EA6}" type="slidenum"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2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8" name="Picture 2" descr="IMG0070b"/>
          <p:cNvPicPr/>
          <p:nvPr/>
        </p:nvPicPr>
        <p:blipFill>
          <a:blip r:embed="rId2"/>
          <a:stretch/>
        </p:blipFill>
        <p:spPr>
          <a:xfrm>
            <a:off x="611280" y="105264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4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8.6.1-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ra   determinar la distribución de   esfuerzos y las deformaciones sísmicas  de estructuras que no presentan problemas de tipo P-</a:t>
            </a:r>
            <a:r>
              <a:rPr b="0" lang="el-GR" sz="2600" spc="-1" strike="noStrike">
                <a:solidFill>
                  <a:srgbClr val="ffffff"/>
                </a:solidFill>
                <a:latin typeface="Constantia"/>
                <a:ea typeface="Arial"/>
              </a:rPr>
              <a:t>δ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e puede usar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inercia de la sección de hormigón sin agrieta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y sin considerar el efecto de la  armadura,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I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y el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módulo de elasticida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del hormigón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E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según 8.5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4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9.1.4  -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ra los factores de carga y de  reducción de la resistencia establecidos  en 9.2.1, la combinación para cargas que  incluyan 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efecto sísmico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e debe hacer reemplazando el factor de carga 1,0 para  sismo por 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factor 1,4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de acuerdo con 9.2.1 c), donde la solicitación sísmica  E  se debe determinar de acuerdo con  NCh433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Diseño sísmico de edificio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2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685800" y="1523880"/>
            <a:ext cx="77011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nstantia"/>
              </a:rPr>
              <a:t>21.2.1.1</a:t>
            </a:r>
            <a:r>
              <a:rPr b="1" lang="es-ES_tradnl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nstantia"/>
              </a:rPr>
              <a:t>El capítulo 21 contiene </a:t>
            </a:r>
            <a:r>
              <a:rPr b="1" lang="es-ES_tradnl" sz="2400" spc="-1" strike="noStrike">
                <a:solidFill>
                  <a:srgbClr val="ffffff"/>
                </a:solidFill>
                <a:latin typeface="Constantia"/>
              </a:rPr>
              <a:t>disposiciones especiales</a:t>
            </a:r>
            <a:r>
              <a:rPr b="0" lang="es-ES_tradnl" sz="2400" spc="-1" strike="noStrike">
                <a:solidFill>
                  <a:srgbClr val="ffffff"/>
                </a:solidFill>
                <a:latin typeface="Constantia"/>
              </a:rPr>
              <a:t> para el diseño y la construcción de los elementos de hormigón armado de una estructura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nstantia"/>
              </a:rPr>
              <a:t>para la que se han determinado las fuerzas de diseño </a:t>
            </a:r>
            <a:r>
              <a:rPr b="1" lang="es-ES_tradnl" sz="2400" spc="-1" strike="noStrike">
                <a:solidFill>
                  <a:srgbClr val="ffffff"/>
                </a:solidFill>
                <a:latin typeface="Constantia"/>
              </a:rPr>
              <a:t>relacionadas con los movimientos sísmicos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nstantia"/>
              </a:rPr>
              <a:t>sobre la base de la disipación de energía en el rango no lineal de la respuesta</a:t>
            </a:r>
            <a:r>
              <a:rPr b="0" lang="es-ES_tradnl" sz="24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743200" y="9144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nstantia"/>
              </a:rPr>
              <a:t>CAPÍTULO 21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2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55640" y="148428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21.2.1.1 -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Los pilares y cadenas de muros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nstantia"/>
              </a:rPr>
              <a:t>albañilería confinad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no necesitan cumplir con las disposiciones del capítulo 21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449360" y="1488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4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21.2.1.2 -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ra el diseño de elementos sismo-resistentes de hormigón armad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todas las regione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del territorio nacional deben ser consideradas d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elevado riesgo sísmic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2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8" name="Picture 2" descr="esquema 1 color"/>
          <p:cNvPicPr/>
          <p:nvPr/>
        </p:nvPicPr>
        <p:blipFill>
          <a:blip r:embed="rId2"/>
          <a:stretch/>
        </p:blipFill>
        <p:spPr>
          <a:xfrm>
            <a:off x="395280" y="1413000"/>
            <a:ext cx="81532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3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1042920" y="1044720"/>
            <a:ext cx="785016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E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Constantia"/>
              </a:rPr>
              <a:t>estructuras mixta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con muros y marcos continuos en toda la altura del edificio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en los cuales los muros tomen al menos un 75% del corte en la base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o cuando los marcos sean capaces de alcanzar el desplazamiento correspondiente que se obtiene con el espectro elástico de la norma NCh 433 sin aplicar factores de reducción de la respuesta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los marcos pueden dimensionarse según la sección 21.12 </a:t>
            </a:r>
            <a:r>
              <a:rPr b="1" i="1" lang="es-ES" sz="2400" spc="-1" strike="noStrike">
                <a:solidFill>
                  <a:srgbClr val="ffffff"/>
                </a:solidFill>
                <a:latin typeface="Constantia"/>
              </a:rPr>
              <a:t>(pórticos intermedios)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 de este capítulo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1" name="Rectangle 5" descr=""/>
          <p:cNvPicPr/>
          <p:nvPr/>
        </p:nvPicPr>
        <p:blipFill>
          <a:blip r:embed="rId2"/>
          <a:stretch/>
        </p:blipFill>
        <p:spPr>
          <a:xfrm>
            <a:off x="463680" y="542880"/>
            <a:ext cx="824220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176040" y="689040"/>
            <a:ext cx="8455320" cy="115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nstantia"/>
              </a:rPr>
              <a:t>El acero AT56-50 H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que no cumpla con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f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u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/ 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f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y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ayor o igual que 1,25 se puede utilizar siempre que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)  No sea en zonas  críticas donde el acero   pueda entrar en rango plástico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i) No sea utilizado como malla de corte en muros, a menos  que  se  realice un diseño por  capacidad que asegure que el comportamiento del elemento no estará controlado por la falla de cort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2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1619280" y="4508640"/>
            <a:ext cx="58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Constantia"/>
              </a:rPr>
              <a:t>21.4.2.2 - Las uniones vigas – columna del piso superior no necesitan cumplir con Eq.(21-1)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627280" y="5734080"/>
                <a:ext cx="33847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Mnc</m:t>
                        </m:r>
                      </m:e>
                    </m:nary>
                    <m:r>
                      <m:t xml:space="preserve">≥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Mn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98" name="Picture 4" descr="figura 5"/>
          <p:cNvPicPr/>
          <p:nvPr/>
        </p:nvPicPr>
        <p:blipFill>
          <a:blip r:embed="rId2"/>
          <a:stretch/>
        </p:blipFill>
        <p:spPr>
          <a:xfrm>
            <a:off x="1692360" y="1052640"/>
            <a:ext cx="51926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2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0" name="Picture 2" descr="figura final"/>
          <p:cNvPicPr/>
          <p:nvPr/>
        </p:nvPicPr>
        <p:blipFill>
          <a:blip r:embed="rId2"/>
          <a:stretch/>
        </p:blipFill>
        <p:spPr>
          <a:xfrm>
            <a:off x="1042920" y="765000"/>
            <a:ext cx="6913800" cy="4600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116000" y="5516640"/>
            <a:ext cx="63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Constantia"/>
              </a:rPr>
              <a:t>21.7.2.2 - Todos los muros estructurales deben tener al menos 2 capas de refuerzo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Line 4"/>
          <p:cNvSpPr/>
          <p:nvPr/>
        </p:nvSpPr>
        <p:spPr>
          <a:xfrm flipV="1">
            <a:off x="3132000" y="3429000"/>
            <a:ext cx="259236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3132000" y="3429000"/>
            <a:ext cx="259236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4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 hay material estructural más dúctil que el hormigón armado bien diseñad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r el contrario no hay material estructural más frágil que el hormigón armado mal diseñad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4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nstantia"/>
              </a:rPr>
              <a:t>Integridad estructural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nstantia"/>
              </a:rPr>
              <a:t>local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4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 mayoría de las disposiciones del código corresponden 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regla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de diseño destinadas a asegurar que los </a:t>
            </a:r>
            <a:r>
              <a:rPr b="1" lang="en-US" sz="2600" spc="-1" strike="noStrike">
                <a:solidFill>
                  <a:srgbClr val="0066ff"/>
                </a:solidFill>
                <a:latin typeface="Constantia"/>
              </a:rPr>
              <a:t>elementos estructurale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no s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desintegren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uando alcanzan su capacidad máxim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2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 rot="5400000">
            <a:off x="2267640" y="837000"/>
            <a:ext cx="504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2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8" name="Picture 2" descr="IMG0049"/>
          <p:cNvPicPr/>
          <p:nvPr/>
        </p:nvPicPr>
        <p:blipFill>
          <a:blip r:embed="rId2"/>
          <a:stretch/>
        </p:blipFill>
        <p:spPr>
          <a:xfrm>
            <a:off x="2185920" y="765000"/>
            <a:ext cx="4772160" cy="59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2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0" name="Picture 2" descr="IMG0023"/>
          <p:cNvPicPr/>
          <p:nvPr/>
        </p:nvPicPr>
        <p:blipFill>
          <a:blip r:embed="rId2"/>
          <a:stretch/>
        </p:blipFill>
        <p:spPr>
          <a:xfrm>
            <a:off x="2484360" y="836640"/>
            <a:ext cx="388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2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2" name="Picture 2" descr="IMG0026"/>
          <p:cNvPicPr/>
          <p:nvPr/>
        </p:nvPicPr>
        <p:blipFill>
          <a:blip r:embed="rId2"/>
          <a:stretch/>
        </p:blipFill>
        <p:spPr>
          <a:xfrm>
            <a:off x="2556000" y="765000"/>
            <a:ext cx="3941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4 Marcador de pie de página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NCh 430 Of 2008 Hormigón armado – Requisitos de diseño y cálculo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4" name="Picture 2" descr="foto 8"/>
          <p:cNvPicPr/>
          <p:nvPr/>
        </p:nvPicPr>
        <p:blipFill>
          <a:blip r:embed="rId2"/>
          <a:stretch/>
        </p:blipFill>
        <p:spPr>
          <a:xfrm>
            <a:off x="395280" y="907920"/>
            <a:ext cx="828036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3:28:34Z</dcterms:created>
  <dc:creator> </dc:creator>
  <dc:description/>
  <dc:language>en-US</dc:language>
  <cp:lastModifiedBy>sec2</cp:lastModifiedBy>
  <dcterms:modified xsi:type="dcterms:W3CDTF">2008-06-26T15:56:01Z</dcterms:modified>
  <cp:revision>8</cp:revision>
  <dc:subject/>
  <dc:title>Diapositiva 1</dc:title>
</cp:coreProperties>
</file>