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9A1-88EF-49C5-92A7-43C5A7D51A4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CA8-4B6D-4761-BE7F-9B95B91401F9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1D0-13A3-456A-B65A-04904B53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A40-0C3B-49BF-AC0B-B854235F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1F9-F9DD-41EE-8228-3DA77F8A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35F-BF29-4967-8D4A-EA19CBDD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B41-6D65-4A68-A6B0-F9F5AFE4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9CB2-FAFE-4857-B56B-BC91CFB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D49D-60E8-435F-B7DD-24A8E08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EB49-D2FC-4ED3-94E7-F1C5E48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2B0-1005-4883-B460-BB63E0D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34CB-D21A-4068-B93D-5DFA6178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785-78E6-4982-B5C3-BB87B04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4DC-7697-47D9-B982-94F1BEA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94AE-2D9B-4391-8602-94422CF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2E51-E5CE-4CAD-9C92-CE9B128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3CF-1754-46E4-9BAD-C864846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EBE3-ECD8-47C1-87AE-28730AE1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44F5-2B71-44EE-91AC-A40FCCFE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F21C-D398-443E-8A3A-0B82F55C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06CD-A753-42B6-A974-882E6207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00D3-DBCD-4560-AF80-BA3A565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8BFB-27B6-4A7F-ACF5-DFDE24F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E68E-E2E5-46FC-A23C-7F230AF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BD2-526B-4438-B4FE-C3AA0D5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819D-0FDB-4AB8-B03B-DA7BAC2C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7E1E-6941-4843-9FB0-F39FBD3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DDDA-C12E-4A58-A80F-263BACE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B9F5-11CF-4A66-8C55-23B8F06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35C4-00A2-4559-825D-E7CAA32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3E9E-7E5F-4BDB-86D2-948A7F1E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35D4-73BC-47FC-832B-740ED9CB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2F32-683F-48CF-9327-0E3BCF55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3A5E-13DD-400B-9D10-998838B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F0E4-0B1E-42DF-8266-D62AF6C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812-E129-40EA-A381-27B732C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F86F5-9057-4DFD-B47A-81DF4F7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684E-39CD-4F02-9574-4452E0E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D373-8F07-4A8D-ADE2-07D22930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3F6B-3924-4EE3-8ABB-82F21CC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879C-9B8D-4649-80FE-9ADA137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524D-CAF5-4946-8194-CAC1E65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147C-09C8-44DB-8507-7C715F5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978B-681E-4051-B88C-AF63A60E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BF16-CF7B-4F3B-8BC5-D0766168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1B49-C8F6-47FB-A946-6162B2FA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EEB-BFB3-4CCF-889E-FB11354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1395-3E1F-4A9A-AF69-21CCB3C4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4DFD-7FA4-497D-B04E-E8DAECE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0F80B-24D6-4300-96CE-E4C57CA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FF9F-0E60-411F-A428-452CEF63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ABF6-7C66-42AA-9BF1-125E556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AE9E-A6D9-4D52-9225-BE50BFA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49D0-9D43-4D35-98EA-2A176A2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08C6-0C4C-46F5-8C86-BC9C264C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812C-0883-4030-9B5E-A167A4D1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15714-A8CE-4402-BA51-9697253E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6FC-2866-4B7F-8DE8-9D06EE6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75C7-99E1-4C9E-8FC4-602D2F71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3C8-0EDE-4DFF-9556-8407280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6DF-3EF0-460C-B223-EE310A0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EE8-0905-4D80-BCA3-A32943B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8ADE-C3EC-4A85-867D-35E5CBCD785D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078-6273-4267-B5E2-4C53B41921A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30F-054A-4088-A55C-B72D9874EBA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1AE-A87E-4D8C-80CB-E7BAE77AEA3E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9B8-B1B6-429C-88C2-5279E176A39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55640" y="357336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323232"/>
                </a:solidFill>
                <a:latin typeface="Perpetua"/>
              </a:rPr>
              <a:t>Taller VIII CI43A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84360" y="1499760"/>
            <a:ext cx="7772400" cy="1058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Franklin Gothic Book"/>
              </a:rPr>
              <a:t>Paradoja de Braess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340000" y="6021360"/>
            <a:ext cx="461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1 de Junio de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23232"/>
                </a:solidFill>
                <a:latin typeface="Franklin Gothic Book"/>
              </a:rPr>
              <a:t>La Paradoja de Braess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1733400"/>
            <a:ext cx="850104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 la práctica, se ha detectado que intervenciones en la red vial no han tenido los resultados esperados, por ejemplo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uando se cerró la Av. 42 en Nueva York (1990) se esperaba que aumentaran los niveles de congestión, pero la circulación por la ciudad mejor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n Stuttgart (1969), Alemania, la construcción de un nuevo camino significó una desmejora en el flujo vehicular, el cual sólo mejoró cuando dicho camino fue cerrad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stos 2 fenómenos son ejemplos reales que describen la paradoja de Braess, que fue enunciada en 1968 el matemático alemán Dietrich Braess y puede ilustrarse con ayuda del gráfico adjunt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34 CuadroTexto"/>
          <p:cNvSpPr/>
          <p:nvPr/>
        </p:nvSpPr>
        <p:spPr>
          <a:xfrm>
            <a:off x="4729320" y="16239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772160" y="4838760"/>
          <a:ext cx="3886200" cy="147780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</a:tblGrid>
              <a:tr h="27144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rámetro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rámetro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4120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120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156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120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-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1200"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-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344600" y="5197320"/>
                <a:ext cx="258444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40 CuadroTexto"/>
          <p:cNvSpPr/>
          <p:nvPr/>
        </p:nvSpPr>
        <p:spPr>
          <a:xfrm>
            <a:off x="1251000" y="10954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manda A-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390920" y="434880"/>
          <a:ext cx="3938760" cy="1121040"/>
        </p:xfrm>
        <a:graphic>
          <a:graphicData uri="http://schemas.openxmlformats.org/drawingml/2006/table">
            <a:tbl>
              <a:tblPr/>
              <a:tblGrid>
                <a:gridCol w="1968480"/>
                <a:gridCol w="1970280"/>
              </a:tblGrid>
              <a:tr h="30312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da A-B [veh/hr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7252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728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7252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46" name="8 Elipse"/>
          <p:cNvSpPr/>
          <p:nvPr/>
        </p:nvSpPr>
        <p:spPr>
          <a:xfrm>
            <a:off x="1119240" y="1876320"/>
            <a:ext cx="770040" cy="782640"/>
          </a:xfrm>
          <a:prstGeom prst="ellipse">
            <a:avLst/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9 Elipse"/>
          <p:cNvSpPr/>
          <p:nvPr/>
        </p:nvSpPr>
        <p:spPr>
          <a:xfrm>
            <a:off x="6180120" y="3292560"/>
            <a:ext cx="770040" cy="782640"/>
          </a:xfrm>
          <a:prstGeom prst="ellipse">
            <a:avLst/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10 Rectángulo"/>
          <p:cNvSpPr/>
          <p:nvPr/>
        </p:nvSpPr>
        <p:spPr>
          <a:xfrm>
            <a:off x="4800600" y="2057400"/>
            <a:ext cx="228600" cy="252360"/>
          </a:xfrm>
          <a:prstGeom prst="rect">
            <a:avLst/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11 Rectángulo"/>
          <p:cNvSpPr/>
          <p:nvPr/>
        </p:nvSpPr>
        <p:spPr>
          <a:xfrm>
            <a:off x="3220920" y="3917880"/>
            <a:ext cx="228600" cy="252360"/>
          </a:xfrm>
          <a:prstGeom prst="rect">
            <a:avLst/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0" name="12 Conector curvado"/>
          <p:cNvCxnSpPr>
            <a:stCxn id="246" idx="6"/>
            <a:endCxn id="248" idx="1"/>
          </p:cNvCxnSpPr>
          <p:nvPr/>
        </p:nvCxnSpPr>
        <p:spPr>
          <a:xfrm flipV="1">
            <a:off x="1888920" y="2183760"/>
            <a:ext cx="2912040" cy="84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16 Conector curvado"/>
          <p:cNvCxnSpPr>
            <a:stCxn id="248" idx="3"/>
            <a:endCxn id="247" idx="0"/>
          </p:cNvCxnSpPr>
          <p:nvPr/>
        </p:nvCxnSpPr>
        <p:spPr>
          <a:xfrm>
            <a:off x="5028840" y="2184480"/>
            <a:ext cx="1537560" cy="110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14 Conector curvado"/>
          <p:cNvCxnSpPr>
            <a:stCxn id="249" idx="3"/>
            <a:endCxn id="247" idx="2"/>
          </p:cNvCxnSpPr>
          <p:nvPr/>
        </p:nvCxnSpPr>
        <p:spPr>
          <a:xfrm flipV="1">
            <a:off x="3449160" y="3682440"/>
            <a:ext cx="2731320" cy="362520"/>
          </a:xfrm>
          <a:prstGeom prst="curvedConnector5">
            <a:avLst>
              <a:gd name="adj1" fmla="val 49551"/>
              <a:gd name="adj2" fmla="val 50000"/>
              <a:gd name="adj3" fmla="val 4955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23 Conector curvado"/>
          <p:cNvCxnSpPr>
            <a:stCxn id="246" idx="4"/>
            <a:endCxn id="249" idx="1"/>
          </p:cNvCxnSpPr>
          <p:nvPr/>
        </p:nvCxnSpPr>
        <p:spPr>
          <a:xfrm flipH="1" rot="16200000">
            <a:off x="1668240" y="2493000"/>
            <a:ext cx="1386720" cy="171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16 Conector curvado"/>
          <p:cNvCxnSpPr>
            <a:stCxn id="249" idx="0"/>
            <a:endCxn id="248" idx="2"/>
          </p:cNvCxnSpPr>
          <p:nvPr/>
        </p:nvCxnSpPr>
        <p:spPr>
          <a:xfrm flipH="1" flipV="1" rot="5400000">
            <a:off x="3321000" y="2323440"/>
            <a:ext cx="1608840" cy="158040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5" name="33 CuadroTexto"/>
          <p:cNvSpPr/>
          <p:nvPr/>
        </p:nvSpPr>
        <p:spPr>
          <a:xfrm>
            <a:off x="6311880" y="32688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35 CuadroTexto"/>
          <p:cNvSpPr/>
          <p:nvPr/>
        </p:nvSpPr>
        <p:spPr>
          <a:xfrm>
            <a:off x="3147840" y="4159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19 Flecha derecha"/>
          <p:cNvSpPr/>
          <p:nvPr/>
        </p:nvSpPr>
        <p:spPr>
          <a:xfrm>
            <a:off x="7213680" y="3452760"/>
            <a:ext cx="587160" cy="282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31 CuadroTexto"/>
          <p:cNvSpPr/>
          <p:nvPr/>
        </p:nvSpPr>
        <p:spPr>
          <a:xfrm>
            <a:off x="1239840" y="1852560"/>
            <a:ext cx="3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21 Flecha derecha"/>
          <p:cNvSpPr/>
          <p:nvPr/>
        </p:nvSpPr>
        <p:spPr>
          <a:xfrm rot="3879000">
            <a:off x="791640" y="1339560"/>
            <a:ext cx="587520" cy="2826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45 CuadroTexto"/>
          <p:cNvSpPr/>
          <p:nvPr/>
        </p:nvSpPr>
        <p:spPr>
          <a:xfrm>
            <a:off x="3032280" y="26827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Bell MT"/>
              </a:rPr>
              <a:t>camino nue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23232"/>
                </a:solidFill>
                <a:latin typeface="Franklin Gothic Book"/>
              </a:rPr>
              <a:t>Tareas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760" y="1447920"/>
            <a:ext cx="8501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nsidere un flujo vehicular </a:t>
            </a:r>
            <a:r>
              <a:rPr b="0" i="1" lang="es-ES" sz="2400" spc="-1" strike="noStrike">
                <a:solidFill>
                  <a:srgbClr val="000000"/>
                </a:solidFill>
                <a:latin typeface="Perpetua"/>
              </a:rPr>
              <a:t>q</a:t>
            </a: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 que va desde el nodo A al nodo B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En la situación inicial, sólo existen 2 rutas para ir de A a B. Estudie el equilibrio del usuario en la red adjunta, para los 3 niveles de flujo </a:t>
            </a:r>
            <a:r>
              <a:rPr b="0" i="1" lang="es-ES" sz="2400" spc="-1" strike="noStrike">
                <a:solidFill>
                  <a:srgbClr val="000000"/>
                </a:solidFill>
                <a:latin typeface="Perpetua"/>
              </a:rPr>
              <a:t>q</a:t>
            </a: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 dad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En un segundo escenario, se ha construido un nuevo arco entre los nodos C y D. Encuentre el equilibrio del usuario para los 3 niveles de flujo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ara todas las situaciones anteriores, calcule el tiempo total del siste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buClr>
                <a:srgbClr val="f07f09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mente sus resultados y enuncie la Paradoja de Braess. ¿Qué implicancias tiene esta paradoj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360" indent="-261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23232"/>
                </a:solidFill>
                <a:latin typeface="Franklin Gothic Book"/>
              </a:rPr>
              <a:t>Entrega del Taller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28800" y="157140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Mail del Curs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23232"/>
                </a:solidFill>
                <a:latin typeface="Perpetua"/>
              </a:rPr>
              <a:t>tallerci43a@gmail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odos los archivos enviados deben tener el siguiente formato de nombre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Apellido1_Apellido2_Apellido3.xl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clui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Archivo .doc con las respuesta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Nombre de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todos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 los integrantes del grup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 punto base será asignado de acuerdo a la presentación y orden de los archivo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emtrans</cp:lastModifiedBy>
  <dcterms:modified xsi:type="dcterms:W3CDTF">2008-06-11T16:47:02Z</dcterms:modified>
  <cp:revision>41</cp:revision>
  <dc:subject/>
  <dc:title>Taller  I</dc:title>
</cp:coreProperties>
</file>