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067550" cy="10198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74C-3596-488B-A432-380BE624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E63-75FF-4C02-A672-3BBC0596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ACD6-6B4F-45AC-8994-98CB9689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476-C370-4602-8719-BD91094D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4EF-FD50-4B3C-AFDA-9F065726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789-F271-4332-8693-DE97D927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61DC-BA2F-4013-BF6E-F48678BD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4E3D-5702-4F61-9CC1-1606C03A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999-17F4-4B82-A3FB-6C5722DA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483-7FA8-4279-A384-868404BE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E13-FC60-48E7-A263-16AA07E0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CF1-A488-4D6D-BF6D-CA958189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500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5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5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5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5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-360"/>
            <a:ext cx="5486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69EB-0474-4812-9ED9-72101AB69C40}" type="slidenum">
              <a:rPr b="0" lang="es-C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6633"/>
                </a:solidFill>
                <a:latin typeface="Tahoma"/>
              </a:rPr>
              <a:t>Estilos Particulares de Componentes y Conectores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6633"/>
                </a:solidFill>
                <a:latin typeface="Tahoma"/>
              </a:rPr>
              <a:t>Tubos y Filtros como un Patrón de Arquitectura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6633"/>
                </a:solidFill>
                <a:latin typeface="Tahoma"/>
              </a:rPr>
              <a:t>Ejemplo: Compilador Portable de Mocha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3429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ocha (Modular Object Computation with Hypothetical Algorithms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25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AuLait (Another Universal Language for Intermediate Translation) corre en una máquina virtual CUP (Concurent Uniform Processor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01480" y="1774800"/>
            <a:ext cx="8458200" cy="4626000"/>
            <a:chOff x="501480" y="1774800"/>
            <a:chExt cx="8458200" cy="4626000"/>
          </a:xfrm>
        </p:grpSpPr>
        <p:grpSp>
          <p:nvGrpSpPr>
            <p:cNvPr id="119" name=""/>
            <p:cNvGrpSpPr/>
            <p:nvPr/>
          </p:nvGrpSpPr>
          <p:grpSpPr>
            <a:xfrm>
              <a:off x="501480" y="1828800"/>
              <a:ext cx="8458200" cy="4572000"/>
              <a:chOff x="501480" y="1828800"/>
              <a:chExt cx="8458200" cy="4572000"/>
            </a:xfrm>
          </p:grpSpPr>
          <p:sp>
            <p:nvSpPr>
              <p:cNvPr id="120" name=""/>
              <p:cNvSpPr/>
              <p:nvPr/>
            </p:nvSpPr>
            <p:spPr>
              <a:xfrm>
                <a:off x="2787480" y="5943600"/>
                <a:ext cx="1676520" cy="4572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Inte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73480" y="5943600"/>
                <a:ext cx="1676520" cy="4572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SPARC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83520" y="5943600"/>
                <a:ext cx="1676160" cy="4572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Intérpre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01480" y="5943600"/>
                <a:ext cx="1676520" cy="4572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MIPS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1339560" y="1828800"/>
                <a:ext cx="6782400" cy="4115160"/>
                <a:chOff x="1339560" y="1828800"/>
                <a:chExt cx="6782400" cy="41151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4006800" y="2133360"/>
                  <a:ext cx="1676520" cy="457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Análisis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Lexicográfico/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Scanner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006800" y="2819160"/>
                  <a:ext cx="1676520" cy="457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Arial"/>
                    </a:rPr>
                    <a:t>Análisis 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400" spc="-1" strike="noStrike">
                      <a:solidFill>
                        <a:srgbClr val="000066"/>
                      </a:solidFill>
                      <a:latin typeface="Arial"/>
                    </a:rPr>
                    <a:t>Sintáctico/Parser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006800" y="3581280"/>
                  <a:ext cx="1676520" cy="457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Análisis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Semántico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006800" y="4267080"/>
                  <a:ext cx="1676520" cy="457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Generación de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Código Intermedio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006800" y="5029200"/>
                  <a:ext cx="1676520" cy="45720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Optimización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0" name=""/>
                <p:cNvCxnSpPr>
                  <a:stCxn id="125" idx="2"/>
                  <a:endCxn id="126" idx="0"/>
                </p:cNvCxnSpPr>
                <p:nvPr/>
              </p:nvCxnSpPr>
              <p:spPr>
                <a:xfrm>
                  <a:off x="4844520" y="2590200"/>
                  <a:ext cx="1080" cy="229320"/>
                </a:xfrm>
                <a:prstGeom prst="straightConnector1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31" name=""/>
                <p:cNvCxnSpPr>
                  <a:stCxn id="126" idx="2"/>
                  <a:endCxn id="127" idx="0"/>
                </p:cNvCxnSpPr>
                <p:nvPr/>
              </p:nvCxnSpPr>
              <p:spPr>
                <a:xfrm>
                  <a:off x="4844520" y="3276000"/>
                  <a:ext cx="1080" cy="305640"/>
                </a:xfrm>
                <a:prstGeom prst="straightConnector1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32" name=""/>
                <p:cNvCxnSpPr>
                  <a:stCxn id="127" idx="2"/>
                  <a:endCxn id="128" idx="0"/>
                </p:cNvCxnSpPr>
                <p:nvPr/>
              </p:nvCxnSpPr>
              <p:spPr>
                <a:xfrm>
                  <a:off x="4844520" y="4038120"/>
                  <a:ext cx="1080" cy="229320"/>
                </a:xfrm>
                <a:prstGeom prst="straightConnector1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33" name=""/>
                <p:cNvCxnSpPr>
                  <a:stCxn id="128" idx="2"/>
                  <a:endCxn id="129" idx="0"/>
                </p:cNvCxnSpPr>
                <p:nvPr/>
              </p:nvCxnSpPr>
              <p:spPr>
                <a:xfrm>
                  <a:off x="4844520" y="4723920"/>
                  <a:ext cx="1080" cy="305640"/>
                </a:xfrm>
                <a:prstGeom prst="straightConnector1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34" name=""/>
                <p:cNvCxnSpPr>
                  <a:stCxn id="129" idx="2"/>
                  <a:endCxn id="123" idx="0"/>
                </p:cNvCxnSpPr>
                <p:nvPr/>
              </p:nvCxnSpPr>
              <p:spPr>
                <a:xfrm flipH="1">
                  <a:off x="1339560" y="5486400"/>
                  <a:ext cx="3505680" cy="457920"/>
                </a:xfrm>
                <a:prstGeom prst="straightConnector1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35" name=""/>
                <p:cNvCxnSpPr>
                  <a:stCxn id="129" idx="2"/>
                  <a:endCxn id="120" idx="0"/>
                </p:cNvCxnSpPr>
                <p:nvPr/>
              </p:nvCxnSpPr>
              <p:spPr>
                <a:xfrm flipH="1">
                  <a:off x="3625560" y="5486400"/>
                  <a:ext cx="1219680" cy="457920"/>
                </a:xfrm>
                <a:prstGeom prst="straightConnector1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36" name=""/>
                <p:cNvCxnSpPr>
                  <a:stCxn id="129" idx="2"/>
                  <a:endCxn id="121" idx="0"/>
                </p:cNvCxnSpPr>
                <p:nvPr/>
              </p:nvCxnSpPr>
              <p:spPr>
                <a:xfrm>
                  <a:off x="4844880" y="5486400"/>
                  <a:ext cx="1067760" cy="457920"/>
                </a:xfrm>
                <a:prstGeom prst="straightConnector1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37" name=""/>
                <p:cNvCxnSpPr>
                  <a:stCxn id="129" idx="2"/>
                  <a:endCxn id="122" idx="0"/>
                </p:cNvCxnSpPr>
                <p:nvPr/>
              </p:nvCxnSpPr>
              <p:spPr>
                <a:xfrm>
                  <a:off x="4844880" y="5486400"/>
                  <a:ext cx="3277440" cy="457920"/>
                </a:xfrm>
                <a:prstGeom prst="straightConnector1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</p:cxnSp>
            <p:sp>
              <p:nvSpPr>
                <p:cNvPr id="138" name=""/>
                <p:cNvSpPr/>
                <p:nvPr/>
              </p:nvSpPr>
              <p:spPr>
                <a:xfrm>
                  <a:off x="4844880" y="1828800"/>
                  <a:ext cx="0" cy="3045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9" name=""/>
            <p:cNvSpPr/>
            <p:nvPr/>
          </p:nvSpPr>
          <p:spPr>
            <a:xfrm>
              <a:off x="5155200" y="1774800"/>
              <a:ext cx="226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exto ASCII (programa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50160" y="2536920"/>
              <a:ext cx="203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66"/>
                  </a:solidFill>
                  <a:latin typeface="Arial"/>
                </a:rPr>
                <a:t>secuencia de token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51240" y="3299040"/>
              <a:ext cx="242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árbol sintáctico abstract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6000" y="3984840"/>
              <a:ext cx="349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árbol sintáctico abstracto aumentad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76000" y="4746600"/>
              <a:ext cx="168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66"/>
                  </a:solidFill>
                  <a:latin typeface="Arial"/>
                </a:rPr>
                <a:t>programa AuLai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04240" y="5432400"/>
              <a:ext cx="271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66"/>
                  </a:solidFill>
                  <a:latin typeface="Arial"/>
                </a:rPr>
                <a:t>programa AuLait optimizad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8BD4-77BA-4EDF-9823-964A55DCAA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Tubos y Filtros: Contexto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rocesamiento de flujos de da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roblema descompuesto en una serie de actividad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Las actividades transforman uno o más flujos de datos de entrada en uno o más flujos de datos de salida, en forma increment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ada actividad es un filtr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Los filtros se comunican solamente a través de tub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operación que envía una secuencia de datos de un proceso a otr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8229600" y="685800"/>
            <a:ext cx="53352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52F2-4403-4DC3-BE9C-5F91995B68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Tubos y Filtros: Problema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l sistema es una secuencia de transformaciones de los da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La aplicación debe descomponerse en varias par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Las transformaciones so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bien ordenada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n estado intern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dependient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uerz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uturos cambios intercambiando algunos filtr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Pequeñas transformaciones son más fácilmente reutilizad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Los datos pueden tener diferentes forma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8229600" y="304920"/>
            <a:ext cx="53352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29600" y="1143000"/>
            <a:ext cx="5335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0" idx="4"/>
            <a:endCxn id="151" idx="0"/>
          </p:cNvCxnSpPr>
          <p:nvPr/>
        </p:nvCxnSpPr>
        <p:spPr>
          <a:xfrm>
            <a:off x="8496000" y="837720"/>
            <a:ext cx="1080" cy="3056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FC5-D21D-462B-8EA2-3F44BFDB73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Tubos y Filtros: Solución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haw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odelo de sistem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lujo de datos entre component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omponentes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iltros (transformaciones, procesamiento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cal, asíncrono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onectores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tubos (streams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ructura de control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lujo de da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Buschman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sistema se divide en varios pasos secuenciales de procesamien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pasos se conectan con flujos de da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filtro consume y procesa sus datos en forma incrementa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3425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origen de los datos, el destino y los filtros se conectan con tubos que implementan el flujo de datos entre pasos de procesamien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8458200" y="76320"/>
            <a:ext cx="53352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58200" y="914400"/>
            <a:ext cx="5335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58200" y="175248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5" idx="4"/>
            <a:endCxn id="156" idx="0"/>
          </p:cNvCxnSpPr>
          <p:nvPr/>
        </p:nvCxnSpPr>
        <p:spPr>
          <a:xfrm>
            <a:off x="8724600" y="609120"/>
            <a:ext cx="1080" cy="3056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6" idx="4"/>
            <a:endCxn id="157" idx="0"/>
          </p:cNvCxnSpPr>
          <p:nvPr/>
        </p:nvCxnSpPr>
        <p:spPr>
          <a:xfrm>
            <a:off x="8724600" y="1447920"/>
            <a:ext cx="1080" cy="3052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DD9-A5A8-4C43-A8F1-8E81EFF781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Tubos y Filtros: Estructura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Filtr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idades de procesamiento en las arquitecturas de tubos y filtr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riquece, refina y/o transforma los da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procesamiento se inici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elemento siguiente solicita datos (pull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elemento anterior envía datos (push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filtro tiene un ciclo interno que solicita datos del filtro anterior y envía datos al siguiente (filtro activo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filtros no comparten est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filtros no saben de la existencia o identidad de otros filtr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761-A89B-4E82-B8D5-A30F954DA4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6633"/>
                </a:solidFill>
                <a:latin typeface="Tahoma"/>
              </a:rPr>
              <a:t>Tubos y Filtros: Estructura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Tub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onectan origen-filtro, filtro-filtro, filtro-destin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transferencia de datos con un buffer First-In-First-Out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i dos filtros activos se comunican con un tubo, éste los sincroniz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8D4-CE53-464F-864D-EB7E8ECAF2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6633"/>
                </a:solidFill>
                <a:latin typeface="Tahoma"/>
              </a:rPr>
              <a:t>Tubos y Filtros: Estructura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Origen de dat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nput del sistem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brinda al sistema una serie de datos con la misma estructura o tip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jemplos: archivo de líneas de texto, sensor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ueden también ser activos (push) o pasiv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stino de dat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 él llegan los resultados del procesamiento del sistem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xisten destinos activos (pull) y pasiv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E4A1-3A28-4191-A035-D4FC33730B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El Ejemplo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56840" y="1903320"/>
            <a:ext cx="8305920" cy="3591720"/>
            <a:chOff x="456840" y="1903320"/>
            <a:chExt cx="8305920" cy="3591720"/>
          </a:xfrm>
        </p:grpSpPr>
        <p:grpSp>
          <p:nvGrpSpPr>
            <p:cNvPr id="168" name=""/>
            <p:cNvGrpSpPr/>
            <p:nvPr/>
          </p:nvGrpSpPr>
          <p:grpSpPr>
            <a:xfrm>
              <a:off x="456840" y="4503600"/>
              <a:ext cx="1447920" cy="762840"/>
              <a:chOff x="456840" y="4503600"/>
              <a:chExt cx="1447920" cy="762840"/>
            </a:xfrm>
          </p:grpSpPr>
          <p:sp>
            <p:nvSpPr>
              <p:cNvPr id="169" name=""/>
              <p:cNvSpPr/>
              <p:nvPr/>
            </p:nvSpPr>
            <p:spPr>
              <a:xfrm>
                <a:off x="457200" y="4504680"/>
                <a:ext cx="1447560" cy="761760"/>
              </a:xfrm>
              <a:prstGeom prst="rect">
                <a:avLst/>
              </a:prstGeom>
              <a:solidFill>
                <a:srgbClr val="e9f7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170" name=""/>
              <p:cNvCxnSpPr>
                <a:stCxn id="169" idx="1"/>
                <a:endCxn id="169" idx="3"/>
              </p:cNvCxnSpPr>
              <p:nvPr/>
            </p:nvCxnSpPr>
            <p:spPr>
              <a:xfrm>
                <a:off x="456840" y="4885200"/>
                <a:ext cx="144828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</a:ln>
            </p:spPr>
          </p:cxnSp>
          <p:sp>
            <p:nvSpPr>
              <p:cNvPr id="171" name=""/>
              <p:cNvSpPr/>
              <p:nvPr/>
            </p:nvSpPr>
            <p:spPr>
              <a:xfrm>
                <a:off x="838800" y="4503600"/>
                <a:ext cx="74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66"/>
                    </a:solidFill>
                    <a:latin typeface="Arial"/>
                  </a:rPr>
                  <a:t>Inpu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6760" y="4907880"/>
                <a:ext cx="1262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66"/>
                    </a:solidFill>
                    <a:latin typeface="Arial"/>
                  </a:rPr>
                  <a:t>int getchar()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1523880" y="3132000"/>
              <a:ext cx="1448280" cy="762840"/>
              <a:chOff x="1523880" y="3132000"/>
              <a:chExt cx="1448280" cy="762840"/>
            </a:xfrm>
          </p:grpSpPr>
          <p:sp>
            <p:nvSpPr>
              <p:cNvPr id="174" name=""/>
              <p:cNvSpPr/>
              <p:nvPr/>
            </p:nvSpPr>
            <p:spPr>
              <a:xfrm>
                <a:off x="1523880" y="3133080"/>
                <a:ext cx="1447920" cy="761760"/>
              </a:xfrm>
              <a:prstGeom prst="rect">
                <a:avLst/>
              </a:prstGeom>
              <a:solidFill>
                <a:srgbClr val="e9f7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175" name=""/>
              <p:cNvCxnSpPr>
                <a:stCxn id="174" idx="1"/>
                <a:endCxn id="174" idx="3"/>
              </p:cNvCxnSpPr>
              <p:nvPr/>
            </p:nvCxnSpPr>
            <p:spPr>
              <a:xfrm>
                <a:off x="1523880" y="3513600"/>
                <a:ext cx="144864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</a:ln>
            </p:spPr>
          </p:cxnSp>
          <p:sp>
            <p:nvSpPr>
              <p:cNvPr id="176" name=""/>
              <p:cNvSpPr/>
              <p:nvPr/>
            </p:nvSpPr>
            <p:spPr>
              <a:xfrm>
                <a:off x="1754640" y="3132000"/>
                <a:ext cx="108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Scanner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602000" y="3536280"/>
                <a:ext cx="133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66"/>
                    </a:solidFill>
                    <a:latin typeface="Arial"/>
                  </a:rPr>
                  <a:t>token yylex()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2742840" y="1912680"/>
              <a:ext cx="1469520" cy="762840"/>
              <a:chOff x="2742840" y="1912680"/>
              <a:chExt cx="1469520" cy="762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743200" y="1913760"/>
                <a:ext cx="1447560" cy="761760"/>
              </a:xfrm>
              <a:prstGeom prst="rect">
                <a:avLst/>
              </a:prstGeom>
              <a:solidFill>
                <a:srgbClr val="e9f7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180" name=""/>
              <p:cNvCxnSpPr>
                <a:stCxn id="179" idx="1"/>
                <a:endCxn id="179" idx="3"/>
              </p:cNvCxnSpPr>
              <p:nvPr/>
            </p:nvCxnSpPr>
            <p:spPr>
              <a:xfrm>
                <a:off x="2742840" y="2294640"/>
                <a:ext cx="144828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</a:ln>
            </p:spPr>
          </p:cxnSp>
          <p:sp>
            <p:nvSpPr>
              <p:cNvPr id="181" name=""/>
              <p:cNvSpPr/>
              <p:nvPr/>
            </p:nvSpPr>
            <p:spPr>
              <a:xfrm>
                <a:off x="3126960" y="1912680"/>
                <a:ext cx="889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66"/>
                    </a:solidFill>
                    <a:latin typeface="Arial"/>
                  </a:rPr>
                  <a:t>Parser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45360" y="2316960"/>
                <a:ext cx="1467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66"/>
                    </a:solidFill>
                    <a:latin typeface="Arial"/>
                  </a:rPr>
                  <a:t>bool yyparse()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3809880" y="3133440"/>
              <a:ext cx="1447920" cy="761760"/>
              <a:chOff x="3809880" y="3133440"/>
              <a:chExt cx="1447920" cy="761760"/>
            </a:xfrm>
          </p:grpSpPr>
          <p:sp>
            <p:nvSpPr>
              <p:cNvPr id="184" name=""/>
              <p:cNvSpPr/>
              <p:nvPr/>
            </p:nvSpPr>
            <p:spPr>
              <a:xfrm>
                <a:off x="3809880" y="3133440"/>
                <a:ext cx="1447920" cy="761760"/>
              </a:xfrm>
              <a:prstGeom prst="rect">
                <a:avLst/>
              </a:prstGeom>
              <a:solidFill>
                <a:srgbClr val="e9f7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87640" y="3207600"/>
                <a:ext cx="134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Analizador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Semántic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955400" y="4493880"/>
              <a:ext cx="1634760" cy="1001160"/>
              <a:chOff x="4955400" y="4493880"/>
              <a:chExt cx="1634760" cy="1001160"/>
            </a:xfrm>
          </p:grpSpPr>
          <p:sp>
            <p:nvSpPr>
              <p:cNvPr id="187" name=""/>
              <p:cNvSpPr/>
              <p:nvPr/>
            </p:nvSpPr>
            <p:spPr>
              <a:xfrm>
                <a:off x="5029200" y="4504680"/>
                <a:ext cx="1447560" cy="990360"/>
              </a:xfrm>
              <a:prstGeom prst="rect">
                <a:avLst/>
              </a:prstGeom>
              <a:solidFill>
                <a:srgbClr val="e9f7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188" name=""/>
              <p:cNvCxnSpPr>
                <a:stCxn id="187" idx="1"/>
                <a:endCxn id="187" idx="3"/>
              </p:cNvCxnSpPr>
              <p:nvPr/>
            </p:nvCxnSpPr>
            <p:spPr>
              <a:xfrm>
                <a:off x="5028840" y="4999680"/>
                <a:ext cx="144828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</a:ln>
            </p:spPr>
          </p:cxnSp>
          <p:sp>
            <p:nvSpPr>
              <p:cNvPr id="189" name=""/>
              <p:cNvSpPr/>
              <p:nvPr/>
            </p:nvSpPr>
            <p:spPr>
              <a:xfrm>
                <a:off x="5106960" y="4493880"/>
                <a:ext cx="133596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Generador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de Códig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955400" y="5060160"/>
                <a:ext cx="1634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66"/>
                    </a:solidFill>
                    <a:latin typeface="Arial"/>
                  </a:rPr>
                  <a:t>writeCodeByte()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171840" y="3133440"/>
              <a:ext cx="1524240" cy="1066320"/>
              <a:chOff x="6171840" y="3133440"/>
              <a:chExt cx="1524240" cy="1066320"/>
            </a:xfrm>
          </p:grpSpPr>
          <p:sp>
            <p:nvSpPr>
              <p:cNvPr id="192" name=""/>
              <p:cNvSpPr/>
              <p:nvPr/>
            </p:nvSpPr>
            <p:spPr>
              <a:xfrm>
                <a:off x="6172200" y="3133440"/>
                <a:ext cx="1523880" cy="1066320"/>
              </a:xfrm>
              <a:prstGeom prst="rect">
                <a:avLst/>
              </a:prstGeom>
              <a:solidFill>
                <a:srgbClr val="e9f7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193" name=""/>
              <p:cNvCxnSpPr>
                <a:stCxn id="192" idx="1"/>
                <a:endCxn id="192" idx="3"/>
              </p:cNvCxnSpPr>
              <p:nvPr/>
            </p:nvCxnSpPr>
            <p:spPr>
              <a:xfrm>
                <a:off x="6171840" y="3666240"/>
                <a:ext cx="152460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</a:ln>
            </p:spPr>
          </p:cxnSp>
          <p:sp>
            <p:nvSpPr>
              <p:cNvPr id="194" name=""/>
              <p:cNvSpPr/>
              <p:nvPr/>
            </p:nvSpPr>
            <p:spPr>
              <a:xfrm>
                <a:off x="6325560" y="3207600"/>
                <a:ext cx="1287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tubo UNI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250680" y="3612600"/>
                <a:ext cx="642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66"/>
                    </a:solidFill>
                    <a:latin typeface="Arial"/>
                  </a:rPr>
                  <a:t>read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66"/>
                    </a:solidFill>
                    <a:latin typeface="Arial"/>
                  </a:rPr>
                  <a:t>wri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7314840" y="1903320"/>
              <a:ext cx="1447920" cy="924840"/>
              <a:chOff x="7314840" y="1903320"/>
              <a:chExt cx="1447920" cy="924840"/>
            </a:xfrm>
          </p:grpSpPr>
          <p:sp>
            <p:nvSpPr>
              <p:cNvPr id="197" name=""/>
              <p:cNvSpPr/>
              <p:nvPr/>
            </p:nvSpPr>
            <p:spPr>
              <a:xfrm>
                <a:off x="7315200" y="1914120"/>
                <a:ext cx="1447560" cy="914040"/>
              </a:xfrm>
              <a:prstGeom prst="rect">
                <a:avLst/>
              </a:prstGeom>
              <a:solidFill>
                <a:srgbClr val="e9f7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198" name=""/>
              <p:cNvCxnSpPr>
                <a:stCxn id="197" idx="1"/>
                <a:endCxn id="197" idx="3"/>
              </p:cNvCxnSpPr>
              <p:nvPr/>
            </p:nvCxnSpPr>
            <p:spPr>
              <a:xfrm>
                <a:off x="7314840" y="2370960"/>
                <a:ext cx="144828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</a:ln>
            </p:spPr>
          </p:cxnSp>
          <p:sp>
            <p:nvSpPr>
              <p:cNvPr id="199" name=""/>
              <p:cNvSpPr/>
              <p:nvPr/>
            </p:nvSpPr>
            <p:spPr>
              <a:xfrm>
                <a:off x="7469640" y="1903320"/>
                <a:ext cx="123372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66"/>
                    </a:solidFill>
                    <a:latin typeface="Arial"/>
                  </a:rPr>
                  <a:t>Intérprete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66"/>
                    </a:solidFill>
                    <a:latin typeface="Arial"/>
                  </a:rPr>
                  <a:t>AuLai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94760" y="2393640"/>
                <a:ext cx="1262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66"/>
                    </a:solidFill>
                    <a:latin typeface="Arial"/>
                  </a:rPr>
                  <a:t>int getchar()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201" name=""/>
            <p:cNvCxnSpPr>
              <a:stCxn id="169" idx="0"/>
              <a:endCxn id="174" idx="1"/>
            </p:cNvCxnSpPr>
            <p:nvPr/>
          </p:nvCxnSpPr>
          <p:spPr>
            <a:xfrm flipH="1" flipV="1" rot="5400000">
              <a:off x="857160" y="3837600"/>
              <a:ext cx="991080" cy="343440"/>
            </a:xfrm>
            <a:prstGeom prst="bentConnector2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202" name=""/>
            <p:cNvCxnSpPr>
              <a:stCxn id="179" idx="1"/>
              <a:endCxn id="176" idx="0"/>
            </p:cNvCxnSpPr>
            <p:nvPr/>
          </p:nvCxnSpPr>
          <p:spPr>
            <a:xfrm flipV="1" rot="10800000">
              <a:off x="2243880" y="2294280"/>
              <a:ext cx="499320" cy="838440"/>
            </a:xfrm>
            <a:prstGeom prst="bentConnector2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203" name=""/>
            <p:cNvCxnSpPr>
              <a:stCxn id="179" idx="3"/>
              <a:endCxn id="184" idx="0"/>
            </p:cNvCxnSpPr>
            <p:nvPr/>
          </p:nvCxnSpPr>
          <p:spPr>
            <a:xfrm>
              <a:off x="4190400" y="2295000"/>
              <a:ext cx="343800" cy="838440"/>
            </a:xfrm>
            <a:prstGeom prst="bentConnector2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204" name=""/>
            <p:cNvCxnSpPr>
              <a:stCxn id="184" idx="2"/>
              <a:endCxn id="187" idx="1"/>
            </p:cNvCxnSpPr>
            <p:nvPr/>
          </p:nvCxnSpPr>
          <p:spPr>
            <a:xfrm flipH="1" rot="16200000">
              <a:off x="4229280" y="4199760"/>
              <a:ext cx="1105200" cy="496080"/>
            </a:xfrm>
            <a:prstGeom prst="bentConnector2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205" name=""/>
            <p:cNvCxnSpPr>
              <a:stCxn id="187" idx="3"/>
              <a:endCxn id="192" idx="2"/>
            </p:cNvCxnSpPr>
            <p:nvPr/>
          </p:nvCxnSpPr>
          <p:spPr>
            <a:xfrm flipV="1">
              <a:off x="6476760" y="4199760"/>
              <a:ext cx="457920" cy="800640"/>
            </a:xfrm>
            <a:prstGeom prst="bentConnector2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206" name=""/>
            <p:cNvCxnSpPr>
              <a:stCxn id="192" idx="0"/>
              <a:endCxn id="197" idx="1"/>
            </p:cNvCxnSpPr>
            <p:nvPr/>
          </p:nvCxnSpPr>
          <p:spPr>
            <a:xfrm flipH="1" flipV="1" rot="5400000">
              <a:off x="6743160" y="2561040"/>
              <a:ext cx="762480" cy="381960"/>
            </a:xfrm>
            <a:prstGeom prst="bentConnector2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207" name=""/>
            <p:cNvSpPr/>
            <p:nvPr/>
          </p:nvSpPr>
          <p:spPr>
            <a:xfrm>
              <a:off x="534240" y="3893760"/>
              <a:ext cx="122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66"/>
                  </a:solidFill>
                  <a:latin typeface="Arial"/>
                </a:rPr>
                <a:t>call getcha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75440" y="267480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66"/>
                  </a:solidFill>
                  <a:latin typeface="Arial"/>
                </a:rPr>
                <a:t>call yyle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38120" y="2674800"/>
              <a:ext cx="194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66"/>
                  </a:solidFill>
                  <a:latin typeface="Arial"/>
                </a:rPr>
                <a:t>call semantic che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62160" y="4046400"/>
              <a:ext cx="120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66"/>
                  </a:solidFill>
                  <a:latin typeface="Arial"/>
                </a:rPr>
                <a:t>call codge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02240" y="4198680"/>
              <a:ext cx="104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66"/>
                  </a:solidFill>
                  <a:latin typeface="Arial"/>
                </a:rPr>
                <a:t>write pip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478560" y="27507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66"/>
                  </a:solidFill>
                  <a:latin typeface="Arial"/>
                </a:rPr>
                <a:t>read pip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F9D5-E730-4598-992B-FF663C8750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Tubos y Filtros: Dinámica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cenario I: push pipeline. La acción se inicia “empujando” los datos hacia el siguiente filtr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3124080"/>
            <a:ext cx="160020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Data Sour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6880" y="3124080"/>
            <a:ext cx="160020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Filtro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3124080"/>
            <a:ext cx="160020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Filtro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3124080"/>
            <a:ext cx="160020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Data Sin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3733920"/>
            <a:ext cx="0" cy="2590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3733920"/>
            <a:ext cx="0" cy="2590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3733920"/>
            <a:ext cx="0" cy="2590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3733920"/>
            <a:ext cx="0" cy="2590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3962520"/>
            <a:ext cx="304920" cy="2133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5120" y="4191120"/>
            <a:ext cx="1447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8680" y="41590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14720" y="3889440"/>
            <a:ext cx="528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4343400"/>
            <a:ext cx="3808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4191120"/>
            <a:ext cx="380880" cy="228600"/>
            <a:chOff x="3657600" y="4191120"/>
            <a:chExt cx="380880" cy="228600"/>
          </a:xfrm>
        </p:grpSpPr>
        <p:sp>
          <p:nvSpPr>
            <p:cNvPr id="229" name=""/>
            <p:cNvSpPr/>
            <p:nvPr/>
          </p:nvSpPr>
          <p:spPr>
            <a:xfrm>
              <a:off x="3657600" y="4191120"/>
              <a:ext cx="3808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38480" y="41911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9880" y="441972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657600" y="4572000"/>
            <a:ext cx="380880" cy="228600"/>
            <a:chOff x="3657600" y="4572000"/>
            <a:chExt cx="380880" cy="228600"/>
          </a:xfrm>
        </p:grpSpPr>
        <p:sp>
          <p:nvSpPr>
            <p:cNvPr id="233" name=""/>
            <p:cNvSpPr/>
            <p:nvPr/>
          </p:nvSpPr>
          <p:spPr>
            <a:xfrm>
              <a:off x="3809880" y="457200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38480" y="45720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657600" y="4800600"/>
              <a:ext cx="3808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657600" y="4954680"/>
            <a:ext cx="1371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21520" y="48769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19840" y="4651200"/>
            <a:ext cx="528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29200" y="4800600"/>
            <a:ext cx="30492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5257800"/>
            <a:ext cx="3808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334120" y="5181480"/>
            <a:ext cx="380880" cy="228600"/>
            <a:chOff x="5334120" y="5181480"/>
            <a:chExt cx="380880" cy="228600"/>
          </a:xfrm>
        </p:grpSpPr>
        <p:sp>
          <p:nvSpPr>
            <p:cNvPr id="242" name=""/>
            <p:cNvSpPr/>
            <p:nvPr/>
          </p:nvSpPr>
          <p:spPr>
            <a:xfrm>
              <a:off x="5334120" y="5181480"/>
              <a:ext cx="3808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15000" y="518148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86400" y="541008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34120" y="5486400"/>
            <a:ext cx="380880" cy="228600"/>
            <a:chOff x="5334120" y="5486400"/>
            <a:chExt cx="380880" cy="228600"/>
          </a:xfrm>
        </p:grpSpPr>
        <p:sp>
          <p:nvSpPr>
            <p:cNvPr id="246" name=""/>
            <p:cNvSpPr/>
            <p:nvPr/>
          </p:nvSpPr>
          <p:spPr>
            <a:xfrm>
              <a:off x="5486400" y="548640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15000" y="54864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5334120" y="5715000"/>
              <a:ext cx="3808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858000" y="5715000"/>
            <a:ext cx="3808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4120" y="5867280"/>
            <a:ext cx="15238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8640" y="5565600"/>
            <a:ext cx="528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326280" y="5789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657600" y="5943600"/>
            <a:ext cx="1371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904760" y="6019920"/>
            <a:ext cx="1447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40280" y="4114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16800" y="5105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00200" y="4038480"/>
            <a:ext cx="30492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88EB-56FA-48AE-90D1-643B5F1D87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6633"/>
                </a:solidFill>
                <a:latin typeface="Tahoma"/>
              </a:rPr>
              <a:t>Patrones de Arquitectura de Software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definición de patrones en arquitectura de software intent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ormalizar la forma en que se comunica y reusa la experiencia de diseño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pturar la experiencia probada de diseño de software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cribir problemas recurrentes que surgen en determinados context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cribir esquemas de soluciones probad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isponer de herramientas para los no expert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ir un paso más hacia la ingeniería de softwar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ermitir que gente común haga cosas que antes requerían virtuosism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FF9-15D8-4F33-81E8-98286AC08B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6633"/>
                </a:solidFill>
                <a:latin typeface="Tahoma"/>
              </a:rPr>
              <a:t>Tubos y Filtros: Dinámica (cont.)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cenario 2: push/pull pipeline. Origen y destino de datos pasivos. El filtro 2 juega el rol activo iniciando el proce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3124080"/>
            <a:ext cx="160020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Data Sour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3124080"/>
            <a:ext cx="160020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Filtro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3124080"/>
            <a:ext cx="160020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Filtro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pull/pu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2200" y="3124080"/>
            <a:ext cx="1600200" cy="609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Data Sin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52480" y="3733920"/>
            <a:ext cx="0" cy="2590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05320" y="3733920"/>
            <a:ext cx="0" cy="2590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57800" y="3733920"/>
            <a:ext cx="0" cy="2590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10280" y="3733920"/>
            <a:ext cx="0" cy="2590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3962520"/>
            <a:ext cx="3049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4191120"/>
            <a:ext cx="137160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059560" y="38847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7360" y="4194000"/>
            <a:ext cx="528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29000" y="4343400"/>
            <a:ext cx="3808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657600" y="4191120"/>
            <a:ext cx="380880" cy="228600"/>
            <a:chOff x="3657600" y="4191120"/>
            <a:chExt cx="380880" cy="228600"/>
          </a:xfrm>
        </p:grpSpPr>
        <p:sp>
          <p:nvSpPr>
            <p:cNvPr id="274" name=""/>
            <p:cNvSpPr/>
            <p:nvPr/>
          </p:nvSpPr>
          <p:spPr>
            <a:xfrm>
              <a:off x="3657600" y="4191120"/>
              <a:ext cx="3808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38480" y="41911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09880" y="441972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657600" y="4572000"/>
            <a:ext cx="380880" cy="228600"/>
            <a:chOff x="3657600" y="4572000"/>
            <a:chExt cx="380880" cy="228600"/>
          </a:xfrm>
        </p:grpSpPr>
        <p:sp>
          <p:nvSpPr>
            <p:cNvPr id="278" name=""/>
            <p:cNvSpPr/>
            <p:nvPr/>
          </p:nvSpPr>
          <p:spPr>
            <a:xfrm>
              <a:off x="3809880" y="457200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38480" y="45720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657600" y="4800600"/>
              <a:ext cx="3808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657600" y="4952880"/>
            <a:ext cx="13716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67560" y="4956120"/>
            <a:ext cx="528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3962520"/>
            <a:ext cx="304920" cy="2133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05520" y="5257800"/>
            <a:ext cx="3808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334120" y="5181480"/>
            <a:ext cx="380880" cy="228600"/>
            <a:chOff x="5334120" y="5181480"/>
            <a:chExt cx="380880" cy="228600"/>
          </a:xfrm>
        </p:grpSpPr>
        <p:sp>
          <p:nvSpPr>
            <p:cNvPr id="286" name=""/>
            <p:cNvSpPr/>
            <p:nvPr/>
          </p:nvSpPr>
          <p:spPr>
            <a:xfrm>
              <a:off x="5334120" y="5181480"/>
              <a:ext cx="3808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15000" y="518148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86400" y="541008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334120" y="5486400"/>
            <a:ext cx="380880" cy="228600"/>
            <a:chOff x="5334120" y="5486400"/>
            <a:chExt cx="380880" cy="228600"/>
          </a:xfrm>
        </p:grpSpPr>
        <p:sp>
          <p:nvSpPr>
            <p:cNvPr id="290" name=""/>
            <p:cNvSpPr/>
            <p:nvPr/>
          </p:nvSpPr>
          <p:spPr>
            <a:xfrm>
              <a:off x="5486400" y="548640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15000" y="54864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334120" y="5715000"/>
              <a:ext cx="3808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858000" y="5715000"/>
            <a:ext cx="3808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4120" y="5867280"/>
            <a:ext cx="15238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8640" y="5565600"/>
            <a:ext cx="5281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26280" y="5789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4038480"/>
            <a:ext cx="38088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57600" y="4038480"/>
            <a:ext cx="137160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59760" y="37321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66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40280" y="4114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16800" y="5105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6F6A-7892-4310-A39C-B171446A24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Tubos y Filtros: Implementación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ividir las tareas en una secuencia de pasos de procesamien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los procesos deben ser independientes y ordenad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finir el formato de los datos transmitidos a través de cada pip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flexibilidad vs. performance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cidir implementación de cada tub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Determinar la implementación de los filtros (activos o pasivos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iseñar e implementar los filtr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iseñar política de err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Instalar 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E6FD-126B-4661-A60D-237B9FCF20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Ejemplo: Compilador Mocha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Los sucesivos filtros comparten un cierto estado: la tabla de símbolos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o es una arquitectura Tubos y Filtros estric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La implementación es un único progra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2209680"/>
            <a:ext cx="15238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nalizado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exicográfico/Scann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3048120"/>
            <a:ext cx="1523880" cy="533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Arial"/>
              </a:rPr>
              <a:t>Analizado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Arial"/>
              </a:rPr>
              <a:t>Sintáctico/Pars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3886200"/>
            <a:ext cx="15238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nalizado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mánti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4724280"/>
            <a:ext cx="15238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Generador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ódigo Intermedi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3504960" y="3466440"/>
            <a:ext cx="30481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abla de Símbol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333760" y="2438280"/>
            <a:ext cx="114300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257440" y="3352680"/>
            <a:ext cx="12193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257440" y="4191120"/>
            <a:ext cx="12193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5257440" y="5029200"/>
            <a:ext cx="12193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6" idx="2"/>
            <a:endCxn id="307" idx="0"/>
          </p:cNvCxnSpPr>
          <p:nvPr/>
        </p:nvCxnSpPr>
        <p:spPr>
          <a:xfrm>
            <a:off x="7238520" y="2742840"/>
            <a:ext cx="1080" cy="3056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307" idx="2"/>
            <a:endCxn id="308" idx="0"/>
          </p:cNvCxnSpPr>
          <p:nvPr/>
        </p:nvCxnSpPr>
        <p:spPr>
          <a:xfrm>
            <a:off x="7238520" y="3580920"/>
            <a:ext cx="1080" cy="3056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08" idx="2"/>
            <a:endCxn id="309" idx="0"/>
          </p:cNvCxnSpPr>
          <p:nvPr/>
        </p:nvCxnSpPr>
        <p:spPr>
          <a:xfrm>
            <a:off x="7238520" y="4419720"/>
            <a:ext cx="1080" cy="3052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endCxn id="306" idx="0"/>
          </p:cNvCxnSpPr>
          <p:nvPr/>
        </p:nvCxnSpPr>
        <p:spPr>
          <a:xfrm>
            <a:off x="7238520" y="1905120"/>
            <a:ext cx="1080" cy="3052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09" idx="2"/>
          </p:cNvCxnSpPr>
          <p:nvPr/>
        </p:nvCxnSpPr>
        <p:spPr>
          <a:xfrm>
            <a:off x="7238520" y="5257440"/>
            <a:ext cx="1080" cy="3056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928-046D-41CE-B0FB-80C920DE68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Benefici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archivos intermedios no son necesari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flexibilidad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utilización de filtr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ápida prototipació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ficiencia con procesamiento paralel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sventajas: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ompartir información de estado es caro y poco flexibl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ineficiencia por conversión de dat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rrores pueden implicar reiniciar 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33"/>
                </a:solidFill>
                <a:latin typeface="Tahoma"/>
              </a:rPr>
              <a:t>Tubos y Filtros: Consecuencias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833-4569-4008-89C9-D892F24AAF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666633"/>
                </a:solidFill>
                <a:latin typeface="Tahoma"/>
              </a:rPr>
              <a:t>Características de Tubos y Filtros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os tubos no tienen estado interno y simplemente comunican datos entre los filtr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Tubos y filtros ejecutan en forma no determinística sobre los datos hasta que éstos se acaba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Restricciones de conex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existe una fuente de datos conectada al puerto input de un filtro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existe un destino de datos conectado al puerto output de un filtr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9A47-AF46-4CF2-9D8C-9A96D73EAD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666633"/>
                </a:solidFill>
                <a:latin typeface="Tahoma"/>
              </a:rPr>
              <a:t>Ventajas de Tubos y Filtros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implicidad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forma limitada de interacción con el ambiente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la funcionalidad es sólo la composición de funcionalidades más sencilla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no existen interacciones compleja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omueve la reutilización y simplifica el mantenimiento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omposición jerárquic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a combinación de tubos y filtros puede mostrarse externamente como un único filtro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or la independencia de procesamiento de los filtros, puede hacerse ejecución paralela o distribuida aumentando la disponiblidad y la performanc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78E2-35AC-4123-8E20-7A4A624B39B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666633"/>
                </a:solidFill>
                <a:latin typeface="Tahoma"/>
              </a:rPr>
              <a:t>Desventajas de Tubos y Filtros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n general se piensa en términos de procesamiento por lotes al descomponer un problema como tubos y filtr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se pierde el paralelismo potencial y la cooperación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no es apropiado para aplicaciones interactiva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a performance suele ser baja debido a que la funcionalidad está aislada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ada filtro debe transformar los datos al formato apropiado o todos usar el que más acomode al conjunto, nunca el óptimo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si un filtro necesita contar con todo el input antes de producir el output, requiere entonces un buffer potencialmente muy grande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cada filtro actúa como proceso independiente consumiendo recursos cada vez que se lo invoc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733-24BD-487F-B47B-BD8F87E6A9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6633"/>
                </a:solidFill>
                <a:latin typeface="Tahoma"/>
              </a:rPr>
              <a:t>Patrones de Arquitectura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 patrón de arquitectura de software es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 esquema genérico probado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ara solucionar un problema particular recurrente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que surge en un cierto contexto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e esquema se especifica describiend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componentes,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us responsabilidades,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relaciones,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y las formas en que colabora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BD71-77D9-4641-AD62-80138EF530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6633"/>
                </a:solidFill>
                <a:latin typeface="Tahoma"/>
              </a:rPr>
              <a:t>¿Qué es un Patrón?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442880" y="1905120"/>
            <a:ext cx="130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ahoma"/>
              </a:rPr>
              <a:t>Patrón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5200" y="238932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ntex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07520" y="2895480"/>
            <a:ext cx="565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tuación de diseño que da lugar al problem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59080" y="330372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Probl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11840" y="3809880"/>
            <a:ext cx="56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onjunto de fuerzas que surgen del context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73120" y="42181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olu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19040" y="4724280"/>
            <a:ext cx="51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onfiguración para balancear las fuerzas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83840" y="5181480"/>
            <a:ext cx="34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omponentes y relaciones,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57200" y="5638680"/>
            <a:ext cx="34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omportamiento dinámic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96920" y="2355840"/>
            <a:ext cx="0" cy="220968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96920" y="2736720"/>
            <a:ext cx="457200" cy="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96920" y="3651120"/>
            <a:ext cx="457200" cy="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96920" y="4565520"/>
            <a:ext cx="457200" cy="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1320" y="3193920"/>
            <a:ext cx="457200" cy="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11320" y="4108320"/>
            <a:ext cx="457200" cy="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1320" y="5022720"/>
            <a:ext cx="457200" cy="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25720" y="5022720"/>
            <a:ext cx="0" cy="91440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25720" y="5479920"/>
            <a:ext cx="457200" cy="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25720" y="5937120"/>
            <a:ext cx="457200" cy="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82720" y="2424240"/>
            <a:ext cx="533160" cy="53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82720" y="3262320"/>
            <a:ext cx="53316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82720" y="4100400"/>
            <a:ext cx="53316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7" idx="4"/>
            <a:endCxn id="68" idx="0"/>
          </p:cNvCxnSpPr>
          <p:nvPr/>
        </p:nvCxnSpPr>
        <p:spPr>
          <a:xfrm>
            <a:off x="1149120" y="2957040"/>
            <a:ext cx="1080" cy="3056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8" idx="4"/>
            <a:endCxn id="69" idx="0"/>
          </p:cNvCxnSpPr>
          <p:nvPr/>
        </p:nvCxnSpPr>
        <p:spPr>
          <a:xfrm>
            <a:off x="1149120" y="3795840"/>
            <a:ext cx="1080" cy="3052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 flipV="1">
            <a:off x="2895480" y="2819520"/>
            <a:ext cx="0" cy="38088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895480" y="3733920"/>
            <a:ext cx="0" cy="38088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895480" y="4648320"/>
            <a:ext cx="0" cy="380880"/>
          </a:xfrm>
          <a:prstGeom prst="line">
            <a:avLst/>
          </a:prstGeom>
          <a:ln w="284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FAF-DCDE-488D-906D-36D444996C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6633"/>
                </a:solidFill>
                <a:latin typeface="Tahoma"/>
              </a:rPr>
              <a:t>Descripción de un Patrón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62120" y="1828800"/>
          <a:ext cx="9102600" cy="45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91026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"/>
          <p:cNvGrpSpPr/>
          <p:nvPr/>
        </p:nvGrpSpPr>
        <p:grpSpPr>
          <a:xfrm>
            <a:off x="3048120" y="5638680"/>
            <a:ext cx="6315840" cy="764280"/>
            <a:chOff x="3048120" y="5638680"/>
            <a:chExt cx="6315840" cy="764280"/>
          </a:xfrm>
        </p:grpSpPr>
        <p:sp>
          <p:nvSpPr>
            <p:cNvPr id="79" name=""/>
            <p:cNvSpPr/>
            <p:nvPr/>
          </p:nvSpPr>
          <p:spPr>
            <a:xfrm>
              <a:off x="3048120" y="5867280"/>
              <a:ext cx="1828800" cy="304920"/>
            </a:xfrm>
            <a:prstGeom prst="rightArrow">
              <a:avLst>
                <a:gd name="adj1" fmla="val 50000"/>
                <a:gd name="adj2" fmla="val 149941"/>
              </a:avLst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98800" y="5638680"/>
              <a:ext cx="4565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200" spc="-1" strike="noStrike">
                  <a:solidFill>
                    <a:srgbClr val="000066"/>
                  </a:solidFill>
                  <a:latin typeface="Tahoma"/>
                </a:rPr>
                <a:t>No existe un formalismo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200" spc="-1" strike="noStrike">
                  <a:solidFill>
                    <a:srgbClr val="000066"/>
                  </a:solidFill>
                  <a:latin typeface="Tahoma"/>
                </a:rPr>
                <a:t>estándar para describir patrones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D21-FF8B-4A06-B536-5DECEDAFA7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666633"/>
                </a:solidFill>
                <a:latin typeface="Tahoma"/>
              </a:rPr>
              <a:t>Distintas Tipos de Estilos de Componentes y Conectores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Arquitecturas de flujo de dato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Arquitecturas centradas en dato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Arquitecturas de llamada-retorn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Arquitecturas de componentes independient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stilos heterogéneo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Cada clase tiene a su vez subclases y una misma arquitectura puede verse como perteneciente a más de un estil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202-D30E-466A-A27D-5679AF9153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666633"/>
                </a:solidFill>
                <a:latin typeface="Tahoma"/>
              </a:rPr>
              <a:t>Arquitecturas de Flujo de Datos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l sistema se percibe como una sucesión de transformaciones que sufre una serie de datos de entrada a través d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os datos ingresan al sistema y fluyen a través de las componentes una a una hasta que se asignan a un destino final: salida o almacenamien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on típicos casos de arquitecturas que promueven la reusabilidad y la modifica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291600" indent="-29160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xisten dos subestil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secuencial por lot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31440" indent="-2426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tubos y filtro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F62-CDD7-45F9-9263-6E2CC0023E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666633"/>
                </a:solidFill>
                <a:latin typeface="Tahoma"/>
              </a:rPr>
              <a:t>Arquitectura Secuencial por Lotes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s la estructura típica de un sistema de procesamiento de datos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tradicional por lotes (batch)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Cada proceso 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e 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jecuta completamente antes de comenzar la ejecución del sigui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28600" y="2133720"/>
            <a:ext cx="8610480" cy="685800"/>
            <a:chOff x="228600" y="2133720"/>
            <a:chExt cx="8610480" cy="685800"/>
          </a:xfrm>
        </p:grpSpPr>
        <p:sp>
          <p:nvSpPr>
            <p:cNvPr id="89" name=""/>
            <p:cNvSpPr/>
            <p:nvPr/>
          </p:nvSpPr>
          <p:spPr>
            <a:xfrm>
              <a:off x="762120" y="2133720"/>
              <a:ext cx="1600200" cy="53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66"/>
                  </a:solidFill>
                  <a:latin typeface="Arial"/>
                </a:rPr>
                <a:t>Valida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3200" y="2133720"/>
              <a:ext cx="1600200" cy="53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66"/>
                  </a:solidFill>
                  <a:latin typeface="Arial"/>
                </a:rPr>
                <a:t>Sor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24280" y="2133720"/>
              <a:ext cx="1600200" cy="53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66"/>
                  </a:solidFill>
                  <a:latin typeface="Arial"/>
                </a:rPr>
                <a:t>Actualiza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05720" y="2133720"/>
              <a:ext cx="1600200" cy="53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66"/>
                  </a:solidFill>
                  <a:latin typeface="Arial"/>
                </a:rPr>
                <a:t>Reporta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" y="2362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89" idx="3"/>
              <a:endCxn id="90" idx="1"/>
            </p:cNvCxnSpPr>
            <p:nvPr/>
          </p:nvCxnSpPr>
          <p:spPr>
            <a:xfrm>
              <a:off x="2362320" y="2400120"/>
              <a:ext cx="38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90" idx="3"/>
              <a:endCxn id="91" idx="1"/>
            </p:cNvCxnSpPr>
            <p:nvPr/>
          </p:nvCxnSpPr>
          <p:spPr>
            <a:xfrm>
              <a:off x="4343400" y="2400120"/>
              <a:ext cx="38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91" idx="3"/>
              <a:endCxn id="92" idx="1"/>
            </p:cNvCxnSpPr>
            <p:nvPr/>
          </p:nvCxnSpPr>
          <p:spPr>
            <a:xfrm>
              <a:off x="6324120" y="2400120"/>
              <a:ext cx="381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97" name=""/>
            <p:cNvSpPr/>
            <p:nvPr/>
          </p:nvSpPr>
          <p:spPr>
            <a:xfrm>
              <a:off x="8305920" y="23623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95680" y="2514600"/>
              <a:ext cx="2057400" cy="304920"/>
            </a:xfrm>
            <a:custGeom>
              <a:avLst/>
              <a:gdLst/>
              <a:ahLst/>
              <a:rect l="l" t="t" r="r" b="b"/>
              <a:pathLst>
                <a:path w="1296" h="192">
                  <a:moveTo>
                    <a:pt x="1152" y="0"/>
                  </a:moveTo>
                  <a:lnTo>
                    <a:pt x="1296" y="0"/>
                  </a:lnTo>
                  <a:lnTo>
                    <a:pt x="1296" y="192"/>
                  </a:lnTo>
                  <a:lnTo>
                    <a:pt x="0" y="192"/>
                  </a:lnTo>
                  <a:lnTo>
                    <a:pt x="0" y="0"/>
                  </a:lnTo>
                  <a:lnTo>
                    <a:pt x="1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5BF-47D6-4A9D-ABB7-53A28488A9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666633"/>
                </a:solidFill>
                <a:latin typeface="Tahoma"/>
              </a:rPr>
              <a:t>Arquitectura de Tubos y Filtros</a:t>
            </a:r>
            <a:endParaRPr b="0" lang="en-US" sz="3600" spc="-1" strike="noStrike">
              <a:solidFill>
                <a:srgbClr val="6666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nfatiza la transformación incremental de los datos a través de las sucesivas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0000"/>
              </a:buClr>
              <a:buSzPct val="14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Cada componente (filtro) es un traductor que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ocesa los datos de entrada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sa poca información de context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no retiene información de estado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5105520"/>
            <a:ext cx="8229600" cy="1371600"/>
            <a:chOff x="228600" y="5105520"/>
            <a:chExt cx="8229600" cy="1371600"/>
          </a:xfrm>
        </p:grpSpPr>
        <p:sp>
          <p:nvSpPr>
            <p:cNvPr id="102" name=""/>
            <p:cNvSpPr/>
            <p:nvPr/>
          </p:nvSpPr>
          <p:spPr>
            <a:xfrm>
              <a:off x="762120" y="5486400"/>
              <a:ext cx="1904760" cy="5335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Arial"/>
                </a:rPr>
                <a:t>Le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9000" y="5105520"/>
              <a:ext cx="1905120" cy="5331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Arial"/>
                </a:rPr>
                <a:t>Traducir al inglé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19920" y="5105520"/>
              <a:ext cx="1904760" cy="5331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Arial"/>
                </a:rPr>
                <a:t>Escribir inglé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9000" y="5943600"/>
              <a:ext cx="1905120" cy="5335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Arial"/>
                </a:rPr>
                <a:t>Traducir al chi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19920" y="5943600"/>
              <a:ext cx="1904760" cy="5335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Arial"/>
                </a:rPr>
                <a:t>Escribir chi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8600" y="5715000"/>
              <a:ext cx="5335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08" name=""/>
            <p:cNvCxnSpPr>
              <a:stCxn id="102" idx="3"/>
              <a:endCxn id="103" idx="1"/>
            </p:cNvCxnSpPr>
            <p:nvPr/>
          </p:nvCxnSpPr>
          <p:spPr>
            <a:xfrm flipV="1">
              <a:off x="2666520" y="5371920"/>
              <a:ext cx="762840" cy="3816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102" idx="3"/>
              <a:endCxn id="105" idx="1"/>
            </p:cNvCxnSpPr>
            <p:nvPr/>
          </p:nvCxnSpPr>
          <p:spPr>
            <a:xfrm>
              <a:off x="2666520" y="5753160"/>
              <a:ext cx="762840" cy="457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103" idx="3"/>
              <a:endCxn id="104" idx="1"/>
            </p:cNvCxnSpPr>
            <p:nvPr/>
          </p:nvCxnSpPr>
          <p:spPr>
            <a:xfrm>
              <a:off x="5333760" y="5371920"/>
              <a:ext cx="68652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5" idx="3"/>
              <a:endCxn id="106" idx="1"/>
            </p:cNvCxnSpPr>
            <p:nvPr/>
          </p:nvCxnSpPr>
          <p:spPr>
            <a:xfrm>
              <a:off x="5333760" y="6210000"/>
              <a:ext cx="68652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7924680" y="5334120"/>
              <a:ext cx="5335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6172200"/>
              <a:ext cx="5335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quitectura de Software - Estilos de Componentes y Conecto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342-506A-4560-97F9-F58F7D5150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4T20:05:58Z</dcterms:created>
  <dc:creator>Cecilia Bastarrica</dc:creator>
  <dc:description/>
  <dc:language>en-US</dc:language>
  <cp:lastModifiedBy>cecilia</cp:lastModifiedBy>
  <cp:lastPrinted>2005-08-16T20:04:31Z</cp:lastPrinted>
  <dcterms:modified xsi:type="dcterms:W3CDTF">2008-05-27T14:18:54Z</dcterms:modified>
  <cp:revision>63</cp:revision>
  <dc:subject/>
  <dc:title>Seminario de Arquitectura de Softw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WA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