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8BE7F-A335-4F5B-B10C-2F57ED5717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71240" y="4249440"/>
            <a:ext cx="7086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09BC8-0D93-45A8-80D6-CC5FEE4880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0256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240" y="42494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02560" y="42494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0B0C4-B058-4A2F-97D2-E9CA96448D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67400" y="198072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63560" y="198072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71240" y="424944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67400" y="424944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63560" y="424944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EE7E6-37B8-4420-9E1A-73F1D38FF5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02560" y="198072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2560" y="198072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240" y="42494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9BE7C-0224-428B-B27D-1E0883A953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256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02560" y="42494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256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240" y="4249440"/>
            <a:ext cx="7086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240" y="4249440"/>
            <a:ext cx="7086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0256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240" y="42494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02560" y="42494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67400" y="198072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63560" y="198072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240" y="424944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67400" y="424944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63560" y="424944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17B31-BFD5-4DD6-95B4-55586D5F81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02560" y="198072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7C9E0-A2F1-434A-9C9D-843DA3D76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53843-75CF-4984-8AFA-96E41BCD50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371240" y="60912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1D370-E686-4DE5-9176-A784F1353A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02560" y="198072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71240" y="42494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A4F9A-AE86-49D3-AA19-98793E3F93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0256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02560" y="42494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E7253-04D1-4AF1-87A3-983BCF9E9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02560" y="198072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240" y="4249440"/>
            <a:ext cx="7086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58730-E543-4DF9-A142-F30D0334B2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10200" y="6361200"/>
            <a:ext cx="150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CRivara/CG2008/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1370-1353-485A-AB2C-100089F19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981800" y="6308640"/>
            <a:ext cx="150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CRivara/CG2008/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1547640" y="616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44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b5391"/>
                </a:solidFill>
                <a:latin typeface="Arial"/>
              </a:rPr>
              <a:t>CC 52B  Computación Gráfica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rof. María Cecilia Riv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crivara@dcc.uchile.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emestre 2008/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57280" y="1981080"/>
            <a:ext cx="658008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b5391"/>
                </a:solidFill>
                <a:latin typeface="Arial"/>
              </a:rPr>
              <a:t>Representación de curvas y superfic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b5391"/>
                </a:solidFill>
                <a:latin typeface="Arial"/>
              </a:rPr>
              <a:t>(incluyendo mallas de polígonos) para CG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b5391"/>
                </a:solidFill>
                <a:latin typeface="Arial"/>
              </a:rPr>
              <a:t>aplicaciones de ciencias, ingeniería y medicina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8377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Observacione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erto grado de redundancia es deseable:  se obtienen soluciones más rápidas con más almacenamient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algunas aplicaciones mucha redundancia puede encarece el proces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9ED58-98F4-4236-8AED-414C5FA657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Representaciones de mallas de polígono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 Representación explícita ingenua (coordenadas duplicada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 = ((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z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, (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z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, ...., (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es útil en gener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 Polígonos definidos mediante punteros a lista de vért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vértice se guarda una ve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ueden cambiar fácilmente las coordenadas del vér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fícil encontrar polígonos que comparten una aris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arista se dibuja dos veces al desplegar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964E6-9C5E-4E52-B6C0-625EE9F689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66680" y="1219320"/>
            <a:ext cx="655344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Representación de polígonos mediante punteros a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a de ar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junto de vértices (cada vértice aparec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vez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junto de aristas (cada arista aparece u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ígono: lista de punteros a ar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s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unta a sus dos vért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unta a 1 o 2 polígonos que la contie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ígono    P = (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..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sta E =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3808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Representaciones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DC2F0-EAB2-49F3-941D-6FFEC320E2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Consistencia de Representaciones de mallas de polígono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heque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odos los polígonos son cerra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odas las aristas se usan al menos una vez y (en algunas aplicaciones) con un valor máximo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vértice es referenciado al menos por dos arist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algunas aplicaciones la malla debe ser conexa, o no tener hoyos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tros cheque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arista no puede ser usada dos veces por el mismo polígon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vértice es parte (al menos) de un polígono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bserv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La relación compartir arista es relación de equivalencia binaria.  Permite particionar una malla en componentes conex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FCF3C-F024-4C8F-BBFD-E1260E9844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9140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Curvas cúbicas por pedazo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pegan exigiendo condiciones de continuidad entre los pedaz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segmento de curva se define por restricciones en los puntos extremos, vectores tangentes y continuidad entre los segmento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nomio cúbic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4 coeficient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necesitan 4 restricciones por pedaz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736560"/>
            <a:ext cx="990360" cy="330120"/>
          </a:xfrm>
          <a:custGeom>
            <a:avLst/>
            <a:gdLst/>
            <a:ahLst/>
            <a:rect l="l" t="t" r="r" b="b"/>
            <a:pathLst>
              <a:path w="624" h="208">
                <a:moveTo>
                  <a:pt x="0" y="208"/>
                </a:moveTo>
                <a:cubicBezTo>
                  <a:pt x="68" y="120"/>
                  <a:pt x="136" y="32"/>
                  <a:pt x="240" y="16"/>
                </a:cubicBezTo>
                <a:cubicBezTo>
                  <a:pt x="344" y="0"/>
                  <a:pt x="484" y="56"/>
                  <a:pt x="624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596880"/>
            <a:ext cx="1447920" cy="343080"/>
          </a:xfrm>
          <a:custGeom>
            <a:avLst/>
            <a:gdLst/>
            <a:ahLst/>
            <a:rect l="l" t="t" r="r" b="b"/>
            <a:pathLst>
              <a:path w="912" h="216">
                <a:moveTo>
                  <a:pt x="0" y="200"/>
                </a:moveTo>
                <a:cubicBezTo>
                  <a:pt x="8" y="208"/>
                  <a:pt x="16" y="216"/>
                  <a:pt x="48" y="200"/>
                </a:cubicBezTo>
                <a:cubicBezTo>
                  <a:pt x="80" y="184"/>
                  <a:pt x="120" y="136"/>
                  <a:pt x="192" y="104"/>
                </a:cubicBezTo>
                <a:cubicBezTo>
                  <a:pt x="264" y="72"/>
                  <a:pt x="360" y="0"/>
                  <a:pt x="480" y="8"/>
                </a:cubicBezTo>
                <a:cubicBezTo>
                  <a:pt x="600" y="16"/>
                  <a:pt x="756" y="84"/>
                  <a:pt x="912" y="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838080"/>
            <a:ext cx="1219320" cy="266760"/>
          </a:xfrm>
          <a:custGeom>
            <a:avLst/>
            <a:gdLst/>
            <a:ahLst/>
            <a:rect l="l" t="t" r="r" b="b"/>
            <a:pathLst>
              <a:path w="768" h="168">
                <a:moveTo>
                  <a:pt x="0" y="0"/>
                </a:moveTo>
                <a:cubicBezTo>
                  <a:pt x="72" y="60"/>
                  <a:pt x="144" y="120"/>
                  <a:pt x="240" y="144"/>
                </a:cubicBezTo>
                <a:cubicBezTo>
                  <a:pt x="336" y="168"/>
                  <a:pt x="488" y="168"/>
                  <a:pt x="576" y="144"/>
                </a:cubicBezTo>
                <a:cubicBezTo>
                  <a:pt x="664" y="120"/>
                  <a:pt x="716" y="60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447F8-CC74-4653-868A-B100A5C05F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Tipos de curvas cúbicas por pedazo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ermi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os puntos extremos y dos vectores tangent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éz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os puntos extremos y otros dos puntos de control que controlan los vectores tangentes en los puntos extrem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arios tipos de splines definidos por 4 puntos de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69D38-12E0-4C9F-96BD-A5787BC5CF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urva cúbica paramétr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(t) = [x(t) y(t) z(t)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(t) =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 + 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y(t) =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 +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z(t) =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 +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atricialme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(t) = [x(t) y(t) z(t)] = 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= [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  1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rivada de Q(t): vector tangente paramétri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[3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2t   1    0] 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24120" y="3124080"/>
            <a:ext cx="10447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a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a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x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d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25360" y="350532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3200400"/>
            <a:ext cx="152640" cy="1066680"/>
          </a:xfrm>
          <a:custGeom>
            <a:avLst/>
            <a:gdLst/>
            <a:ahLst/>
            <a:rect l="l" t="t" r="r" b="b"/>
            <a:pathLst>
              <a:path w="96" h="624">
                <a:moveTo>
                  <a:pt x="96" y="0"/>
                </a:moveTo>
                <a:lnTo>
                  <a:pt x="0" y="0"/>
                </a:lnTo>
                <a:lnTo>
                  <a:pt x="0" y="624"/>
                </a:lnTo>
                <a:lnTo>
                  <a:pt x="96" y="6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324480" y="3200040"/>
            <a:ext cx="152640" cy="1066680"/>
          </a:xfrm>
          <a:custGeom>
            <a:avLst/>
            <a:gdLst/>
            <a:ahLst/>
            <a:rect l="l" t="t" r="r" b="b"/>
            <a:pathLst>
              <a:path w="96" h="624">
                <a:moveTo>
                  <a:pt x="96" y="0"/>
                </a:moveTo>
                <a:lnTo>
                  <a:pt x="0" y="0"/>
                </a:lnTo>
                <a:lnTo>
                  <a:pt x="0" y="624"/>
                </a:lnTo>
                <a:lnTo>
                  <a:pt x="96" y="6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905120" y="4724280"/>
                <a:ext cx="37717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'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 x 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C505A-42CF-40F7-89E3-6F85FABAC7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Tipos de continuidad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los segmentos de curva se unen tienen continuidad geométrica G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las direcciones (pero no necesariamente las magnitudes) de los vectores tangentes son iguales en la juntur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tinuidad geométrica G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frecuente en CA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ndientes geométricas de los segmentos tangentes son igu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kT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con k &gt;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los vectores tangentes de dos segmentos cúbicos son iguales (direcciones y magnitudes iguales)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tinuidad C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rivada n-ésim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tinuidad C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bservación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’(t) es velocidad de un punto en una curva con respecto al parámetro t; la segunda derivada es la aceleració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F942B-8ECF-4988-ABAF-B32B30E0FE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¿Cómo se introducen las restricciones?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pedazo de curva se escribe com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(t) = T 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x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reescribe C en función de una base de los polinomios que son considera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=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x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: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ctor de las restricciones geométr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puntos extremos y vectores tangen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ctor columna de los componentes x del vector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ométri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B1FFB-A743-46A1-A005-6BB93064D1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Curvas de Hermite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stricciones en los puntos extremos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en los vectores tangentes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n puntos extrem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necesario encontrar la base de Hermite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4267080"/>
            <a:ext cx="1143000" cy="1143000"/>
          </a:xfrm>
          <a:custGeom>
            <a:avLst/>
            <a:gdLst/>
            <a:ahLst/>
            <a:rect l="l" t="t" r="r" b="b"/>
            <a:pathLst>
              <a:path w="720" h="720">
                <a:moveTo>
                  <a:pt x="0" y="720"/>
                </a:moveTo>
                <a:cubicBezTo>
                  <a:pt x="104" y="696"/>
                  <a:pt x="208" y="672"/>
                  <a:pt x="288" y="576"/>
                </a:cubicBezTo>
                <a:cubicBezTo>
                  <a:pt x="368" y="480"/>
                  <a:pt x="408" y="240"/>
                  <a:pt x="480" y="144"/>
                </a:cubicBezTo>
                <a:cubicBezTo>
                  <a:pt x="552" y="48"/>
                  <a:pt x="636" y="24"/>
                  <a:pt x="7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5480" y="5410080"/>
            <a:ext cx="771480" cy="96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38480" y="426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82840" y="38703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77560" y="42512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82280" y="531828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07960" y="54100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4F849-15A7-4BD4-B063-22F7D5AA7D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Representación / modelación de superficie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4920" y="21333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llas de polígon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erficies paramétricas (superficies curva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iangulaci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3010E-F98F-4301-9B32-4C81573819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38080" y="38088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rva de Herm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143000" y="838080"/>
                <a:ext cx="1803240" cy="13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3437640" y="838080"/>
            <a:ext cx="17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[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  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562720" y="914400"/>
                <a:ext cx="99036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1143000" y="2362320"/>
            <a:ext cx="6324480" cy="42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(t) =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 + 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T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T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diciones (restricciones) que definen la curva en coordenadas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(0) =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x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[0 0 0 1]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(1) =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[1 1 1 1]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emás, co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’(t) = [3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2t  1  0]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’(0) =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[ 0   0   1  0]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’(1)=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[3  2  1  0]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703F4-FDE1-478E-BF18-E59F3C7538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83016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4 Restricciones junta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438280" y="1295280"/>
                <a:ext cx="135900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898800" y="1314360"/>
                <a:ext cx="299736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  0  0  1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   1   1  1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  0  1  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3277440" y="182880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124080"/>
            <a:ext cx="64008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álogamente para y,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A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/premultiplicado por A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=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= A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727280" y="4654440"/>
                <a:ext cx="396216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2  -2   1   1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3    3 -2-1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0    0   1   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5DDAA-BF3F-482E-862E-506E709FEC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19320" y="685800"/>
            <a:ext cx="708660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(t) =  [x(t)   y(t)  z(t)]  = T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expandie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(t) =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2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3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1)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(-2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3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2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t)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(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+ 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)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:  funciones de mezc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12600">
            <a:off x="4304880" y="1257120"/>
            <a:ext cx="152640" cy="685800"/>
          </a:xfrm>
          <a:custGeom>
            <a:avLst/>
            <a:gdLst>
              <a:gd name="textAreaLeft" fmla="*/ 97560 w 152640"/>
              <a:gd name="textAreaRight" fmla="*/ 153000 w 1526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7D948-9BA8-4799-AB33-8822244A68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02800" cy="577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C99B9-58B9-46D1-AF8F-7B49E7DA7B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620120" cy="579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CB93C-76F3-4378-AEBA-3F2F60B51BD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Curvas de Bezier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definen en función d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nd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n los extremos del segment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n solo puntos de control. 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n puntos de control e interpolació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vectores tangentes en los puntos extremos se definen indirectamente en función los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Q’(0) = 3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Q’(1) = 3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667400" y="4102200"/>
                <a:ext cx="393696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92F58-8B71-4937-9CBD-F7560ED5B75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Curvas de Bezier (cont.)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838080" y="1600200"/>
                <a:ext cx="482616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609480" y="3200400"/>
            <a:ext cx="670572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HB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 matriz de traspaso de la geomet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se de Herm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489040" y="4152960"/>
                <a:ext cx="407700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B</m:t>
                            </m:r>
                          </m:sub>
                        </m:sSub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-1     3   -3   1</m:t>
                                </m:r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3  -6     3   0</m:t>
                                </m:r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-3    3     0   0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2650680" y="5954760"/>
            <a:ext cx="292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linomios de Berns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581280" y="5867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E2BA3-D5EB-4311-B5D7-4E1A3FF3FDA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Curvas de Bezier (cont.)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pieda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polinomios de Bernstein so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 suma es uno para cada 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urva de Bezier está contenida en el cierre convexo de los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útil para reducir trabajo al hacer clippi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5B315-8F2B-48BD-B9EC-7C97B11CD5E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Spline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plines naturales (usados en métodos numéric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-Spline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mputación Gráf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D9FF2-5419-4F44-9B68-EAA7047D5A2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Spline Cúbico natural</a:t>
            </a:r>
            <a:br>
              <a:rPr sz="3200"/>
            </a:b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ne continuidad C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más que Hermite y Bez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coeficientes de los polinomios en cada segmento dependen de todos los puntos de contro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ventaja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álcul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nvertir matriz de (n + 1) x (n + 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vimiento de un punto afecta toda la curv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13794-4EA5-479F-B92F-20FB7C483DC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71600" y="12114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Motivación en ingenie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2133720"/>
            <a:ext cx="65530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aplicaciones de la industria de entreteni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G) no interesa la “modelación precisa” 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ción precisa” de obje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aplicaciones de ciencias, ingeniería y medicina,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ención y manejo de modelos o representaci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 una  precisión requerida es un problema complej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importa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1B008-BA51-48B9-BC00-57AEDD5D8D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B-Spline cúbico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eficientes de los segmentos de polinomios dependen de pocos puntos de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local: movimiento de un punto afecta solo 4 segmentos cúbic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o tiempo de cálcul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24BF2-3EFB-46DA-A014-603BB78473A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Notación especial B-Splines cúbico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m+1) puntos de control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... Pm con m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m-1) nodos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extremos de los parámetros de los segmentos de las curva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...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m+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UNIFORME: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i-3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m-2) segmentos de curvas cúbica 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finida para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; m = 3 (1 curv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finida para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0,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1 puntos de control: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992BF-3D0F-4BB9-A0A0-56531E1BA8D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Matricialmente B-Spline cúbico uniforme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2640" y="13712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) 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B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• 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B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[ (t-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t-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t-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1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286000" y="2895480"/>
                <a:ext cx="4343400" cy="31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S</m:t>
                            </m:r>
                          </m:sub>
                        </m:sSub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7C964-B1F0-481E-9289-DC3311D9EE5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Propiedade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086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segmento definido por 4 punt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punto de control influye sobre 4 curva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tinuidad C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ntre 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definir curva cerrada se repiten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l final de la curv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uede forzar a interpolar puntos de control repitiendo los punt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352680" y="4419720"/>
            <a:ext cx="2819160" cy="1003320"/>
            <a:chOff x="3352680" y="4419720"/>
            <a:chExt cx="2819160" cy="1003320"/>
          </a:xfrm>
        </p:grpSpPr>
        <p:sp>
          <p:nvSpPr>
            <p:cNvPr id="173" name=""/>
            <p:cNvSpPr/>
            <p:nvPr/>
          </p:nvSpPr>
          <p:spPr>
            <a:xfrm>
              <a:off x="3352680" y="4419720"/>
              <a:ext cx="1643400" cy="1003320"/>
            </a:xfrm>
            <a:custGeom>
              <a:avLst/>
              <a:gdLst/>
              <a:ahLst/>
              <a:rect l="l" t="t" r="r" b="b"/>
              <a:pathLst>
                <a:path w="1296" h="784">
                  <a:moveTo>
                    <a:pt x="0" y="96"/>
                  </a:moveTo>
                  <a:cubicBezTo>
                    <a:pt x="140" y="48"/>
                    <a:pt x="280" y="0"/>
                    <a:pt x="432" y="96"/>
                  </a:cubicBezTo>
                  <a:cubicBezTo>
                    <a:pt x="584" y="192"/>
                    <a:pt x="768" y="560"/>
                    <a:pt x="912" y="672"/>
                  </a:cubicBezTo>
                  <a:cubicBezTo>
                    <a:pt x="1056" y="784"/>
                    <a:pt x="1176" y="776"/>
                    <a:pt x="1296" y="7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54680" y="4424760"/>
              <a:ext cx="1217160" cy="987840"/>
            </a:xfrm>
            <a:custGeom>
              <a:avLst/>
              <a:gdLst/>
              <a:ahLst/>
              <a:rect l="l" t="t" r="r" b="b"/>
              <a:pathLst>
                <a:path w="960" h="772">
                  <a:moveTo>
                    <a:pt x="0" y="768"/>
                  </a:moveTo>
                  <a:cubicBezTo>
                    <a:pt x="29" y="757"/>
                    <a:pt x="89" y="772"/>
                    <a:pt x="177" y="700"/>
                  </a:cubicBezTo>
                  <a:cubicBezTo>
                    <a:pt x="265" y="628"/>
                    <a:pt x="430" y="437"/>
                    <a:pt x="528" y="336"/>
                  </a:cubicBezTo>
                  <a:cubicBezTo>
                    <a:pt x="626" y="235"/>
                    <a:pt x="696" y="152"/>
                    <a:pt x="768" y="96"/>
                  </a:cubicBezTo>
                  <a:cubicBezTo>
                    <a:pt x="840" y="40"/>
                    <a:pt x="900" y="20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531240" y="3886200"/>
            <a:ext cx="54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ebdings"/>
                <a:ea typeface="Webdings"/>
              </a:rPr>
              <a:t>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70560" y="3897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60040" y="3886200"/>
            <a:ext cx="54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ebdings"/>
                <a:ea typeface="Webdings"/>
              </a:rPr>
              <a:t>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80440" y="5337000"/>
            <a:ext cx="6076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ebdings"/>
                <a:ea typeface="Webdings"/>
              </a:rPr>
              <a:t>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36000" y="5791320"/>
            <a:ext cx="54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ebdings"/>
                <a:ea typeface="Webdings"/>
              </a:rPr>
              <a:t>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67000" y="4125960"/>
            <a:ext cx="33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254640" y="4038480"/>
            <a:ext cx="33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6720" y="5410080"/>
            <a:ext cx="33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7040" y="495288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68480" y="502920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CAC74-8AD7-4DBF-BF7E-C2B7F73007B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B-Spline general (no uniforme)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ás general y más flexi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unciones de mezcla Bi(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t) =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-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-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t) +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-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-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t) +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t) + 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-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-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on polinomios de tercer grado y se construyen recursivamente en función de polinomios de grado 0, 1, 2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8E2C3-B1A2-44D3-8190-386ECCEC7AD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Superficies Paramétricas Bicúbica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ámetros s, 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ermite, Bezier, B-Splines, NURB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pedazos de superficies (y las curvas) se pueden subdividir para mejorar la aproximación agregando NO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URBS: non-uniform rational B-Spl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REA:  Usar las funciones de OpenGL relacionadas con curvas y superficies (OpenGL “avanzado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0769D-109D-4C9F-A34B-B05E4D04758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912960" y="457200"/>
            <a:ext cx="731664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24F96-43A7-4A19-88C7-BDAA6DB5EAA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800AC-0C6A-4C7E-B0E6-B9C9022FC1E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543800" cy="594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2C275-0C6D-4D99-B983-D792B894098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Resumen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18960" y="11426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mallas de polígonos pueden ser poco adecuadas para objetos con caras curv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rvas y superficies cúbicas paramétricas se usan ampliamente en CG y C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veen control loc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uede aproximar o interpolar los puntos de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utacionalmente eficien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finamiento por subdivisión y adición de no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transforman fácilmente, transformando los puntos de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mas importantes: despliegue y rendering de superficies paramétr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D9E5A-2723-47CF-B7DC-76AABB86B0D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71600" y="60948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Motivación en C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198108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vas y superficies se usan en muchas aplicaciones de Computación Grá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os objetos del mundo real son intrínsicamente “suaves”: aplicaciones CAD en ingeniería, fonts de alta calidad, el camino de una cámara u objeto en secuencia anim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 tipos de modelación de curvas y superfi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ación de objeto que existe (automóvil, montañ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artir de “cero”:  se modela (construye) el objeto a través del proce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D61FD-02C8-413E-AFAE-EEDB7F9E2D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Triangulacione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o especial de malla de polígon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y usada en CG y aplicaciones de ingenierí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ación de superficies: 2D, 2½D, 3D; abiertas y cerrad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y versátil para aproximar bien geometrías complejas con mallas no unifor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triángulo (polígono) define exactamente un plan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ás difícil de manejar que mallas de cuadriláteros (algoritmos, estructura de dat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angulaciones para CG: tema de gran desarrollo en los últimos añ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228F4-8A6A-4E49-9014-6BC6F079115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Problemas actuales en CG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er modelos con distinta resolución de un objeto 3D: triangulaciones jerárqu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do un objeto 3D escaneado, obtener una representación que use el mínimo número de puntos necesario dados los requerimient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presentaciones comprimi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BS: En las aplicaciones se necesitan “buenas triangulacione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E6AE2-FCFC-41E4-8B9F-4A14BE31EA1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Problemas algorítmicos con Triangulaciones (algunos)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iangularizar conjunto de puntos en 2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iangularización óptima para algún criteri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iangularizar conjunto de puntos sobre una superficie en 3D (abierta o cerrad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iangularización de volumen (puntos asociados a un objet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iangulación de un objeto dada su geometrí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iangulación automática de “buena calidad” de un obje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C1E4F-51CD-43FD-B251-2A40B3968C5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angulaciones jerárquicas de un obje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mos de simplificación de triangulaci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mos de refinamiento de triangulaci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mos de mejoramiento de triangulaci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angulaciones no obtusas (o poco obtusa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C0E39-1AB0-457D-B18C-C428D55C294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Triangulación válida (aceptable o conforme)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 = {vértices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 = {triángulos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os triángulos se intersectan en vértice o arista comú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590920" y="4038480"/>
            <a:ext cx="1752480" cy="1295640"/>
            <a:chOff x="2590920" y="4038480"/>
            <a:chExt cx="1752480" cy="1295640"/>
          </a:xfrm>
        </p:grpSpPr>
        <p:sp>
          <p:nvSpPr>
            <p:cNvPr id="205" name=""/>
            <p:cNvSpPr/>
            <p:nvPr/>
          </p:nvSpPr>
          <p:spPr>
            <a:xfrm>
              <a:off x="2590920" y="4038480"/>
              <a:ext cx="1752480" cy="129564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14680" y="4691160"/>
              <a:ext cx="171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A539E-0841-4DD6-B3B4-487BEE56D5F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Triangulación Delaunay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 = {triángulos}      P = {vértices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 incluye todos los vértices de P y es triangulación váli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todo triángulo 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(t): círculo cirncunscrito de t no contiene en su interior ningún vértice de 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21073800">
            <a:off x="2268000" y="4114440"/>
            <a:ext cx="1828800" cy="7621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33520" y="4738680"/>
            <a:ext cx="1809720" cy="1266840"/>
          </a:xfrm>
          <a:custGeom>
            <a:avLst/>
            <a:gdLst/>
            <a:ahLst/>
            <a:rect l="l" t="t" r="r" b="b"/>
            <a:pathLst>
              <a:path w="1140" h="798">
                <a:moveTo>
                  <a:pt x="9" y="183"/>
                </a:moveTo>
                <a:lnTo>
                  <a:pt x="0" y="168"/>
                </a:lnTo>
                <a:lnTo>
                  <a:pt x="685" y="798"/>
                </a:lnTo>
                <a:lnTo>
                  <a:pt x="11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09760" y="4100400"/>
            <a:ext cx="1847880" cy="146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10400" y="44038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90560" y="56991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81480" y="59529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28515-87F2-4DC3-9E3A-561DEAAE93A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o que exis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ción matemática puede no estar disponi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 describirse con pedazos de planos, esferas u otras formas curvas fáciles describi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requiere que puntos del modelo estén “cerca” de puntos del objeto re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to a partir de cer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puede esculpir interactivame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ción matemát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ción aproxima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2B3C5-2397-4E61-AC17-23952234A7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Tipos de modelo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ación de superfic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llas de polígon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erficies paramétr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erficies polinómicas por pedaz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tros (tema muy ampli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ación de sóli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presentación de volúmenes “rodeados” totalmente por superficies (cubo , avión, edifici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llas de polígon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resentan bien objetos poliédric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roximan superficies curvas (no siempre es adecuad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CCB43-BB7F-41B0-B898-1D2D48CCBA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1b5391"/>
                </a:solidFill>
                <a:latin typeface="Arial"/>
              </a:rPr>
              <a:t>Tipos de modelos (cont.)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837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ación de curvas en el espaci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rvas polinomiales paramétrica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es polinomios en función de un parámetro x = x (t), y = y (t), z = z (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rvas por pedazos polinomi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erficies polinomiales por pedazos bivariados (dos variables) x = x (u, v), y =  y (u, v) z = z (u, v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bordes de cada pedazo son curvas polinomiales paramétr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necesitan pocos pedazos (comparado con mallas de polígonos) para obtener precisión da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goritmos para manejar polinomios bivariados son más complejos que los algoritmos para mallas de polígon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erficies cúb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finidas implícitamente por ecuación f(x, y, z) = 0 donde f es polinomio cúbi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C2536-9DF1-496A-A7BA-68E39F51B8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5391"/>
                </a:solidFill>
                <a:latin typeface="Arial"/>
              </a:rPr>
              <a:t>Mallas (abiertas) de polígonos</a:t>
            </a:r>
            <a:endParaRPr b="0" lang="en-US" sz="3200" spc="-1" strike="noStrike">
              <a:solidFill>
                <a:srgbClr val="1b539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ección de aristas, vértices y caras tales q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arista es compartida por dos polígono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arista conecta dos vért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a es secuencia cerrada de aristas (o vértic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vértice es compartido al menos por dos arist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stas, vértices y cara son elementos topológic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íneas (segmentos), puntos y polígonos son elementos geométric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47F83-3A62-4EB6-9B09-63202924C5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066320" y="12949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las de polígonos pueden representarse de varias maneras distintas, cada una con ventajas y desventaj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elegir la representación más adecuada para cada aplicación evalua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ún criterios de espacio versus tiempo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ciones típic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ntrar aristas que inciden en un vért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ntrar polígonos que compartan un vértice o una aris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ntrar aristas de un polígon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plegar la mall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car errores en la represent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B317F-6F6F-4623-9182-3206519828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23:19Z</dcterms:created>
  <dc:creator>francia</dc:creator>
  <dc:description/>
  <dc:language>en-US</dc:language>
  <cp:lastModifiedBy>pedrito</cp:lastModifiedBy>
  <cp:lastPrinted>2003-10-15T14:48:26Z</cp:lastPrinted>
  <dcterms:modified xsi:type="dcterms:W3CDTF">2008-05-07T15:57:37Z</dcterms:modified>
  <cp:revision>48</cp:revision>
  <dc:subject/>
  <dc:title>Algoritmos raster</dc:title>
</cp:coreProperties>
</file>