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4CF9-0723-42EB-B921-4DFD98D89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9B3E-6AFF-43F8-BAEA-0B03EBCE9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0405-F330-45EB-AACC-82ED0E556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740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24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740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356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CFBD-12D2-44A9-AA6A-AC2F47711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6031-E9C1-43BD-ADBE-1D8D09982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740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24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740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356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728C-8656-417B-9E17-45918E8BB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2F7C-9AF1-45C0-9FF2-1A4C39356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77B9-997C-4C95-80F7-6FE2D043E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BB4D-A086-4A7E-A081-D64ADD31A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4E9C-7350-41D9-9ED9-E5F91709D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96C9-2451-46E5-B652-E013E23A1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DFA4-A942-422F-B54F-F95B0800F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10200" y="636120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CRivara/CG2008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AAA-F264-4388-99A7-0AA7A7999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981800" y="630864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CRivara/CG2008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54764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b5391"/>
                </a:solidFill>
                <a:latin typeface="Arial"/>
              </a:rPr>
              <a:t>CC 52B  Computación Gráfic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f. María Cecilia Riv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crivara@dcc.uchile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mestre 2008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7280" y="1981080"/>
            <a:ext cx="6580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Representación de curvas y superf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(incluyendo mallas de polígonos) para CG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aplicaciones de ciencias, ingeniería y medicin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Observacio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erto grado de redundancia es deseable:  se obtienen soluciones más rápidas con más almacenami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lgunas aplicaciones mucha redundancia puede encarece el proce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A45C-AC26-4C40-9FAC-505E013791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presentaciones de mallas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 Representación explícita ingenua (coordenadas duplicad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(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....,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s útil en gene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Polígonos definidos mediante punteros a lista de vér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se guarda una ve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cambiar fácilmente las coordenadas del vér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ícil encontrar polígonos que comparten una aris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arista se dibuja dos veces al desplega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3726-A8E9-4CF8-870A-9F76D021F8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1219320"/>
            <a:ext cx="65534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presentación de polígonos mediante punteros 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a de ar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vértices (cada vértice apare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aristas (cada arista aparec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gono: lista de punteros a ar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unta a sus dos vé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unta a 1 o 2 polígonos que la conti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gono    P =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.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 E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80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Representacione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D4CF-542E-444D-8A8A-AFA7246C29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onsistencia de Representaciones de mallas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hequ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polígonos son cer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as las aristas se usan al menos una vez y (en algunas aplicaciones) con un valor máxim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es referenciado al menos por dos ari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algunas aplicaciones la malla debe ser conexa, o no tener hoyo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chequ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rista no puede ser usada dos veces por el mismo polígo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es parte (al menos) de un polígon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serv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relación compartir arista es relación de equivalencia binaria.  Permite particionar una malla en componentes conex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4540-1EBB-4B79-97E5-4713F94DEE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urvas cúbicas por pedaz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egan exigiendo condiciones de continuidad entre los pedaz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egmento de curva se define por restricciones en los puntos extremos, vectores tangentes y continuidad entre los segmento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nomio cúbic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 coeficient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necesitan 4 restricciones por pedaz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736560"/>
            <a:ext cx="990360" cy="330120"/>
          </a:xfrm>
          <a:custGeom>
            <a:avLst/>
            <a:gdLst/>
            <a:ahLst/>
            <a:rect l="l" t="t" r="r" b="b"/>
            <a:pathLst>
              <a:path w="624" h="208">
                <a:moveTo>
                  <a:pt x="0" y="208"/>
                </a:moveTo>
                <a:cubicBezTo>
                  <a:pt x="68" y="120"/>
                  <a:pt x="136" y="32"/>
                  <a:pt x="240" y="16"/>
                </a:cubicBezTo>
                <a:cubicBezTo>
                  <a:pt x="344" y="0"/>
                  <a:pt x="484" y="56"/>
                  <a:pt x="62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596880"/>
            <a:ext cx="1447920" cy="343080"/>
          </a:xfrm>
          <a:custGeom>
            <a:avLst/>
            <a:gdLst/>
            <a:ahLst/>
            <a:rect l="l" t="t" r="r" b="b"/>
            <a:pathLst>
              <a:path w="912" h="216">
                <a:moveTo>
                  <a:pt x="0" y="200"/>
                </a:moveTo>
                <a:cubicBezTo>
                  <a:pt x="8" y="208"/>
                  <a:pt x="16" y="216"/>
                  <a:pt x="48" y="200"/>
                </a:cubicBezTo>
                <a:cubicBezTo>
                  <a:pt x="80" y="184"/>
                  <a:pt x="120" y="136"/>
                  <a:pt x="192" y="104"/>
                </a:cubicBezTo>
                <a:cubicBezTo>
                  <a:pt x="264" y="72"/>
                  <a:pt x="360" y="0"/>
                  <a:pt x="480" y="8"/>
                </a:cubicBezTo>
                <a:cubicBezTo>
                  <a:pt x="600" y="16"/>
                  <a:pt x="756" y="84"/>
                  <a:pt x="912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838080"/>
            <a:ext cx="1219320" cy="26676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72" y="60"/>
                  <a:pt x="144" y="120"/>
                  <a:pt x="240" y="144"/>
                </a:cubicBezTo>
                <a:cubicBezTo>
                  <a:pt x="336" y="168"/>
                  <a:pt x="488" y="168"/>
                  <a:pt x="576" y="144"/>
                </a:cubicBezTo>
                <a:cubicBezTo>
                  <a:pt x="664" y="120"/>
                  <a:pt x="716" y="60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776E-2E7E-430D-B2A1-14C8EEF9B4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curvas cúbicas por pedaz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m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puntos extremos y dos vectores tangent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éz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puntos extremos y otros dos puntos de control que controlan los vectores tangentes en los puntos extr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os tipos de splines definidos por 4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907E-DBCE-4182-BC20-1CF36A5363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rva cúbica paramétr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[x(t) y(t) z(t)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tricial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[x(t) y(t) z(t)] = 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= [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 1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ivada de Q(t): vector tangente paramétr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[3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2t   1    0] 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24120" y="3124080"/>
            <a:ext cx="1044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360" y="35053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200400"/>
            <a:ext cx="152640" cy="1066680"/>
          </a:xfrm>
          <a:custGeom>
            <a:avLst/>
            <a:gdLst/>
            <a:ahLst/>
            <a:rect l="l" t="t" r="r" b="b"/>
            <a:pathLst>
              <a:path w="96" h="624">
                <a:moveTo>
                  <a:pt x="96" y="0"/>
                </a:moveTo>
                <a:lnTo>
                  <a:pt x="0" y="0"/>
                </a:lnTo>
                <a:lnTo>
                  <a:pt x="0" y="624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324480" y="3200040"/>
            <a:ext cx="152640" cy="1066680"/>
          </a:xfrm>
          <a:custGeom>
            <a:avLst/>
            <a:gdLst/>
            <a:ahLst/>
            <a:rect l="l" t="t" r="r" b="b"/>
            <a:pathLst>
              <a:path w="96" h="624">
                <a:moveTo>
                  <a:pt x="96" y="0"/>
                </a:moveTo>
                <a:lnTo>
                  <a:pt x="0" y="0"/>
                </a:lnTo>
                <a:lnTo>
                  <a:pt x="0" y="624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05120" y="4724280"/>
                <a:ext cx="37717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 x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776F-C0A1-4E1D-BF1C-67BDB1A53D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continuidad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os segmentos de curva se unen tienen continuidad geométrica G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s direcciones (pero no necesariamente las magnitudes) de los vectores tangentes son iguales en la juntu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geométrica G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frecuente en C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dientes geométricas de los segmentos tangentes son igu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kT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n k &gt;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os vectores tangentes de dos segmentos cúbicos son iguales (direcciones y magnitudes iguales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ivada n-ésim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servació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’(t) es velocidad de un punto en una curva con respecto al parámetro t; la segunda derivada es la aceler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4A4A-5506-468C-AF10-4B7C01A5AE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¿Cómo se introducen las restricciones?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dazo de curva se escrib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T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reescribe C en función de una base de los polinomios que son consid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=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tor de las restricciones geo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untos extremos y vectores tang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tor columna de los componentes x del ve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3FD0-71F8-4E50-B4B8-913FBAC39D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Hermite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tricciones en los puntos extremos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en los vectores tangentes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puntos extr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necesario encontrar la base de Hermite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26708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0" y="720"/>
                </a:moveTo>
                <a:cubicBezTo>
                  <a:pt x="104" y="696"/>
                  <a:pt x="208" y="672"/>
                  <a:pt x="288" y="576"/>
                </a:cubicBezTo>
                <a:cubicBezTo>
                  <a:pt x="368" y="480"/>
                  <a:pt x="408" y="240"/>
                  <a:pt x="480" y="144"/>
                </a:cubicBezTo>
                <a:cubicBezTo>
                  <a:pt x="552" y="48"/>
                  <a:pt x="636" y="24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5410080"/>
            <a:ext cx="771480" cy="9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82840" y="3870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7560" y="42512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82280" y="53182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7960" y="5410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B0E5-38E8-4601-BD2F-050C1F7AF8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presentación / modelación de superfici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aramétricas (superficies curv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59D8-00D1-42F3-A707-1DB6C9665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3808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3000" y="838080"/>
                <a:ext cx="180324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437640" y="83808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[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 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562720" y="914400"/>
                <a:ext cx="9903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143000" y="2362320"/>
            <a:ext cx="632448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T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T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iciones (restricciones) que definen la curva en coordenad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0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x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[0 0 0 1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1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1 1 1 1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emás,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t) = [3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2t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0) =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0   0 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1)=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[3  2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E739-0192-454B-8F71-BA5DD37011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8301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4 Restricciones junt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1295280"/>
                <a:ext cx="13590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98800" y="1314360"/>
                <a:ext cx="29973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0  0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1   1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0  1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277440" y="1828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124080"/>
            <a:ext cx="64008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ogamente para y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/premultiplicado por 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=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= 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727280" y="4654440"/>
                <a:ext cx="3962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2  -2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3    3 -2-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0    0   1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21EE-7089-4DF4-8D95-DF69C940FD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685800"/>
            <a:ext cx="7086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=  [x(t)   y(t)  z(t)]  = 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expandi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1)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-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:  funciones de mezc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2600">
            <a:off x="4304880" y="125712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4E91-0047-41FD-BFD8-01EC2C61DF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2800" cy="577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86AD-FDEA-4730-AF5A-04305838A6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B4BD-0813-43FC-8F90-CB4D7FE8B8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definen en función 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los extremos del segm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solo puntos de control.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puntos de control e interpol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vectores tangentes en los puntos extremos se definen indirectamente en función lo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’(0) = 3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’(1) = 3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67400" y="4102200"/>
                <a:ext cx="39369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8399-1A0C-4E70-8AC6-CF20795793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38080" y="1600200"/>
                <a:ext cx="48261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9480" y="3200400"/>
            <a:ext cx="67057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matriz de traspaso de la geomet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489040" y="4152960"/>
                <a:ext cx="40770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1     3   -3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3  -6     3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3    3     0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650680" y="595476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inomios de Ber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81280" y="5867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4476-804A-423E-A917-B60C5B609C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olinomios de Bernstein s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 suma es uno para cada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rva de Bezier está contenida en el cierre convexo de los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útil para reducir trabajo al hacer clipp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A12C-0036-4B82-9D1B-95F392E32E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pli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lines naturales (usados en métodos numéric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-Splin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utación Gráf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2F97-00FF-4034-ABBB-EB33CB6A99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pline Cúbico natural</a:t>
            </a:r>
            <a:br>
              <a:rPr sz="3200"/>
            </a:b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ás que Hermite y Bez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eficientes de los polinomios en cada segmento dependen de todos los puntos de contr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ventaj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vertir matriz de (n + 1) x (n +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vimiento de un punto afecta toda la cur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A436-276C-4BCC-8F6D-D203A2BF0C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211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otivación en ingenie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133720"/>
            <a:ext cx="6553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plicaciones de la industria de entreten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G) no interesa la “modelación precisa”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ción precisa” de obje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plicaciones de ciencias, ingeniería y medicina,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ción y manejo de modelos o represent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una  precisión requerida es un problema compl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impor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DE48-6CA4-4F85-A5D8-51BF945568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B-Spline cúbico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icientes de los segmentos de polinomios dependen de poc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local: movimiento de un punto afecta solo 4 segmentos cúb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o tiempo de cálcu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9617-8E00-46E9-890D-42DD08FA48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Notación especial B-Splines cúbic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+1) puntos de control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... Pm con m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-1) nodo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extremos de los parámetros de los segmentos de las curva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...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UNIFORME: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i-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-2) segmentos de curvas cúbica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ida para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; m = 3 (1 curv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ida para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1 puntos de control: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3464-65B8-4A4E-A94C-0DFCCEF6A5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Matricialmente B-Spline cúbico uniforme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•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1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2895480"/>
                <a:ext cx="43434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138A-E7CE-4A2D-83DA-B6E8CF25B1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segmento definido por 4 pu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unto de control influye sobre 4 curv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tre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definir curva cerrada se repiten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inal de la cur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forzar a interpolar puntos de control repitiendo los pu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4419720"/>
            <a:ext cx="2819160" cy="1003320"/>
            <a:chOff x="3352680" y="4419720"/>
            <a:chExt cx="2819160" cy="1003320"/>
          </a:xfrm>
        </p:grpSpPr>
        <p:sp>
          <p:nvSpPr>
            <p:cNvPr id="173" name=""/>
            <p:cNvSpPr/>
            <p:nvPr/>
          </p:nvSpPr>
          <p:spPr>
            <a:xfrm>
              <a:off x="3352680" y="4419720"/>
              <a:ext cx="1643400" cy="1003320"/>
            </a:xfrm>
            <a:custGeom>
              <a:avLst/>
              <a:gdLst/>
              <a:ahLst/>
              <a:rect l="l" t="t" r="r" b="b"/>
              <a:pathLst>
                <a:path w="1296" h="784">
                  <a:moveTo>
                    <a:pt x="0" y="96"/>
                  </a:moveTo>
                  <a:cubicBezTo>
                    <a:pt x="140" y="48"/>
                    <a:pt x="280" y="0"/>
                    <a:pt x="432" y="96"/>
                  </a:cubicBezTo>
                  <a:cubicBezTo>
                    <a:pt x="584" y="192"/>
                    <a:pt x="768" y="560"/>
                    <a:pt x="912" y="672"/>
                  </a:cubicBezTo>
                  <a:cubicBezTo>
                    <a:pt x="1056" y="784"/>
                    <a:pt x="1176" y="776"/>
                    <a:pt x="1296" y="7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54680" y="4424760"/>
              <a:ext cx="1217160" cy="987840"/>
            </a:xfrm>
            <a:custGeom>
              <a:avLst/>
              <a:gdLst/>
              <a:ahLst/>
              <a:rect l="l" t="t" r="r" b="b"/>
              <a:pathLst>
                <a:path w="960" h="772">
                  <a:moveTo>
                    <a:pt x="0" y="768"/>
                  </a:moveTo>
                  <a:cubicBezTo>
                    <a:pt x="29" y="757"/>
                    <a:pt x="89" y="772"/>
                    <a:pt x="177" y="700"/>
                  </a:cubicBezTo>
                  <a:cubicBezTo>
                    <a:pt x="265" y="628"/>
                    <a:pt x="430" y="437"/>
                    <a:pt x="528" y="336"/>
                  </a:cubicBezTo>
                  <a:cubicBezTo>
                    <a:pt x="626" y="235"/>
                    <a:pt x="696" y="152"/>
                    <a:pt x="768" y="96"/>
                  </a:cubicBezTo>
                  <a:cubicBezTo>
                    <a:pt x="840" y="40"/>
                    <a:pt x="900" y="20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531240" y="388620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70560" y="3897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60040" y="388620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0440" y="5337000"/>
            <a:ext cx="607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36000" y="579132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67000" y="412596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54640" y="403848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6720" y="541008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7040" y="495288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8480" y="50292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0130-096A-441B-B938-C04F9BD2AC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B-Spline general (no uniforme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general y más flex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es de mezcla Bi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polinomios de tercer grado y se construyen recursivamente en función de polinomios de grado 0, 1,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7F5A-DB18-441F-8BAA-BA3821B767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uperficies Paramétricas Bicúbica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ámetros s,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mite, Bezier, B-Splines, NUR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edazos de superficies (y las curvas) se pueden subdividir para mejorar la aproximación agregando NO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RBS: non-uniform rational B-Sp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:  Usar las funciones de OpenGL relacionadas con curvas y superficies (OpenGL “avanzado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B8C4-A4E5-443E-8002-A910D71603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2960" y="457200"/>
            <a:ext cx="731664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CDCC-6126-4710-8DBD-1D93901023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16E6-4575-4633-84F6-6034F36E55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E716-F205-48C8-8ACD-99F55B48B7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mallas de polígonos pueden ser poco adecuadas para objetos con caras curv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y superficies cúbicas paramétricas se usan ampliamente en CG y C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veen control lo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aproximar o interpolar l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tacionalmente efici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amiento por subdivisión y adición de no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nsforman fácilmente, transformando l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mas importantes: despliegue y rendering de superfici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C803-4C0B-46B0-BF56-16789071DC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6094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otivación en 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98108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as y superficies se usan en muchas aplicaciones de Computación 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os objetos del mundo real son intrínsicamente “suaves”: aplicaciones CAD en ingeniería, fonts de alta calidad, el camino de una cámara u objeto en secuencia anim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tipos de modelación de curvas y superf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ción de objeto que existe (automóvil, montañ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r de “cero”:  se modela (construye) el objeto a través del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D578-B53A-4C9E-9579-BF1BC0A2A5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riangulacio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o especial de malla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usada en CG y aplicaciones de ingenier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ción de superficies: 2D, 2½D, 3D; abiertas y cerrad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versátil para aproximar bien geometrías complejas con mallas no unifor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triángulo (polígono) define exactamente un pla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difícil de manejar que mallas de cuadriláteros (algoritmos, estructura de dat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para CG: tema de gran desarrollo en los últimos añ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0C66-0198-48B1-ADDE-8776F003E4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blemas actuales en CG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modelos con distinta resolución de un objeto 3D: triangulaciones jerárqu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o un objeto 3D escaneado, obtener una representación que use el mínimo número de puntos necesario dados los requerimi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ciones comprimi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S: En las aplicaciones se necesitan “buenas triangulacion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52B0-93AD-4754-8706-C2E7C977B8A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blemas algorítmicos con Triangulaciones (algunos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r conjunto de puntos en 2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ción óptima para algún crite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r conjunto de puntos sobre una superficie en 3D (abierta o cerr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ción de volumen (puntos asociados a un obje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ón de un objeto dada su geometr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ón automática de “buena calidad”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AE18-1C4D-444E-9904-0AEB8D5D2E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jerárquicas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simplificación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refinamiento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mejoramiento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no obtusas (o poco obtus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B251-80DD-481D-8D84-110E8704F6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riangulación válida (aceptable o conforme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{vértice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{triángulo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triángulos se intersectan en vértice o arista comú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90920" y="4038480"/>
            <a:ext cx="1752480" cy="1295640"/>
            <a:chOff x="2590920" y="4038480"/>
            <a:chExt cx="1752480" cy="1295640"/>
          </a:xfrm>
        </p:grpSpPr>
        <p:sp>
          <p:nvSpPr>
            <p:cNvPr id="205" name=""/>
            <p:cNvSpPr/>
            <p:nvPr/>
          </p:nvSpPr>
          <p:spPr>
            <a:xfrm>
              <a:off x="2590920" y="4038480"/>
              <a:ext cx="1752480" cy="12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14680" y="4691160"/>
              <a:ext cx="17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ED4E-111C-4CC0-95E0-BA08126FCE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Triangulación Delaunay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{triángulos}      P = {vértice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incluye todos los vértices de P y es triangulación váli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triángul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(t): círculo cirncunscrito de t no contiene en su interior ningún vértice de 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1073800">
            <a:off x="2268000" y="4114440"/>
            <a:ext cx="1828800" cy="762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3520" y="4738680"/>
            <a:ext cx="1809720" cy="1266840"/>
          </a:xfrm>
          <a:custGeom>
            <a:avLst/>
            <a:gdLst/>
            <a:ahLst/>
            <a:rect l="l" t="t" r="r" b="b"/>
            <a:pathLst>
              <a:path w="1140" h="798">
                <a:moveTo>
                  <a:pt x="9" y="183"/>
                </a:moveTo>
                <a:lnTo>
                  <a:pt x="0" y="168"/>
                </a:lnTo>
                <a:lnTo>
                  <a:pt x="685" y="798"/>
                </a:lnTo>
                <a:lnTo>
                  <a:pt x="11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09760" y="4100400"/>
            <a:ext cx="1847880" cy="14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10400" y="4403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0560" y="5699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59529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70D7-766A-4726-93C3-A59D274465B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o que ex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matemática puede no estar dispon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 describirse con pedazos de planos, esferas u otras formas curvas fáciles describ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requiere que puntos del modelo estén “cerca” de puntos del objeto r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o a partir de ce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uede esculpir interactiva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matemá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aproxim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E633-80E5-4891-A5EE-A5AA976C7B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model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superfi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olinómicas por pedaz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(tema muy ampli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sóli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ción de volúmenes “rodeados” totalmente por superficies (cubo , avión, edifici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resentan bien objetos poliédr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oximan superficies curvas (no siempre es adecu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1B7C-7320-441C-A5BC-6D3EFF645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Tipos de modelos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837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curvas en el espac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polinomiales paramétric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es polinomios en función de un parámetro x = x (t), y = y (t), z = z 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por pedazos polinomi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olinomiales por pedazos bivariados (dos variables) x = x (u, v), y =  y (u, v) z = z (u, 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bordes de cada pedazo son curvas polinomial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necesitan pocos pedazos (comparado con mallas de polígonos) para obtener precisión d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s para manejar polinomios bivariados son más complejos que los algoritmos para 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cúb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das implícitamente por ecuación f(x, y, z) = 0 donde f es polinomio cúb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E605-D16A-4918-8E0E-2D227F4190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allas (abiertas)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ección de aristas, vértices y caras tales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ista es compartida por dos polígono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ista conecta dos vér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 es secuencia cerrada de aristas (o vért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vértice es compartido al menos por dos ari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s, vértices y cara son elementos topológ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eas (segmentos), puntos y polígonos son elementos geométr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5A0F-2D38-4FE7-9458-037643E498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as de polígonos pueden representarse de varias maneras distintas, cada una con ventajas y desventaj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elegir la representación más adecuada para cada aplicación evalu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criterios de espacio versus tiemp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aristas que inciden en un vér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polígonos que compartan un vértice o una ar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aristas de un políg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legar la ma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r errores en la represen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0EA8-3D82-46AE-985A-ADE423854C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3:19Z</dcterms:created>
  <dc:creator>francia</dc:creator>
  <dc:description/>
  <dc:language>en-US</dc:language>
  <cp:lastModifiedBy>pedrito</cp:lastModifiedBy>
  <cp:lastPrinted>2003-10-15T14:48:26Z</cp:lastPrinted>
  <dcterms:modified xsi:type="dcterms:W3CDTF">2008-05-07T15:57:37Z</dcterms:modified>
  <cp:revision>48</cp:revision>
  <dc:subject/>
  <dc:title>Algoritmos raster</dc:title>
</cp:coreProperties>
</file>