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04A0-B25F-4541-8A1B-DCF25E762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240" y="424944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E71D-04CD-4FD3-B6E1-402A38F0C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256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B8B6-9A71-4400-AA83-04A478C3F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740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356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24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740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356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4823-6527-4C97-84D2-7AB2DDBA2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A221-6BE1-4FD8-95C4-8799DD44A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0256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240" y="424944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0256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6740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6356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24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6740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6356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86B7-43BE-4732-83CE-282F21424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8B1A-4480-4B42-80F1-430A6DE63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79111-0C74-4B0A-81D1-BA80434A3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57169-19E8-463A-86FB-74DA2B70A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1FFB-0874-4E0D-9235-F618D47A3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256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017F-661F-41D0-9183-7A7B893CA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B893-2AC1-448C-9DA2-43A5812A8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10200" y="6361200"/>
            <a:ext cx="150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CRivara/CG2008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CA5E-266D-45DA-8D7C-11E0EF7B5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981800" y="6308640"/>
            <a:ext cx="150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CRivara/CG2008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547640" y="616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b5391"/>
                </a:solidFill>
                <a:latin typeface="Arial"/>
              </a:rPr>
              <a:t>CC 52B  Computación Gráfica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f. María Cecilia Riv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crivara@dcc.uchile.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mestre 2008/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57280" y="1981080"/>
            <a:ext cx="65800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b5391"/>
                </a:solidFill>
                <a:latin typeface="Arial"/>
              </a:rPr>
              <a:t>Representación de curvas y superfi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b5391"/>
                </a:solidFill>
                <a:latin typeface="Arial"/>
              </a:rPr>
              <a:t>(incluyendo mallas de polígonos) para CG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b5391"/>
                </a:solidFill>
                <a:latin typeface="Arial"/>
              </a:rPr>
              <a:t>aplicaciones de ciencias, ingeniería y medicina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Observacione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erto grado de redundancia es deseable:  se obtienen soluciones más rápidas con más almacenamient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algunas aplicaciones mucha redundancia puede encarece el proces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6942-F848-4F89-B585-E31C462771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Representaciones de mallas de polígon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 Representación explícita ingenua (coordenadas duplicad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 = ((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, (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, ...., (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s útil en gener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 Polígonos definidos mediante punteros a lista de vért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vértice se guarda una ve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n cambiar fácilmente las coordenadas del vér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fícil encontrar polígonos que comparten una aris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arista se dibuja dos veces al desplegar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B084-B024-4EC9-A2D3-50F6682D89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1219320"/>
            <a:ext cx="655344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Representación de polígonos mediante punteros a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a de ar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vértices (cada vértice aparec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vez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aristas (cada arista aparece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gono: lista de punteros a ar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s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unta a sus dos vé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unta a 1 o 2 polígonos que la contie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gono    P = 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.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sta E =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380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Representaciones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EAA4-2151-43A9-9228-5A0029D077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Consistencia de Representaciones de mallas de polígon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heque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os los polígonos son cerra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as las aristas se usan al menos una vez y (en algunas aplicaciones) con un valor máxim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vértice es referenciado al menos por dos aris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algunas aplicaciones la malla debe ser conexa, o no tener hoyos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 cheque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arista no puede ser usada dos veces por el mismo polígo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vértice es parte (al menos) de un polígon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bserv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La relación compartir arista es relación de equivalencia binaria.  Permite particionar una malla en componentes conex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EDA2-D1F2-4FC1-8D58-F3F6DFC465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Curvas cúbicas por pedaz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pegan exigiendo condiciones de continuidad entre los pedaz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segmento de curva se define por restricciones en los puntos extremos, vectores tangentes y continuidad entre los segmento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nomio cúbic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 coeficient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necesitan 4 restricciones por pedaz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736560"/>
            <a:ext cx="990360" cy="330120"/>
          </a:xfrm>
          <a:custGeom>
            <a:avLst/>
            <a:gdLst/>
            <a:ahLst/>
            <a:rect l="l" t="t" r="r" b="b"/>
            <a:pathLst>
              <a:path w="624" h="208">
                <a:moveTo>
                  <a:pt x="0" y="208"/>
                </a:moveTo>
                <a:cubicBezTo>
                  <a:pt x="68" y="120"/>
                  <a:pt x="136" y="32"/>
                  <a:pt x="240" y="16"/>
                </a:cubicBezTo>
                <a:cubicBezTo>
                  <a:pt x="344" y="0"/>
                  <a:pt x="484" y="56"/>
                  <a:pt x="624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596880"/>
            <a:ext cx="1447920" cy="343080"/>
          </a:xfrm>
          <a:custGeom>
            <a:avLst/>
            <a:gdLst/>
            <a:ahLst/>
            <a:rect l="l" t="t" r="r" b="b"/>
            <a:pathLst>
              <a:path w="912" h="216">
                <a:moveTo>
                  <a:pt x="0" y="200"/>
                </a:moveTo>
                <a:cubicBezTo>
                  <a:pt x="8" y="208"/>
                  <a:pt x="16" y="216"/>
                  <a:pt x="48" y="200"/>
                </a:cubicBezTo>
                <a:cubicBezTo>
                  <a:pt x="80" y="184"/>
                  <a:pt x="120" y="136"/>
                  <a:pt x="192" y="104"/>
                </a:cubicBezTo>
                <a:cubicBezTo>
                  <a:pt x="264" y="72"/>
                  <a:pt x="360" y="0"/>
                  <a:pt x="480" y="8"/>
                </a:cubicBezTo>
                <a:cubicBezTo>
                  <a:pt x="600" y="16"/>
                  <a:pt x="756" y="84"/>
                  <a:pt x="912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838080"/>
            <a:ext cx="1219320" cy="266760"/>
          </a:xfrm>
          <a:custGeom>
            <a:avLst/>
            <a:gdLst/>
            <a:ahLst/>
            <a:rect l="l" t="t" r="r" b="b"/>
            <a:pathLst>
              <a:path w="768" h="168">
                <a:moveTo>
                  <a:pt x="0" y="0"/>
                </a:moveTo>
                <a:cubicBezTo>
                  <a:pt x="72" y="60"/>
                  <a:pt x="144" y="120"/>
                  <a:pt x="240" y="144"/>
                </a:cubicBezTo>
                <a:cubicBezTo>
                  <a:pt x="336" y="168"/>
                  <a:pt x="488" y="168"/>
                  <a:pt x="576" y="144"/>
                </a:cubicBezTo>
                <a:cubicBezTo>
                  <a:pt x="664" y="120"/>
                  <a:pt x="716" y="60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4DBB-52AF-480B-98DC-7000006FB1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Tipos de curvas cúbicas por pedaz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rm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puntos extremos y dos vectores tangent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éz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puntos extremos y otros dos puntos de control que controlan los vectores tangentes en los puntos extrem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os tipos de splines definidos por 4 puntos de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58DF-DF91-4711-A520-4A3EF9218C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urva cúbica paramétr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(t) = [x(t) y(t) z(t)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(t) =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+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(t) =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+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(t) =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+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tricial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(t) = [x(t) y(t) z(t)] = 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= [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 1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rivada de Q(t): vector tangente paramétr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[3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2t   1    0] 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24120" y="3124080"/>
            <a:ext cx="10447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5360" y="350532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200400"/>
            <a:ext cx="152640" cy="1066680"/>
          </a:xfrm>
          <a:custGeom>
            <a:avLst/>
            <a:gdLst/>
            <a:ahLst/>
            <a:rect l="l" t="t" r="r" b="b"/>
            <a:pathLst>
              <a:path w="96" h="624">
                <a:moveTo>
                  <a:pt x="96" y="0"/>
                </a:moveTo>
                <a:lnTo>
                  <a:pt x="0" y="0"/>
                </a:lnTo>
                <a:lnTo>
                  <a:pt x="0" y="624"/>
                </a:lnTo>
                <a:lnTo>
                  <a:pt x="96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324480" y="3200040"/>
            <a:ext cx="152640" cy="1066680"/>
          </a:xfrm>
          <a:custGeom>
            <a:avLst/>
            <a:gdLst/>
            <a:ahLst/>
            <a:rect l="l" t="t" r="r" b="b"/>
            <a:pathLst>
              <a:path w="96" h="624">
                <a:moveTo>
                  <a:pt x="96" y="0"/>
                </a:moveTo>
                <a:lnTo>
                  <a:pt x="0" y="0"/>
                </a:lnTo>
                <a:lnTo>
                  <a:pt x="0" y="624"/>
                </a:lnTo>
                <a:lnTo>
                  <a:pt x="96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905120" y="4724280"/>
                <a:ext cx="37717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'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 x 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8FD2-D01C-4FDC-9EA6-2E15BEA43E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Tipos de continuidad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os segmentos de curva se unen tienen continuidad geométrica G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as direcciones (pero no necesariamente las magnitudes) de los vectores tangentes son iguales en la juntu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tinuidad geométrica G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frecuente en CA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ndientes geométricas de los segmentos tangentes son igu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kT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con k &gt;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os vectores tangentes de dos segmentos cúbicos son iguales (direcciones y magnitudes iguales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tinuidad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rivada n-ésim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tinuidad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bservación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’(t) es velocidad de un punto en una curva con respecto al parámetro t; la segunda derivada es la aceler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9A1E-69F0-43CF-9E90-D15FBA1615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¿Cómo se introducen las restricciones?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pedazo de curva se escribe com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(t) = T 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x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reescribe C en función de una base de los polinomios que son considera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=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x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tor de las restricciones geométr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puntos extremos y vectores tangen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tor columna de los componentes x del vecto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ométr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CE1A-7D66-4DB8-8EC6-EB6E2F479F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Curvas de Hermite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tricciones en los puntos extremos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en los vectores tangentes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puntos extrem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necesario encontrar la base de Hermite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4267080"/>
            <a:ext cx="1143000" cy="114300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0" y="720"/>
                </a:moveTo>
                <a:cubicBezTo>
                  <a:pt x="104" y="696"/>
                  <a:pt x="208" y="672"/>
                  <a:pt x="288" y="576"/>
                </a:cubicBezTo>
                <a:cubicBezTo>
                  <a:pt x="368" y="480"/>
                  <a:pt x="408" y="240"/>
                  <a:pt x="480" y="144"/>
                </a:cubicBezTo>
                <a:cubicBezTo>
                  <a:pt x="552" y="48"/>
                  <a:pt x="636" y="24"/>
                  <a:pt x="7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5410080"/>
            <a:ext cx="771480" cy="9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82840" y="38703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77560" y="42512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82280" y="53182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7960" y="54100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71DD0-EED3-49B1-9923-73DCD209B0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Representación / modelación de superficie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4920" y="21333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llas de polígo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 paramétricas (superficies curv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28FD-868C-44C7-8B0E-B06D37E6C0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38088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va de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143000" y="838080"/>
                <a:ext cx="180324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437640" y="838080"/>
            <a:ext cx="17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[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  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562720" y="914400"/>
                <a:ext cx="99036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143000" y="2362320"/>
            <a:ext cx="632448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(t) =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+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T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T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diciones (restricciones) que definen la curva en coordenada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(0) =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x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[0 0 0 1]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(1) =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[1 1 1 1]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emás,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’(t) = [3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2t  1  0]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’(0) =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[ 0   0   1  0]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’(1)=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[3  2  1  0]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CFC3-9A75-4B28-9F6E-7A25F22C71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8301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4 Restricciones junt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438280" y="1295280"/>
                <a:ext cx="135900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898800" y="1314360"/>
                <a:ext cx="299736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0  0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1   1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0  1  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3277440" y="18288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124080"/>
            <a:ext cx="64008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álogamente para y,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A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/premultiplicado por A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=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= A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727280" y="4654440"/>
                <a:ext cx="39621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2  -2   1 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3    3 -2-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0    0   1   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9ED8-BC16-4059-A5D0-2E328D97FA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685800"/>
            <a:ext cx="70866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(t) =  [x(t)   y(t)  z(t)]  = 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expandie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(t) 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2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3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1)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-2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2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t)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+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)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:  funciones de mezc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12600">
            <a:off x="4304880" y="1257120"/>
            <a:ext cx="152640" cy="685800"/>
          </a:xfrm>
          <a:custGeom>
            <a:avLst/>
            <a:gdLst>
              <a:gd name="textAreaLeft" fmla="*/ 97560 w 152640"/>
              <a:gd name="textAreaRight" fmla="*/ 15300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79F7-2C37-4E72-A1B0-AA48AA6735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02800" cy="577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AC79-9B28-4BAF-930E-48CD29A756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62012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47A7-FB35-41C1-8A86-2A40F8472C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Curvas de Bezier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definen en función d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nd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 los extremos del segment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 solo puntos de control. 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 puntos de control e interpola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vectores tangentes en los puntos extremos se definen indirectamente en función los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’(0) = 3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’(1) = 3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667400" y="4102200"/>
                <a:ext cx="393696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A87C-01B2-4044-A941-9B57050CCE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Curvas de Bezier (cont.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838080" y="1600200"/>
                <a:ext cx="482616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609480" y="3200400"/>
            <a:ext cx="670572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B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 matriz de traspaso de la geomet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de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489040" y="4152960"/>
                <a:ext cx="40770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1     3   -3   1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3  -6     3   0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3    3     0   0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650680" y="5954760"/>
            <a:ext cx="29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inomios de Bern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581280" y="5867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6E6B-337E-4B17-886B-C20F106FF5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Curvas de Bezier (cont.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olinomios de Bernstein so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 suma es uno para cada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rva de Bezier está contenida en el cierre convexo de los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útil para reducir trabajo al hacer clipp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BFDE-E497-426A-A154-50A9520494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Spline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plines naturales (usados en métodos numéric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-Splin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mputación Gráf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C643-E20B-46C9-96D9-407B87BDC6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Spline Cúbico natural</a:t>
            </a:r>
            <a:br>
              <a:rPr sz="3200"/>
            </a:b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ne continuidad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más que Hermite y Bez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coeficientes de los polinomios en cada segmento dependen de todos los puntos de contr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ventaja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álcul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vertir matriz de (n + 1) x (n +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vimiento de un punto afecta toda la cur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0873-6539-4DA8-B209-5E1668FF51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211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Motivación en ingenie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2133720"/>
            <a:ext cx="6553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aplicaciones de la industria de entreten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G) no interesa la “modelación precisa” 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ción precisa” de obje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aplicaciones de ciencias, ingeniería y medicina,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ención y manejo de modelos o representa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 una  precisión requerida es un problema complej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import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0A49-78A6-455A-847C-4ABC2328BA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B-Spline cúbico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ficientes de los segmentos de polinomios dependen de pocos puntos de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local: movimiento de un punto afecta solo 4 segmentos cúbic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o tiempo de cálcul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E133-EB4D-4B9C-91BB-9A7BCCF47A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Notación especial B-Splines cúbic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m+1) puntos de control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... Pm con m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m-1) nodos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extremos de los parámetros de los segmentos de las curva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...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+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UNIFORME: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i-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m-2) segmentos de curvas cúbica 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finida para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; m = 3 (1 curv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finida para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1 puntos de control: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CF57-0C46-4698-B4CD-76EEFF7A76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Matricialmente B-Spline cúbico uniforme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B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•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B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[ (t-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-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-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1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86000" y="2895480"/>
                <a:ext cx="4343400" cy="31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D01B-C308-4F63-A196-307874B96CF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segmento definido por 4 pu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punto de control influye sobre 4 curva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inuidad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tre 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definir curva cerrada se repiten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final de la cur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 forzar a interpolar puntos de control repitiendo los pu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352680" y="4419720"/>
            <a:ext cx="2819160" cy="1003320"/>
            <a:chOff x="3352680" y="4419720"/>
            <a:chExt cx="2819160" cy="1003320"/>
          </a:xfrm>
        </p:grpSpPr>
        <p:sp>
          <p:nvSpPr>
            <p:cNvPr id="173" name=""/>
            <p:cNvSpPr/>
            <p:nvPr/>
          </p:nvSpPr>
          <p:spPr>
            <a:xfrm>
              <a:off x="3352680" y="4419720"/>
              <a:ext cx="1643400" cy="1003320"/>
            </a:xfrm>
            <a:custGeom>
              <a:avLst/>
              <a:gdLst/>
              <a:ahLst/>
              <a:rect l="l" t="t" r="r" b="b"/>
              <a:pathLst>
                <a:path w="1296" h="784">
                  <a:moveTo>
                    <a:pt x="0" y="96"/>
                  </a:moveTo>
                  <a:cubicBezTo>
                    <a:pt x="140" y="48"/>
                    <a:pt x="280" y="0"/>
                    <a:pt x="432" y="96"/>
                  </a:cubicBezTo>
                  <a:cubicBezTo>
                    <a:pt x="584" y="192"/>
                    <a:pt x="768" y="560"/>
                    <a:pt x="912" y="672"/>
                  </a:cubicBezTo>
                  <a:cubicBezTo>
                    <a:pt x="1056" y="784"/>
                    <a:pt x="1176" y="776"/>
                    <a:pt x="1296" y="7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54680" y="4424760"/>
              <a:ext cx="1217160" cy="987840"/>
            </a:xfrm>
            <a:custGeom>
              <a:avLst/>
              <a:gdLst/>
              <a:ahLst/>
              <a:rect l="l" t="t" r="r" b="b"/>
              <a:pathLst>
                <a:path w="960" h="772">
                  <a:moveTo>
                    <a:pt x="0" y="768"/>
                  </a:moveTo>
                  <a:cubicBezTo>
                    <a:pt x="29" y="757"/>
                    <a:pt x="89" y="772"/>
                    <a:pt x="177" y="700"/>
                  </a:cubicBezTo>
                  <a:cubicBezTo>
                    <a:pt x="265" y="628"/>
                    <a:pt x="430" y="437"/>
                    <a:pt x="528" y="336"/>
                  </a:cubicBezTo>
                  <a:cubicBezTo>
                    <a:pt x="626" y="235"/>
                    <a:pt x="696" y="152"/>
                    <a:pt x="768" y="96"/>
                  </a:cubicBezTo>
                  <a:cubicBezTo>
                    <a:pt x="840" y="40"/>
                    <a:pt x="900" y="20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531240" y="3886200"/>
            <a:ext cx="54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ebdings"/>
                <a:ea typeface="Webdings"/>
              </a:rPr>
              <a:t>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70560" y="3897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60040" y="3886200"/>
            <a:ext cx="54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ebdings"/>
                <a:ea typeface="Webdings"/>
              </a:rPr>
              <a:t>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80440" y="5337000"/>
            <a:ext cx="6076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ebdings"/>
                <a:ea typeface="Webdings"/>
              </a:rPr>
              <a:t>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36000" y="5791320"/>
            <a:ext cx="54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ebdings"/>
                <a:ea typeface="Webdings"/>
              </a:rPr>
              <a:t>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67000" y="4125960"/>
            <a:ext cx="3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54640" y="4038480"/>
            <a:ext cx="3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6720" y="5410080"/>
            <a:ext cx="3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7040" y="495288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8480" y="502920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47EB-AEBD-48B9-B45B-7A3F8E1648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B-Spline general (no uniforme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ás general y más flex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iones de mezcla Bi(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) =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) +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) +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) +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on polinomios de tercer grado y se construyen recursivamente en función de polinomios de grado 0, 1, 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F28E-B86B-421F-8E25-C3E3A76479A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Superficies Paramétricas Bicúbica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ámetros s,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rmite, Bezier, B-Splines, NURB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edazos de superficies (y las curvas) se pueden subdividir para mejorar la aproximación agregando NO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RBS: non-uniform rational B-Sp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:  Usar las funciones de OpenGL relacionadas con curvas y superficies (OpenGL “avanzado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F429-4EFF-4BD1-84A4-596C58FC8AF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12960" y="457200"/>
            <a:ext cx="731664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E5C9-862B-4E8D-8019-8893C6CF11B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586F-DC7A-4604-93D3-0F1FD82F40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54380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A8AE-4EFE-41FC-A868-909DC6087CD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mallas de polígonos pueden ser poco adecuadas para objetos con caras curv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vas y superficies cúbicas paramétricas se usan ampliamente en CG y C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veen control lo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 aproximar o interpolar los puntos de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utacionalmente eficien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inamiento por subdivisión y adición de no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nsforman fácilmente, transformando los puntos de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mas importantes: despliegue y rendering de superficies paramétr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CBFE-B53A-4F85-82E3-CF3AB27ECC1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71600" y="6094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Motivación en 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198108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vas y superficies se usan en muchas aplicaciones de Computación Grá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os objetos del mundo real son intrínsicamente “suaves”: aplicaciones CAD en ingeniería, fonts de alta calidad, el camino de una cámara u objeto en secuencia anim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 tipos de modelación de curvas y superf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ación de objeto que existe (automóvil, montañ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tir de “cero”:  se modela (construye) el objeto a través del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CE7B-1B3E-4ED7-9D67-9A2039F62B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Triangulacione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o especial de malla de polígo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usada en CG y aplicaciones de ingenierí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ación de superficies: 2D, 2½D, 3D; abiertas y cerrad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versátil para aproximar bien geometrías complejas con mallas no unifor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triángulo (polígono) define exactamente un pla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s difícil de manejar que mallas de cuadriláteros (algoritmos, estructura de dat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ulaciones para CG: tema de gran desarrollo en los últimos añ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0610-4D6D-49E9-AB87-1A94DBB3574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Problemas actuales en CG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r modelos con distinta resolución de un objeto 3D: triangulaciones jerárqu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do un objeto 3D escaneado, obtener una representación que use el mínimo número de puntos necesario dados los requerimie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resentaciones comprimi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S: En las aplicaciones se necesitan “buenas triangulacion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A012-A58D-41EC-B934-B012BB433F3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Problemas algorítmicos con Triangulaciones (algunos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rizar conjunto de puntos en 2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rización óptima para algún criter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rizar conjunto de puntos sobre una superficie en 3D (abierta o cerra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rización de volumen (puntos asociados a un obje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ción de un objeto dada su geometrí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ción automática de “buena calidad” de un obje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A000-8E2C-4B73-B472-C704BC74992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ulaciones jerárquicas de un obje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s de simplificación de triangul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s de refinamiento de triangul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s de mejoramiento de triangul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ulaciones no obtusas (o poco obtus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2A1B-11D2-4F47-8B49-ECFC555CAB8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Triangulación válida (aceptable o conforme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 = {vértice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= {triángulo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triángulos se intersectan en vértice o arista comú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90920" y="4038480"/>
            <a:ext cx="1752480" cy="1295640"/>
            <a:chOff x="2590920" y="4038480"/>
            <a:chExt cx="1752480" cy="1295640"/>
          </a:xfrm>
        </p:grpSpPr>
        <p:sp>
          <p:nvSpPr>
            <p:cNvPr id="205" name=""/>
            <p:cNvSpPr/>
            <p:nvPr/>
          </p:nvSpPr>
          <p:spPr>
            <a:xfrm>
              <a:off x="2590920" y="4038480"/>
              <a:ext cx="1752480" cy="12956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14680" y="4691160"/>
              <a:ext cx="17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CADF-DA3A-4704-BD61-8290DE86D91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Triangulación Delaunay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= {triángulos}      P = {vértice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incluye todos los vértices de P y es triangulación váli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odo triángulo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(t): círculo cirncunscrito de t no contiene en su interior ningún vértice de 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1073800">
            <a:off x="2268000" y="4114440"/>
            <a:ext cx="1828800" cy="762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33520" y="4738680"/>
            <a:ext cx="1809720" cy="1266840"/>
          </a:xfrm>
          <a:custGeom>
            <a:avLst/>
            <a:gdLst/>
            <a:ahLst/>
            <a:rect l="l" t="t" r="r" b="b"/>
            <a:pathLst>
              <a:path w="1140" h="798">
                <a:moveTo>
                  <a:pt x="9" y="183"/>
                </a:moveTo>
                <a:lnTo>
                  <a:pt x="0" y="168"/>
                </a:lnTo>
                <a:lnTo>
                  <a:pt x="685" y="798"/>
                </a:lnTo>
                <a:lnTo>
                  <a:pt x="11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09760" y="4100400"/>
            <a:ext cx="1847880" cy="146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10400" y="44038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90560" y="56991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81480" y="59529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6A30-75F3-46F1-87C7-B5058602AC7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o que ex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ción matemática puede no estar dispon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 describirse con pedazos de planos, esferas u otras formas curvas fáciles describ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requiere que puntos del modelo estén “cerca” de puntos del objeto re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o a partir de ce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puede esculpir interactiva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ción matemát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ción aproxim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D494E-6A29-4767-8CED-5C861B6EDD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Tipos de model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ción de superfic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llas de polígo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 paramétr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 polinómicas por pedaz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 (tema muy ampli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ción de sóli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resentación de volúmenes “rodeados” totalmente por superficies (cubo , avión, edifici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llas de polígo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resentan bien objetos poliédric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roximan superficies curvas (no siempre es adecua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AC12-C697-4819-9697-3FEC710BF2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Tipos de modelos (cont.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837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ción de curvas en el espac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vas polinomiales paramétrica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es polinomios en función de un parámetro x = x (t), y = y (t), z = z (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vas por pedazos polinomi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 polinomiales por pedazos bivariados (dos variables) x = x (u, v), y =  y (u, v) z = z (u, v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bordes de cada pedazo son curvas polinomiales paramétr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necesitan pocos pedazos (comparado con mallas de polígonos) para obtener precisión d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oritmos para manejar polinomios bivariados son más complejos que los algoritmos para mallas de polígo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 cúb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das implícitamente por ecuación f(x, y, z) = 0 donde f es polinomio cúb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9270-4B98-4C22-A95D-F6359489DB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Mallas (abiertas) de polígon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ección de aristas, vértices y caras tales 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arista es compartida por dos polígono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arista conecta dos vért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 es secuencia cerrada de aristas (o vérti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vértice es compartido al menos por dos aris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stas, vértices y cara son elementos topológic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íneas (segmentos), puntos y polígonos son elementos geométric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E4E1-3F27-4CBD-88E4-9A299AA6DB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as de polígonos pueden representarse de varias maneras distintas, cada una con ventajas y desventaj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elegir la representación más adecuada para cada aplicación evalu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ún criterios de espacio versus tiemp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ntrar aristas que inciden en un vér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ntrar polígonos que compartan un vértice o una ari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ntrar aristas de un polígo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legar la mal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r errores en la represent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9FE1-8A5C-409C-9A5E-C2C4BBE275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3:19Z</dcterms:created>
  <dc:creator>francia</dc:creator>
  <dc:description/>
  <dc:language>en-US</dc:language>
  <cp:lastModifiedBy>pedrito</cp:lastModifiedBy>
  <cp:lastPrinted>2003-10-15T14:48:26Z</cp:lastPrinted>
  <dcterms:modified xsi:type="dcterms:W3CDTF">2008-05-07T15:57:37Z</dcterms:modified>
  <cp:revision>48</cp:revision>
  <dc:subject/>
  <dc:title>Algoritmos raster</dc:title>
</cp:coreProperties>
</file>