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88400" cy="102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16520" y="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87120" y="766440"/>
            <a:ext cx="5111640" cy="383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  <a:defRPr b="0" lang="es-C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F5E4076-928D-4A55-862E-CA3C11D9AEC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258EFDC2-744B-4B92-8A5B-6EE785576B9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5B1FAD4-EA38-4401-B0AD-97BC698D5634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B0A4704-E8A4-4038-9BB4-C61D92E4047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342A48B3-9135-48FE-88C4-55EA8BA1C456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F33482DE-7A92-4557-A12C-044C4A58279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C3DE8C2-E278-4982-B901-409416D2AA7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ABDC981-C46B-4BA4-B486-093150D3CDE1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6439274-F4DB-45D3-8764-A772CBA3C442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A21D827E-E67A-4857-B79F-BBA18600BF23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FB27362-A965-4B5E-B37C-93AE60995E57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73E789F6-BE06-41CD-BC6A-381114A4271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37F0A60-15DA-4578-9EBA-B2A18388ED85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84173C48-80E8-4B33-B2AC-158A23F3B6FB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8BD2616-87AA-4B42-9DC0-1D648FD4A1AD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16520" y="9710640"/>
            <a:ext cx="3070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4F22D4C0-FD80-4922-B50E-801B0AF419EF}" type="slidenum">
              <a:rPr b="0" lang="es-C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7480" y="766800"/>
            <a:ext cx="5111640" cy="3833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4280" y="4855680"/>
            <a:ext cx="51973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6BD-331A-4CC2-9A33-438F302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D23-E0F0-410A-9255-323DFEE9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6E6-3BCA-41F3-9BBD-997519B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06C-EA77-4F99-B25D-89B92601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A52-3D76-4E2D-8913-8C1D19AF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8E43-2939-49F2-95F2-2C024449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C8B1-F81A-471B-8E9A-80563962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B2F-4794-4DF2-A9BD-E3E43976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272-C09C-4CCE-AD4F-F9B38A13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611-3A8E-48DF-9D41-F2224F0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B07-B8BA-4E24-93AA-3481B4F8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223-1038-4F6E-8B80-8B022B0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7E14-20AA-4A1B-859E-DAC1BF387FD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3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8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pecificaciones Descriptiv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2978-9755-4936-BF28-5C39281B5A46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656320" y="2438280"/>
            <a:ext cx="1353960" cy="7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419720" y="3962520"/>
            <a:ext cx="1353960" cy="7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udi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75640" y="3962520"/>
            <a:ext cx="1353960" cy="7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505320" y="5700600"/>
            <a:ext cx="1353960" cy="7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cenci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34120" y="5700600"/>
            <a:ext cx="1353960" cy="7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5921280" y="3403440"/>
            <a:ext cx="860400" cy="55908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8"/>
          <p:cNvCxnSpPr>
            <a:stCxn id="157" idx="2"/>
            <a:endCxn id="162" idx="0"/>
          </p:cNvCxnSpPr>
          <p:nvPr/>
        </p:nvCxnSpPr>
        <p:spPr>
          <a:xfrm>
            <a:off x="6334200" y="3214800"/>
            <a:ext cx="18000" cy="18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4" name="AutoShape 9"/>
          <p:cNvCxnSpPr>
            <a:stCxn id="162" idx="1"/>
            <a:endCxn id="158" idx="0"/>
          </p:cNvCxnSpPr>
          <p:nvPr/>
        </p:nvCxnSpPr>
        <p:spPr>
          <a:xfrm flipV="1" rot="10800000">
            <a:off x="5096880" y="3682800"/>
            <a:ext cx="824400" cy="28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0"/>
          <p:cNvCxnSpPr>
            <a:stCxn id="162" idx="3"/>
            <a:endCxn id="159" idx="0"/>
          </p:cNvCxnSpPr>
          <p:nvPr/>
        </p:nvCxnSpPr>
        <p:spPr>
          <a:xfrm>
            <a:off x="6781320" y="3683160"/>
            <a:ext cx="772200" cy="28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AutoShape 11"/>
          <p:cNvSpPr/>
          <p:nvPr/>
        </p:nvSpPr>
        <p:spPr>
          <a:xfrm>
            <a:off x="4648320" y="4927680"/>
            <a:ext cx="860400" cy="5587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12"/>
          <p:cNvCxnSpPr>
            <a:stCxn id="158" idx="2"/>
            <a:endCxn id="166" idx="0"/>
          </p:cNvCxnSpPr>
          <p:nvPr/>
        </p:nvCxnSpPr>
        <p:spPr>
          <a:xfrm flipH="1">
            <a:off x="5077800" y="4738320"/>
            <a:ext cx="1980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8" name="AutoShape 13"/>
          <p:cNvCxnSpPr>
            <a:stCxn id="166" idx="1"/>
            <a:endCxn id="160" idx="0"/>
          </p:cNvCxnSpPr>
          <p:nvPr/>
        </p:nvCxnSpPr>
        <p:spPr>
          <a:xfrm flipV="1" rot="10800000">
            <a:off x="4182480" y="5205960"/>
            <a:ext cx="465840" cy="49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AutoShape 14"/>
          <p:cNvCxnSpPr>
            <a:stCxn id="166" idx="3"/>
            <a:endCxn id="161" idx="0"/>
          </p:cNvCxnSpPr>
          <p:nvPr/>
        </p:nvCxnSpPr>
        <p:spPr>
          <a:xfrm>
            <a:off x="5508720" y="5206680"/>
            <a:ext cx="504000" cy="49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" name="Oval 15"/>
          <p:cNvSpPr/>
          <p:nvPr/>
        </p:nvSpPr>
        <p:spPr>
          <a:xfrm>
            <a:off x="7238880" y="20574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72388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17"/>
          <p:cNvCxnSpPr>
            <a:stCxn id="170" idx="2"/>
            <a:endCxn id="157" idx="3"/>
          </p:cNvCxnSpPr>
          <p:nvPr/>
        </p:nvCxnSpPr>
        <p:spPr>
          <a:xfrm flipH="1">
            <a:off x="7009560" y="2286000"/>
            <a:ext cx="22932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AutoShape 18"/>
          <p:cNvCxnSpPr>
            <a:stCxn id="171" idx="2"/>
            <a:endCxn id="157" idx="3"/>
          </p:cNvCxnSpPr>
          <p:nvPr/>
        </p:nvCxnSpPr>
        <p:spPr>
          <a:xfrm flipH="1">
            <a:off x="7009560" y="2819520"/>
            <a:ext cx="22932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Oval 19"/>
          <p:cNvSpPr/>
          <p:nvPr/>
        </p:nvSpPr>
        <p:spPr>
          <a:xfrm>
            <a:off x="2666880" y="5715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AutoShape 20"/>
          <p:cNvCxnSpPr>
            <a:stCxn id="174" idx="6"/>
            <a:endCxn id="160" idx="1"/>
          </p:cNvCxnSpPr>
          <p:nvPr/>
        </p:nvCxnSpPr>
        <p:spPr>
          <a:xfrm>
            <a:off x="3200040" y="5943600"/>
            <a:ext cx="30564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Oval 21"/>
          <p:cNvSpPr/>
          <p:nvPr/>
        </p:nvSpPr>
        <p:spPr>
          <a:xfrm>
            <a:off x="7086600" y="58672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AutoShape 22"/>
          <p:cNvCxnSpPr>
            <a:stCxn id="176" idx="2"/>
            <a:endCxn id="161" idx="3"/>
          </p:cNvCxnSpPr>
          <p:nvPr/>
        </p:nvCxnSpPr>
        <p:spPr>
          <a:xfrm flipH="1" flipV="1">
            <a:off x="6687360" y="6089040"/>
            <a:ext cx="39924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" name="Oval 23"/>
          <p:cNvSpPr/>
          <p:nvPr/>
        </p:nvSpPr>
        <p:spPr>
          <a:xfrm>
            <a:off x="3505320" y="41148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ngr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24"/>
          <p:cNvCxnSpPr>
            <a:stCxn id="178" idx="6"/>
            <a:endCxn id="158" idx="1"/>
          </p:cNvCxnSpPr>
          <p:nvPr/>
        </p:nvCxnSpPr>
        <p:spPr>
          <a:xfrm>
            <a:off x="4038120" y="4343400"/>
            <a:ext cx="38196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" name="Oval 25"/>
          <p:cNvSpPr/>
          <p:nvPr/>
        </p:nvSpPr>
        <p:spPr>
          <a:xfrm>
            <a:off x="7238880" y="31240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acult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AutoShape 26"/>
          <p:cNvCxnSpPr>
            <a:stCxn id="157" idx="3"/>
            <a:endCxn id="180" idx="2"/>
          </p:cNvCxnSpPr>
          <p:nvPr/>
        </p:nvCxnSpPr>
        <p:spPr>
          <a:xfrm>
            <a:off x="7009920" y="2827080"/>
            <a:ext cx="22932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Oval 27"/>
          <p:cNvSpPr/>
          <p:nvPr/>
        </p:nvSpPr>
        <p:spPr>
          <a:xfrm>
            <a:off x="2666880" y="62485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speci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28"/>
          <p:cNvCxnSpPr>
            <a:stCxn id="182" idx="6"/>
            <a:endCxn id="160" idx="1"/>
          </p:cNvCxnSpPr>
          <p:nvPr/>
        </p:nvCxnSpPr>
        <p:spPr>
          <a:xfrm flipV="1">
            <a:off x="3200040" y="6089400"/>
            <a:ext cx="305640" cy="388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Oval 29"/>
          <p:cNvSpPr/>
          <p:nvPr/>
        </p:nvSpPr>
        <p:spPr>
          <a:xfrm>
            <a:off x="8458200" y="38098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0"/>
          <p:cNvSpPr/>
          <p:nvPr/>
        </p:nvSpPr>
        <p:spPr>
          <a:xfrm>
            <a:off x="8458200" y="44197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31"/>
          <p:cNvCxnSpPr>
            <a:stCxn id="184" idx="2"/>
            <a:endCxn id="159" idx="3"/>
          </p:cNvCxnSpPr>
          <p:nvPr/>
        </p:nvCxnSpPr>
        <p:spPr>
          <a:xfrm flipH="1">
            <a:off x="8228880" y="4038120"/>
            <a:ext cx="2293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AutoShape 32"/>
          <p:cNvCxnSpPr>
            <a:stCxn id="185" idx="2"/>
            <a:endCxn id="159" idx="3"/>
          </p:cNvCxnSpPr>
          <p:nvPr/>
        </p:nvCxnSpPr>
        <p:spPr>
          <a:xfrm flipH="1" flipV="1">
            <a:off x="8228880" y="4350600"/>
            <a:ext cx="22932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Her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2560" y="192852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agramas ER permiten especificar jerarquías de entidades mediante relaciones especiales: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s u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objeto subordinado hereda todos los atributos de su ancestro y puede agregar algún otro atrib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haber herencia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últiple, pero esto pue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er problemas de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onsist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EC6-ACA6-4B56-B979-A58EB70FFCA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ipos de atribu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85840" y="2176560"/>
            <a:ext cx="84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tos compues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 pueden dividir en sub-partes más pequeñas, que representan atributos más básicos con significados propios. Por ejemplo, una "dirección" puede sub-dividirse en: Dir_calle, Comuna, Ciudad, Región. Ejempl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5" descr="img30"/>
          <p:cNvPicPr/>
          <p:nvPr/>
        </p:nvPicPr>
        <p:blipFill>
          <a:blip r:embed="rId1"/>
          <a:stretch/>
        </p:blipFill>
        <p:spPr>
          <a:xfrm>
            <a:off x="2252520" y="4157640"/>
            <a:ext cx="470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1C4-48B9-4257-9845-CAA2F88B365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ipos de atribu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57120" y="2100240"/>
            <a:ext cx="8494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atributos no sub-divisibles se llama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ómic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tos de valor simp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on los que tienen un sólo valor para una entidad particular. Por ejemplo: 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tributos multivalora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ueden tener un conjunto de valores para una misma entidad. Por ejemplo: "títulos profesionales" (una persona puede no tener ninguno, uno, dos o más)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os diagramas E-R, los atributos multivalorados se representan con elipses do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32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algunos casos una entidad particular puede no tener valores aplicables para un atributo. Ejemplo: "depto". Para estas situaciones se usa un valor especial llamado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También se usa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 no se conoce el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73A2-D61A-45CF-BE55-14336491F5F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99" name="Picture 9" descr="img25"/>
          <p:cNvPicPr/>
          <p:nvPr/>
        </p:nvPicPr>
        <p:blipFill>
          <a:blip r:embed="rId1"/>
          <a:stretch/>
        </p:blipFill>
        <p:spPr>
          <a:xfrm>
            <a:off x="231840" y="1428840"/>
            <a:ext cx="86979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67AF-6DA2-48AB-99C9-5CAF99303EA0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n Resume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iagramas ER son muy ampliamente usados en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altamente expresivos y fáciles de entender por personas no especi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herramientas de apoyo al diseño de diagramas 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usan como base para el diseño de base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1374-3B8C-4237-8871-64BB91ECEE4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as Desventajas de los Diagramas 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71680" y="210024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tación concisa para especificar los datos manejados por una apl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la notación no es estánd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herencia no siempre se expresa igu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una relación es de 1 a N puede indicarse solamente con una línea (sin romb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eces se ponen los atributos y a veces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rtos análisis pueden aplicarse al mod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la notación es limitada para especificar propiedades comple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6270-3DCA-4052-826F-C76FF362BB9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agramas Entidad-Rel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iagramas de ER describen conceptualmente la estructura de los da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claro si la especificación de datos o de funcionalidad debe hacerse pri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atos suelen ser más estables para definir el dominio de aplicación, pero la funcionalidad puede ayudar mejor a comprender este domi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tres concepto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idad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E48C-86EC-49DB-A8DC-5106AF24476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663640" cy="6955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3" descr=""/>
          <p:cNvPicPr/>
          <p:nvPr/>
        </p:nvPicPr>
        <p:blipFill>
          <a:blip r:embed="rId2"/>
          <a:stretch/>
        </p:blipFill>
        <p:spPr>
          <a:xfrm>
            <a:off x="6477120" y="2441520"/>
            <a:ext cx="1441440" cy="2054160"/>
          </a:xfrm>
          <a:prstGeom prst="rect">
            <a:avLst/>
          </a:prstGeom>
          <a:ln w="0">
            <a:noFill/>
          </a:ln>
        </p:spPr>
      </p:pic>
      <p:pic>
        <p:nvPicPr>
          <p:cNvPr id="56" name="Object 4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2663640" cy="695160"/>
          </a:xfrm>
          <a:prstGeom prst="rect">
            <a:avLst/>
          </a:prstGeom>
          <a:ln w="0">
            <a:noFill/>
          </a:ln>
        </p:spPr>
      </p:pic>
      <p:pic>
        <p:nvPicPr>
          <p:cNvPr id="57" name="Object 5" descr=""/>
          <p:cNvPicPr/>
          <p:nvPr/>
        </p:nvPicPr>
        <p:blipFill>
          <a:blip r:embed="rId4"/>
          <a:stretch/>
        </p:blipFill>
        <p:spPr>
          <a:xfrm>
            <a:off x="1295280" y="2212920"/>
            <a:ext cx="1441440" cy="2054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79440" y="1905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038840" y="194004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629040" y="20160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123440" y="2781360"/>
            <a:ext cx="1128600" cy="13136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107960" y="4495680"/>
            <a:ext cx="1140840" cy="1618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r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086960" y="447984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7086600" y="4495680"/>
            <a:ext cx="0" cy="6447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2743200" y="346716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3200400" y="514044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ceptos de 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B4C0-4F7C-4656-A940-F3ABFD80042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934320" y="320040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nt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entidad es una colección de objetos que comparten ciertas propiedades (similar a un tip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ropiedades de la entidad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 atribu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relaciones en las que partici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pos usuales de ent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as: reporte, una pantalla de desplieg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chos o eventos: llamada telefónica, ma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es: vendedor, estudi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dades administrativas: departamentos o sec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ugares: talleres, galpones, escuel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s: archivos, pi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3C3-9F11-4484-8E40-95755A2F5FB1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5219640" y="5486400"/>
          <a:ext cx="3624480" cy="12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5486400"/>
                    <a:ext cx="362448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Object 3" descr=""/>
          <p:cNvPicPr/>
          <p:nvPr/>
        </p:nvPicPr>
        <p:blipFill>
          <a:blip r:embed="rId3"/>
          <a:stretch/>
        </p:blipFill>
        <p:spPr>
          <a:xfrm>
            <a:off x="1785960" y="5791320"/>
            <a:ext cx="2282760" cy="59508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4"/>
          <p:cNvSpPr/>
          <p:nvPr/>
        </p:nvSpPr>
        <p:spPr>
          <a:xfrm>
            <a:off x="5062680" y="5943600"/>
            <a:ext cx="3657600" cy="304920"/>
          </a:xfrm>
          <a:prstGeom prst="wedgeRoundRectCallout">
            <a:avLst>
              <a:gd name="adj1" fmla="val -73523"/>
              <a:gd name="adj2" fmla="val 43231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5"/>
          <p:cNvGrpSpPr/>
          <p:nvPr/>
        </p:nvGrpSpPr>
        <p:grpSpPr>
          <a:xfrm>
            <a:off x="6400800" y="1676520"/>
            <a:ext cx="2438280" cy="2590200"/>
            <a:chOff x="6400800" y="1676520"/>
            <a:chExt cx="2438280" cy="2590200"/>
          </a:xfrm>
        </p:grpSpPr>
        <p:sp>
          <p:nvSpPr>
            <p:cNvPr id="78" name="Rectangle 6"/>
            <p:cNvSpPr/>
            <p:nvPr/>
          </p:nvSpPr>
          <p:spPr>
            <a:xfrm>
              <a:off x="6400800" y="2590560"/>
              <a:ext cx="144792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utomó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7"/>
            <p:cNvSpPr/>
            <p:nvPr/>
          </p:nvSpPr>
          <p:spPr>
            <a:xfrm>
              <a:off x="8305920" y="1676520"/>
              <a:ext cx="5331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r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"/>
            <p:cNvSpPr/>
            <p:nvPr/>
          </p:nvSpPr>
          <p:spPr>
            <a:xfrm>
              <a:off x="8305920" y="2209680"/>
              <a:ext cx="5331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ode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9"/>
            <p:cNvSpPr/>
            <p:nvPr/>
          </p:nvSpPr>
          <p:spPr>
            <a:xfrm>
              <a:off x="8305920" y="2743200"/>
              <a:ext cx="5331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ñ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"/>
            <p:cNvSpPr/>
            <p:nvPr/>
          </p:nvSpPr>
          <p:spPr>
            <a:xfrm>
              <a:off x="8305920" y="3276360"/>
              <a:ext cx="5331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trícu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8305920" y="3809880"/>
              <a:ext cx="533160" cy="4568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12"/>
            <p:cNvCxnSpPr>
              <a:stCxn id="79" idx="3"/>
              <a:endCxn id="78" idx="3"/>
            </p:cNvCxnSpPr>
            <p:nvPr/>
          </p:nvCxnSpPr>
          <p:spPr>
            <a:xfrm flipH="1">
              <a:off x="7848360" y="2066400"/>
              <a:ext cx="53568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" name="AutoShape 13"/>
            <p:cNvCxnSpPr>
              <a:stCxn id="80" idx="2"/>
              <a:endCxn id="78" idx="3"/>
            </p:cNvCxnSpPr>
            <p:nvPr/>
          </p:nvCxnSpPr>
          <p:spPr>
            <a:xfrm flipH="1">
              <a:off x="7848360" y="2437920"/>
              <a:ext cx="457920" cy="57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" name="AutoShape 14"/>
            <p:cNvCxnSpPr>
              <a:stCxn id="81" idx="2"/>
              <a:endCxn id="78" idx="3"/>
            </p:cNvCxnSpPr>
            <p:nvPr/>
          </p:nvCxnSpPr>
          <p:spPr>
            <a:xfrm flipH="1">
              <a:off x="7848360" y="2971440"/>
              <a:ext cx="457920" cy="3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AutoShape 15"/>
            <p:cNvCxnSpPr>
              <a:stCxn id="82" idx="2"/>
              <a:endCxn id="78" idx="3"/>
            </p:cNvCxnSpPr>
            <p:nvPr/>
          </p:nvCxnSpPr>
          <p:spPr>
            <a:xfrm flipH="1" flipV="1">
              <a:off x="7848360" y="3009600"/>
              <a:ext cx="457920" cy="49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" name="AutoShape 16"/>
            <p:cNvCxnSpPr>
              <a:stCxn id="83" idx="1"/>
              <a:endCxn id="78" idx="3"/>
            </p:cNvCxnSpPr>
            <p:nvPr/>
          </p:nvCxnSpPr>
          <p:spPr>
            <a:xfrm flipH="1" flipV="1">
              <a:off x="7848360" y="3009600"/>
              <a:ext cx="535680" cy="86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tribu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7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en las propiedades de las entidades (y a veces también de las rela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usan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mbre una instancia de la e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ribir la instanc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cer referencia a una instancia en otra ent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atributo (o conjunto de atributos) llave o clave es el que identifica un único elemento de la ent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C9B-A2DB-42CB-B318-B236FB6D23B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6505560" y="3581280"/>
            <a:ext cx="1371600" cy="762120"/>
          </a:xfrm>
          <a:prstGeom prst="diamond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591240" y="157176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uto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8334360" y="7621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8334360" y="12952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8334360" y="18288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ñ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8334360" y="23623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tríc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8334360" y="289548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9"/>
          <p:cNvCxnSpPr>
            <a:stCxn id="94" idx="3"/>
            <a:endCxn id="93" idx="3"/>
          </p:cNvCxnSpPr>
          <p:nvPr/>
        </p:nvCxnSpPr>
        <p:spPr>
          <a:xfrm flipH="1">
            <a:off x="8038800" y="1152000"/>
            <a:ext cx="37368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AutoShape 10"/>
          <p:cNvCxnSpPr>
            <a:stCxn id="95" idx="2"/>
            <a:endCxn id="93" idx="3"/>
          </p:cNvCxnSpPr>
          <p:nvPr/>
        </p:nvCxnSpPr>
        <p:spPr>
          <a:xfrm flipH="1">
            <a:off x="8039160" y="1522800"/>
            <a:ext cx="2955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AutoShape 11"/>
          <p:cNvCxnSpPr>
            <a:stCxn id="96" idx="2"/>
            <a:endCxn id="93" idx="3"/>
          </p:cNvCxnSpPr>
          <p:nvPr/>
        </p:nvCxnSpPr>
        <p:spPr>
          <a:xfrm flipH="1" flipV="1">
            <a:off x="8039160" y="1990080"/>
            <a:ext cx="295560" cy="6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AutoShape 12"/>
          <p:cNvCxnSpPr>
            <a:stCxn id="97" idx="2"/>
            <a:endCxn id="93" idx="3"/>
          </p:cNvCxnSpPr>
          <p:nvPr/>
        </p:nvCxnSpPr>
        <p:spPr>
          <a:xfrm flipH="1" flipV="1">
            <a:off x="8039160" y="1990080"/>
            <a:ext cx="29556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AutoShape 13"/>
          <p:cNvCxnSpPr>
            <a:stCxn id="98" idx="1"/>
            <a:endCxn id="93" idx="3"/>
          </p:cNvCxnSpPr>
          <p:nvPr/>
        </p:nvCxnSpPr>
        <p:spPr>
          <a:xfrm flipH="1" flipV="1">
            <a:off x="8038800" y="1990080"/>
            <a:ext cx="3736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Rectangle 14"/>
          <p:cNvSpPr/>
          <p:nvPr/>
        </p:nvSpPr>
        <p:spPr>
          <a:xfrm>
            <a:off x="6357960" y="5410080"/>
            <a:ext cx="151920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cesio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5"/>
          <p:cNvCxnSpPr>
            <a:stCxn id="93" idx="2"/>
            <a:endCxn id="92" idx="0"/>
          </p:cNvCxnSpPr>
          <p:nvPr/>
        </p:nvCxnSpPr>
        <p:spPr>
          <a:xfrm flipH="1">
            <a:off x="7191000" y="2409840"/>
            <a:ext cx="124560" cy="117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AutoShape 16"/>
          <p:cNvCxnSpPr>
            <a:stCxn id="92" idx="2"/>
            <a:endCxn id="104" idx="0"/>
          </p:cNvCxnSpPr>
          <p:nvPr/>
        </p:nvCxnSpPr>
        <p:spPr>
          <a:xfrm flipH="1">
            <a:off x="7117560" y="4343040"/>
            <a:ext cx="73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Oval 17"/>
          <p:cNvSpPr/>
          <p:nvPr/>
        </p:nvSpPr>
        <p:spPr>
          <a:xfrm>
            <a:off x="8410680" y="495288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8410680" y="54864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9"/>
          <p:cNvSpPr/>
          <p:nvPr/>
        </p:nvSpPr>
        <p:spPr>
          <a:xfrm>
            <a:off x="8410680" y="601992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spons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20"/>
          <p:cNvCxnSpPr>
            <a:stCxn id="107" idx="2"/>
            <a:endCxn id="104" idx="3"/>
          </p:cNvCxnSpPr>
          <p:nvPr/>
        </p:nvCxnSpPr>
        <p:spPr>
          <a:xfrm flipH="1">
            <a:off x="7876800" y="5181480"/>
            <a:ext cx="5342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AutoShape 21"/>
          <p:cNvCxnSpPr>
            <a:stCxn id="108" idx="2"/>
            <a:endCxn id="104" idx="3"/>
          </p:cNvCxnSpPr>
          <p:nvPr/>
        </p:nvCxnSpPr>
        <p:spPr>
          <a:xfrm flipH="1">
            <a:off x="7876800" y="5715000"/>
            <a:ext cx="5342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AutoShape 22"/>
          <p:cNvCxnSpPr>
            <a:stCxn id="109" idx="2"/>
            <a:endCxn id="104" idx="3"/>
          </p:cNvCxnSpPr>
          <p:nvPr/>
        </p:nvCxnSpPr>
        <p:spPr>
          <a:xfrm flipH="1" flipV="1">
            <a:off x="7876800" y="5829120"/>
            <a:ext cx="53424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3" name="Oval 23"/>
          <p:cNvSpPr/>
          <p:nvPr/>
        </p:nvSpPr>
        <p:spPr>
          <a:xfrm>
            <a:off x="8334360" y="3733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24"/>
          <p:cNvCxnSpPr>
            <a:stCxn id="92" idx="3"/>
            <a:endCxn id="113" idx="2"/>
          </p:cNvCxnSpPr>
          <p:nvPr/>
        </p:nvCxnSpPr>
        <p:spPr>
          <a:xfrm>
            <a:off x="7877160" y="39621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lementos de datos se conectan de distintas fo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relación R entre dos entidades A y B es un conjunto de parejas &lt;a,b&gt; dond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y b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las relaciones son entre dos entidades, pero pueden participar má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elaciones también pueden tener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relaciones tienen ademá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din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8E72-A69B-4FF8-9D5A-628DFC0CAD1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agrama de 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diagramas ER fueron propuestos por Chen en 1977 para el diseño de base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tributos suelen omitirse para no complicar excesivamente el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1600200" y="3657600"/>
            <a:ext cx="6019920" cy="2971440"/>
            <a:chOff x="1600200" y="3657600"/>
            <a:chExt cx="6019920" cy="2971440"/>
          </a:xfrm>
        </p:grpSpPr>
        <p:sp>
          <p:nvSpPr>
            <p:cNvPr id="121" name="Rectangle 5"/>
            <p:cNvSpPr/>
            <p:nvPr/>
          </p:nvSpPr>
          <p:spPr>
            <a:xfrm>
              <a:off x="1664280" y="4923000"/>
              <a:ext cx="1216800" cy="605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utomóv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274440" y="4923000"/>
              <a:ext cx="1216800" cy="605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abric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7"/>
            <p:cNvSpPr/>
            <p:nvPr/>
          </p:nvSpPr>
          <p:spPr>
            <a:xfrm>
              <a:off x="3906000" y="4868640"/>
              <a:ext cx="1407960" cy="77004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ab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AutoShape 8"/>
            <p:cNvCxnSpPr>
              <a:stCxn id="121" idx="3"/>
              <a:endCxn id="123" idx="1"/>
            </p:cNvCxnSpPr>
            <p:nvPr/>
          </p:nvCxnSpPr>
          <p:spPr>
            <a:xfrm>
              <a:off x="2881080" y="5226120"/>
              <a:ext cx="102492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AutoShape 9"/>
            <p:cNvCxnSpPr>
              <a:stCxn id="123" idx="3"/>
              <a:endCxn id="122" idx="1"/>
            </p:cNvCxnSpPr>
            <p:nvPr/>
          </p:nvCxnSpPr>
          <p:spPr>
            <a:xfrm flipV="1">
              <a:off x="5313960" y="5225760"/>
              <a:ext cx="96120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Rectangle 10"/>
            <p:cNvSpPr/>
            <p:nvPr/>
          </p:nvSpPr>
          <p:spPr>
            <a:xfrm>
              <a:off x="3970080" y="3767400"/>
              <a:ext cx="1215360" cy="60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cesion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"/>
            <p:cNvSpPr/>
            <p:nvPr/>
          </p:nvSpPr>
          <p:spPr>
            <a:xfrm>
              <a:off x="1600200" y="3657600"/>
              <a:ext cx="1409400" cy="77004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en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AutoShape 12"/>
            <p:cNvCxnSpPr>
              <a:stCxn id="127" idx="2"/>
              <a:endCxn id="121" idx="0"/>
            </p:cNvCxnSpPr>
            <p:nvPr/>
          </p:nvCxnSpPr>
          <p:spPr>
            <a:xfrm flipH="1">
              <a:off x="2272680" y="4427640"/>
              <a:ext cx="3168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9" name="AutoShape 13"/>
            <p:cNvCxnSpPr>
              <a:stCxn id="127" idx="3"/>
              <a:endCxn id="126" idx="1"/>
            </p:cNvCxnSpPr>
            <p:nvPr/>
          </p:nvCxnSpPr>
          <p:spPr>
            <a:xfrm>
              <a:off x="3009600" y="4042080"/>
              <a:ext cx="96120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AutoShape 14"/>
            <p:cNvSpPr/>
            <p:nvPr/>
          </p:nvSpPr>
          <p:spPr>
            <a:xfrm>
              <a:off x="6146280" y="3657600"/>
              <a:ext cx="1409400" cy="77004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utori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AutoShape 15"/>
            <p:cNvCxnSpPr>
              <a:stCxn id="126" idx="3"/>
              <a:endCxn id="130" idx="1"/>
            </p:cNvCxnSpPr>
            <p:nvPr/>
          </p:nvCxnSpPr>
          <p:spPr>
            <a:xfrm flipV="1">
              <a:off x="5185800" y="4041720"/>
              <a:ext cx="96120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AutoShape 16"/>
            <p:cNvCxnSpPr>
              <a:stCxn id="130" idx="2"/>
              <a:endCxn id="122" idx="0"/>
            </p:cNvCxnSpPr>
            <p:nvPr/>
          </p:nvCxnSpPr>
          <p:spPr>
            <a:xfrm>
              <a:off x="6851520" y="4427640"/>
              <a:ext cx="31680" cy="496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3" name="Rectangle 17"/>
            <p:cNvSpPr/>
            <p:nvPr/>
          </p:nvSpPr>
          <p:spPr>
            <a:xfrm>
              <a:off x="4034160" y="5913720"/>
              <a:ext cx="1215720" cy="605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Transportis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8"/>
            <p:cNvSpPr/>
            <p:nvPr/>
          </p:nvSpPr>
          <p:spPr>
            <a:xfrm>
              <a:off x="1600200" y="5859000"/>
              <a:ext cx="1409400" cy="77004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Transpor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5" name="AutoShape 19"/>
            <p:cNvCxnSpPr>
              <a:stCxn id="121" idx="2"/>
              <a:endCxn id="134" idx="0"/>
            </p:cNvCxnSpPr>
            <p:nvPr/>
          </p:nvCxnSpPr>
          <p:spPr>
            <a:xfrm>
              <a:off x="2272680" y="5528520"/>
              <a:ext cx="31680" cy="33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AutoShape 20"/>
            <p:cNvCxnSpPr>
              <a:stCxn id="134" idx="3"/>
              <a:endCxn id="133" idx="1"/>
            </p:cNvCxnSpPr>
            <p:nvPr/>
          </p:nvCxnSpPr>
          <p:spPr>
            <a:xfrm flipV="1">
              <a:off x="3009240" y="6216480"/>
              <a:ext cx="102492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AutoShape 21"/>
            <p:cNvSpPr/>
            <p:nvPr/>
          </p:nvSpPr>
          <p:spPr>
            <a:xfrm>
              <a:off x="6210720" y="5859000"/>
              <a:ext cx="1409400" cy="77004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tr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AutoShape 22"/>
            <p:cNvCxnSpPr>
              <a:stCxn id="133" idx="3"/>
              <a:endCxn id="137" idx="1"/>
            </p:cNvCxnSpPr>
            <p:nvPr/>
          </p:nvCxnSpPr>
          <p:spPr>
            <a:xfrm>
              <a:off x="5250240" y="6216840"/>
              <a:ext cx="961200" cy="27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9" name="AutoShape 23"/>
            <p:cNvCxnSpPr>
              <a:stCxn id="122" idx="2"/>
              <a:endCxn id="137" idx="0"/>
            </p:cNvCxnSpPr>
            <p:nvPr/>
          </p:nvCxnSpPr>
          <p:spPr>
            <a:xfrm>
              <a:off x="6882840" y="5528520"/>
              <a:ext cx="33480" cy="33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0" name="Text Box 24"/>
            <p:cNvSpPr/>
            <p:nvPr/>
          </p:nvSpPr>
          <p:spPr>
            <a:xfrm>
              <a:off x="6069960" y="4989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5"/>
            <p:cNvSpPr/>
            <p:nvPr/>
          </p:nvSpPr>
          <p:spPr>
            <a:xfrm>
              <a:off x="2869200" y="49788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6"/>
            <p:cNvSpPr/>
            <p:nvPr/>
          </p:nvSpPr>
          <p:spPr>
            <a:xfrm>
              <a:off x="3779280" y="599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7"/>
            <p:cNvSpPr/>
            <p:nvPr/>
          </p:nvSpPr>
          <p:spPr>
            <a:xfrm>
              <a:off x="3651120" y="3849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8"/>
            <p:cNvSpPr/>
            <p:nvPr/>
          </p:nvSpPr>
          <p:spPr>
            <a:xfrm>
              <a:off x="2246400" y="46915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29"/>
            <p:cNvSpPr/>
            <p:nvPr/>
          </p:nvSpPr>
          <p:spPr>
            <a:xfrm>
              <a:off x="2304360" y="5609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0"/>
            <p:cNvSpPr/>
            <p:nvPr/>
          </p:nvSpPr>
          <p:spPr>
            <a:xfrm>
              <a:off x="5252040" y="5994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1"/>
            <p:cNvSpPr/>
            <p:nvPr/>
          </p:nvSpPr>
          <p:spPr>
            <a:xfrm>
              <a:off x="6589800" y="55249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2"/>
            <p:cNvSpPr/>
            <p:nvPr/>
          </p:nvSpPr>
          <p:spPr>
            <a:xfrm>
              <a:off x="5314680" y="3737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3"/>
            <p:cNvSpPr/>
            <p:nvPr/>
          </p:nvSpPr>
          <p:spPr>
            <a:xfrm>
              <a:off x="6853680" y="469152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75C4-ACDF-4E97-B68F-9B676F58F34C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ardin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rdinalidad de una relación es el número de instancias de una entidad que se relacionan con cada instancia de la otra e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a uno (1:1): cada objeto de A se relaciona con a lo sumo uno y sólo un objeto de B (ej: profesor - oficina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a muchos (1:N): cada objeto de A se relaciona con cero o más objetos de B, pero cada objeto de B se relaciona con sólo un objeto de A (ej: madre - hij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os a muchos (M:N): cada objeto de A puede  relacionarse con varios objetos de B, y cada objeto de B puede relacionarse con varios objetos de A (ej: autor - libr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A5CE-DCCE-4317-A4F0-D0971029BF44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piedades de las Rel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7360" y="23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lación R entre las entidades A y B es 1:N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&lt;a,b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’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| &lt;a’,b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765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relación R entre las entidades A y B es 1:1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&lt;a,b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’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| &lt;a’,b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’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’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 | &lt;a,b’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b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luguerre</cp:lastModifiedBy>
  <cp:lastPrinted>2005-04-14T18:14:31Z</cp:lastPrinted>
  <dcterms:modified xsi:type="dcterms:W3CDTF">2008-04-29T18:33:27Z</dcterms:modified>
  <cp:revision>37</cp:revision>
  <dc:subject/>
  <dc:title>CC31B: Desarrollo de Software de Aplicaciones</dc:title>
</cp:coreProperties>
</file>