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5503863" cy="7332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13A-04F3-4436-85ED-5F9525F7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CD3-C0F2-4E54-B276-3BE1A0E6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D8A-9859-45D4-B96C-F899ED35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5B4-8CB5-4026-9A3E-24C731E2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9F8-4DA1-4C11-BEB5-C7B30826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E08-FE66-48E2-8F8B-E202BA3B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912-689A-448E-8021-A991BD2E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916-40D4-4C20-8842-C69BE946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A90-B67B-42D9-963F-E2F4AE5E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A7C-1ADC-432D-8E4C-158BBACF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3F0-BA13-44C3-8A7F-D884D933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B9FF-9A62-4FA6-91BE-32ACD894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FA60-7595-4D06-A8C1-77E03F738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00240" y="692280"/>
          <a:ext cx="701352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692280"/>
                    <a:ext cx="701352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95360" y="65556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5556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78040" y="544680"/>
          <a:ext cx="745956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45956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versión de coorden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981080"/>
          <a:ext cx="7772400" cy="3429000"/>
        </p:xfrm>
        <a:graphic>
          <a:graphicData uri="http://schemas.openxmlformats.org/drawingml/2006/table">
            <a:tbl>
              <a:tblPr/>
              <a:tblGrid>
                <a:gridCol w="1149480"/>
                <a:gridCol w="2736720"/>
                <a:gridCol w="1295280"/>
                <a:gridCol w="2590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(x+100)/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=x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- H y/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192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41440" y="493560"/>
          <a:ext cx="8397720" cy="766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93560"/>
                    <a:ext cx="8397720" cy="766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14796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,         //f: referencia a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,             //nº de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a, double b,//extremos 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ics g,        //objet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W, int H)      //ancho y alto de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valor(double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07960" y="507960"/>
          <a:ext cx="8420040" cy="590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07960"/>
                    <a:ext cx="842004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62120" y="482760"/>
          <a:ext cx="7861320" cy="631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2760"/>
                    <a:ext cx="7861320" cy="63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4160" y="368280"/>
          <a:ext cx="882648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368280"/>
                    <a:ext cx="882648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57200" y="484200"/>
          <a:ext cx="8283600" cy="56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4200"/>
                    <a:ext cx="828360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43040" y="457200"/>
          <a:ext cx="76071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57200"/>
                    <a:ext cx="76071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56592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awt.*; import java.awt.even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Cosen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s Frame implements Action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[]ar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SenoCoseno().show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int W=300, H=2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Canvas cv=new Canva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TextField puntos=new TextFiel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abel pregunta=new Label(“nºpuntos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=new Button(“quit”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=new Button(“seno”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eno=new Button(“coseno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-38160"/>
            <a:ext cx="914400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Cosen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 p=new Panel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.setLayout(new Gridlayout(1,5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.add(seno); p.add(cosen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.add(pregunta); p.add(puntos); p.add(qu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Size(W,H+2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ayout(new BorderLayou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”Center”,cv); add(”South”,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ctivar escuch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en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04640"/>
            <a:ext cx="889308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Perfor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ctionEve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x.getSource()==quit) System.exit(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=Integer.parseInt(puntos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ics g=cv.getGraphic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x.getSource()==se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new Seno(),n,0,2*Math.PI,g,W,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new Coseno(),n,0,2*Math.PI,g,W,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511200" y="496800"/>
          <a:ext cx="82962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96800"/>
                    <a:ext cx="829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24000" y="17640"/>
          <a:ext cx="8421480" cy="67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640"/>
                    <a:ext cx="8421480" cy="67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63800" y="531720"/>
          <a:ext cx="721188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531720"/>
                    <a:ext cx="72118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65160" y="730080"/>
          <a:ext cx="721188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65160" y="841320"/>
          <a:ext cx="721188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41320"/>
                    <a:ext cx="721188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819520" y="16002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65160" y="730080"/>
          <a:ext cx="721188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101600" y="717480"/>
          <a:ext cx="71992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717480"/>
                    <a:ext cx="71992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98400" y="528480"/>
          <a:ext cx="822960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28480"/>
                    <a:ext cx="822960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79400" y="550800"/>
          <a:ext cx="78534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50800"/>
                    <a:ext cx="78534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6-04-21T23:26:38Z</cp:lastPrinted>
  <dcterms:modified xsi:type="dcterms:W3CDTF">2008-04-21T18:31:41Z</dcterms:modified>
  <cp:revision>24</cp:revision>
  <dc:subject/>
  <dc:title>Sin título de diapositiva</dc:title>
</cp:coreProperties>
</file>