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C73A-29B3-4F62-8158-982063A5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537-2E41-42C0-B069-5EEECDF8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805-0201-43AF-BEB8-961C81E8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E9B-548B-4FC8-9341-6411E7AB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2B8-7619-4813-B121-CDAEF4F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DD3-4709-4D10-84CA-83625020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C5B-FB3A-4532-A58B-DA9E63D0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3D6-A54D-4D0F-8218-47401B9A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BC0-173B-4B21-836A-26D1970A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4BC-EDF6-4DBC-8D8B-B6B2A5C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234-86DA-4D48-B4FF-5CF6F1D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549-6A2D-42E6-ABCA-77AF120B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8FE-2A90-4AEE-AEDA-E52A033B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88880" y="438120"/>
          <a:ext cx="8379000" cy="680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379000" cy="680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438120"/>
          <a:ext cx="8604360" cy="67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438120"/>
                    <a:ext cx="8604360" cy="67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6200" y="388800"/>
          <a:ext cx="8680320" cy="622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88800"/>
                    <a:ext cx="868032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6200" y="399960"/>
          <a:ext cx="872964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399960"/>
                    <a:ext cx="872964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12920" y="399960"/>
          <a:ext cx="8731080" cy="790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99960"/>
                    <a:ext cx="8731080" cy="79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81040" y="519120"/>
          <a:ext cx="8190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19120"/>
                    <a:ext cx="8190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38120" y="525600"/>
          <a:ext cx="850572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525600"/>
                    <a:ext cx="850572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0880" y="525600"/>
          <a:ext cx="8016840" cy="62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0880" y="525600"/>
                    <a:ext cx="8016840" cy="62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0720" y="450720"/>
          <a:ext cx="852984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450720"/>
                    <a:ext cx="852984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0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91" idx="0"/>
            <a:endCxn id="77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399960"/>
          <a:ext cx="8191440" cy="65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399960"/>
                    <a:ext cx="81914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clases “obligatorio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335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19 mej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19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12920"/>
          <a:ext cx="8467560" cy="71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12920"/>
                    <a:ext cx="8467560" cy="71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327240"/>
            <a:ext cx="8977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Leer desde (posición del cursor de)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un máximo de N lín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Entregar también nº de líneas leí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er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BufferedReader archivo, String[]lineas, int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ows IO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(linea=archivo.readLine())!=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n&gt;=N) U.abortar(“max de lineas =“+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s[n++] =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9960" y="399960"/>
          <a:ext cx="860580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60580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399960"/>
          <a:ext cx="85060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399960"/>
                    <a:ext cx="85060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14440" y="450720"/>
          <a:ext cx="829152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50720"/>
                    <a:ext cx="829152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76280" y="450720"/>
          <a:ext cx="829152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29152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8-06-25T16:15:37Z</dcterms:modified>
  <cp:revision>31</cp:revision>
  <dc:subject/>
  <dc:title>Sin título de diapositiva</dc:title>
</cp:coreProperties>
</file>