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563-211F-4F65-8626-8F4AFEEE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38D-061B-4506-9FBE-813E8253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421-C4DB-4B6E-9EAE-65030CF7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D72-6063-4898-B0D2-E228F49D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B1F-092C-4006-A4CA-C5557FEE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BFF-2F41-43B7-8611-5534F590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9DD-C2A4-4429-B956-698772EE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917-A3AC-45EE-8341-79F84AA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F1D-1B2D-4922-B8A0-CC7CF70E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D8B-FE85-4ABA-9AF5-681A15F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16D-896C-4C62-A6A3-2FE27709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CD4-E130-4318-84F7-70191C3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AA61-E71F-4775-A9FF-C69C146DE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2160" y="493560"/>
          <a:ext cx="8025120" cy="60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493560"/>
                    <a:ext cx="8025120" cy="60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88880" y="438120"/>
          <a:ext cx="8379000" cy="680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379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88880" y="438120"/>
          <a:ext cx="8604360" cy="67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60436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6200" y="388800"/>
          <a:ext cx="8680320" cy="622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88800"/>
                    <a:ext cx="868032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6200" y="399960"/>
          <a:ext cx="872964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9960"/>
                    <a:ext cx="872964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12920" y="399960"/>
          <a:ext cx="873108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99960"/>
                    <a:ext cx="873108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81040" y="519120"/>
          <a:ext cx="81900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19120"/>
                    <a:ext cx="8190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38120" y="525600"/>
          <a:ext cx="850572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525600"/>
                    <a:ext cx="850572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50880" y="525600"/>
          <a:ext cx="8016840" cy="625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525600"/>
                    <a:ext cx="8016840" cy="62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0720" y="450720"/>
          <a:ext cx="852984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450720"/>
                    <a:ext cx="852984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0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91" idx="0"/>
            <a:endCxn id="77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399960"/>
          <a:ext cx="819144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99960"/>
                    <a:ext cx="819144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916280"/>
            <a:ext cx="8569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 clases “obligatorio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335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ju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19 mej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19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12920"/>
          <a:ext cx="8467560" cy="71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12920"/>
                    <a:ext cx="8467560" cy="71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327240"/>
            <a:ext cx="89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Leer desde (posición del cursor de)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un máximo de N lí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ntregar también nº de líneas leí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er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ufferedReader archivo, String[]lineas, 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(linea=archivo.readLine())!=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n&gt;=N) U.abortar(“max de lineas =“+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s[n++] =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9960" y="399960"/>
          <a:ext cx="860580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60580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9960" y="399960"/>
          <a:ext cx="85060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5060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82640" y="601560"/>
          <a:ext cx="790416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01560"/>
                    <a:ext cx="79041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14440" y="450720"/>
          <a:ext cx="829152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50720"/>
                    <a:ext cx="829152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76280" y="450720"/>
          <a:ext cx="829152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29152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06-20T14:58:23Z</cp:lastPrinted>
  <dcterms:modified xsi:type="dcterms:W3CDTF">2008-06-25T16:15:37Z</dcterms:modified>
  <cp:revision>31</cp:revision>
  <dc:subject/>
  <dc:title>Sin título de diapositiva</dc:title>
</cp:coreProperties>
</file>