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8E8-8DF8-415B-8FF1-2ABB63C5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655-3D2D-43F6-86BD-B603158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345-97F5-4D53-B19A-3721C458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A94-C26F-4AF3-982B-598924F5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A4E-EDA9-4845-B286-81D4CFC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0AC-3CA3-4517-9791-C7C182B8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668-DA57-4842-BE8B-FB2F515B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0E5-CCBA-497C-9B79-117CEF2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7BD-1980-48D3-92E3-2C77511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1EF-2FC2-4E8F-8777-2C47046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087-7F51-40DC-BD87-3E82D04E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2DC-7752-4A71-9F92-C20F53E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ABC-31C4-438A-8669-B38FA17B5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81040" y="519120"/>
          <a:ext cx="8190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90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38120" y="525600"/>
          <a:ext cx="850572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525600"/>
                    <a:ext cx="850572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0880" y="525600"/>
          <a:ext cx="8016840" cy="62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525600"/>
                    <a:ext cx="80168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0720" y="450720"/>
          <a:ext cx="852984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450720"/>
                    <a:ext cx="852984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0"/>
            <a:endCxn id="77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clases “obligatorio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19 mej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19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32724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(linea=archivo.readLine())!=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n&gt;=N) U.abortar(“max de lineas =“+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8-06-25T16:15:37Z</dcterms:modified>
  <cp:revision>31</cp:revision>
  <dc:subject/>
  <dc:title>Sin título de diapositiva</dc:title>
</cp:coreProperties>
</file>