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05F-60DF-42DD-A251-27793840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E27-4AFC-4805-9C59-E9FB52B8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84C-F93D-43C7-A3A0-7DD636BB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FF4-4D85-4C1B-9CC1-E14DA158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159-7563-4A31-8481-F80DD4E4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DB8-C583-4545-9C69-0D71BCF7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A12-8048-426D-A8BA-68C5A2AB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FC1-EC04-4E53-BFFF-716B9BCC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EE2-A680-4E95-A2B0-7D19A02C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B23-D0CE-433E-AB80-1D57B08D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21C-734D-4E7B-BDA1-34CCE779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B8E-2051-45B8-92ED-3D891BA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4D40-16BC-4BF9-8EED-E1B890114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8-06-20T18:39:14Z</dcterms:modified>
  <cp:revision>24</cp:revision>
  <dc:subject/>
  <dc:title>Sin título de diapositiva</dc:title>
</cp:coreProperties>
</file>