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751A-F94D-4C6D-A747-0B712558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F7C-FC00-417F-BADB-5DF4E6F8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63B1-8986-4DBC-9D9F-B18F6593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42F6-9EB9-4346-9BD1-B7EB6A49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5269-5552-4B3C-B75C-0957AE72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5013-A938-4F55-9C16-46325A08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3810-95B5-48D3-9ED6-2D477F5A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4A4A-53F2-4341-81D5-E98CB494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59E4-1B18-45DA-A769-9DC8D513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4954-5B2A-46B6-9559-9A9AC631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E5CB-F1D1-410E-BD69-4C133264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6AA0-3516-4759-B5AC-2A3E6221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6629-3673-4D58-9E45-B3D5EEA84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25600" y="463680"/>
          <a:ext cx="8342280" cy="62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63680"/>
                    <a:ext cx="834228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79400" y="619200"/>
          <a:ext cx="806472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19200"/>
                    <a:ext cx="806472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42960" y="878040"/>
          <a:ext cx="7854840" cy="509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878040"/>
                    <a:ext cx="785484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9800" y="396720"/>
          <a:ext cx="83980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96720"/>
                    <a:ext cx="83980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20840" y="565200"/>
          <a:ext cx="8518320" cy="601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65200"/>
                    <a:ext cx="851832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85920" y="385920"/>
          <a:ext cx="8542080" cy="648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385920"/>
                    <a:ext cx="8542080" cy="64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17680" y="649440"/>
          <a:ext cx="8350200" cy="57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350200" cy="57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9525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rdenar un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poniendo que sólo N líneas caben en memo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76280" y="576360"/>
          <a:ext cx="8142120" cy="612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576360"/>
                    <a:ext cx="8142120" cy="61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68160" y="655560"/>
          <a:ext cx="828864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55560"/>
                    <a:ext cx="82886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55560" y="642960"/>
          <a:ext cx="82263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42960"/>
                    <a:ext cx="82263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2280" y="606600"/>
          <a:ext cx="799128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06600"/>
                    <a:ext cx="799128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93560" y="457200"/>
          <a:ext cx="8493120" cy="67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57200"/>
                    <a:ext cx="849312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76280" y="425520"/>
          <a:ext cx="84549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25520"/>
                    <a:ext cx="84549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3120" y="614520"/>
          <a:ext cx="7951680" cy="76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614520"/>
                    <a:ext cx="7951680" cy="76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4520" y="480960"/>
          <a:ext cx="8096040" cy="608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096040" cy="60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13:24:06Z</dcterms:created>
  <dc:creator>jalvarez</dc:creator>
  <dc:description/>
  <dc:language>en-US</dc:language>
  <cp:lastModifiedBy>jalvarez</cp:lastModifiedBy>
  <cp:lastPrinted>2006-10-02T18:34:45Z</cp:lastPrinted>
  <dcterms:modified xsi:type="dcterms:W3CDTF">2008-06-20T18:39:14Z</dcterms:modified>
  <cp:revision>24</cp:revision>
  <dc:subject/>
  <dc:title>Sin título de diapositiva</dc:title>
</cp:coreProperties>
</file>