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181C-219A-4420-B160-1FBB55C33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1F04-31BE-4379-8F53-9D63B1B2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2B81-0E08-4121-9EB3-AE48EDC74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AA9F-1115-430F-B693-3A4D413B6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19AA-D388-4CCA-BB69-F61444F7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C524-3DA7-4812-99BF-191B0DF7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91BF-E744-4CD0-A24D-10E6E605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D076-FD59-4C6E-A8D2-F715D582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99AB-6185-4272-A2A9-F0B9445E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5556-BAEA-4F57-A3B5-0FE88F3A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204F-8BE2-42C6-AE16-45FD8DCB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74EF-54B9-4923-8DA9-B4B93B11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5E7B-2BA0-492A-A74D-9D4B987F6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25600" y="463680"/>
          <a:ext cx="8342280" cy="624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463680"/>
                    <a:ext cx="8342280" cy="62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79400" y="619200"/>
          <a:ext cx="806472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619200"/>
                    <a:ext cx="806472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42960" y="878040"/>
          <a:ext cx="7854840" cy="509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878040"/>
                    <a:ext cx="7854840" cy="50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69800" y="396720"/>
          <a:ext cx="839808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396720"/>
                    <a:ext cx="839808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20840" y="565200"/>
          <a:ext cx="8518320" cy="601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65200"/>
                    <a:ext cx="8518320" cy="60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85920" y="385920"/>
          <a:ext cx="8542080" cy="648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385920"/>
                    <a:ext cx="8542080" cy="64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17680" y="649440"/>
          <a:ext cx="8350200" cy="577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649440"/>
                    <a:ext cx="8350200" cy="57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9525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ues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Ordenar un archi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uponiendo que sólo N líneas caben en memo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76280" y="576360"/>
          <a:ext cx="8142120" cy="612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576360"/>
                    <a:ext cx="8142120" cy="61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68160" y="655560"/>
          <a:ext cx="8288640" cy="566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655560"/>
                    <a:ext cx="828864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55560" y="642960"/>
          <a:ext cx="822636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642960"/>
                    <a:ext cx="822636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92280" y="606600"/>
          <a:ext cx="799128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606600"/>
                    <a:ext cx="799128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93560" y="457200"/>
          <a:ext cx="8493120" cy="679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457200"/>
                    <a:ext cx="8493120" cy="67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76280" y="425520"/>
          <a:ext cx="8454960" cy="66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425520"/>
                    <a:ext cx="8454960" cy="66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43120" y="614520"/>
          <a:ext cx="7951680" cy="761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614520"/>
                    <a:ext cx="7951680" cy="76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14520" y="480960"/>
          <a:ext cx="8096040" cy="608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480960"/>
                    <a:ext cx="8096040" cy="60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0T13:24:06Z</dcterms:created>
  <dc:creator>jalvarez</dc:creator>
  <dc:description/>
  <dc:language>en-US</dc:language>
  <cp:lastModifiedBy>jalvarez</cp:lastModifiedBy>
  <cp:lastPrinted>2006-10-02T18:34:45Z</cp:lastPrinted>
  <dcterms:modified xsi:type="dcterms:W3CDTF">2008-06-20T18:39:14Z</dcterms:modified>
  <cp:revision>24</cp:revision>
  <dc:subject/>
  <dc:title>Sin título de diapositiva</dc:title>
</cp:coreProperties>
</file>