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6E91-DA65-4D09-A751-FEE5C6121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0AA1-193D-4E81-9260-117F0F29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A23D-567B-4A2A-B41F-4ED6A9EB8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CF8B-6DCB-45B6-868A-6DAC4D8CE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F5D7-E65F-4CEF-8A37-AABFAD34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6628-105F-4DDD-9695-1A20E011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9ADE-3F1E-4C8F-BF9E-4D2F6AED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985C-192A-4C40-80D4-4BCCDC0C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D6BE-4FCC-4612-97B3-09C9B7AE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DD2C-B7DC-4E98-B55D-6FD0075F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7950-027E-476D-A58A-504B0261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4FD0-599D-45E0-A969-72B5E876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97F6-3FF2-4E5F-AC48-F7DE71437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69800" y="531720"/>
          <a:ext cx="8548920" cy="654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531720"/>
                    <a:ext cx="8548920" cy="65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71520" y="668160"/>
          <a:ext cx="838656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520" y="668160"/>
                    <a:ext cx="838656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68160" y="581040"/>
          <a:ext cx="8201160" cy="587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581040"/>
                    <a:ext cx="820116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68160" y="593640"/>
          <a:ext cx="8201160" cy="599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593640"/>
                    <a:ext cx="8201160" cy="599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42960" y="531720"/>
          <a:ext cx="8325000" cy="612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531720"/>
                    <a:ext cx="8325000" cy="61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82760" y="482760"/>
          <a:ext cx="8461080" cy="650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82760"/>
                    <a:ext cx="8461080" cy="65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68440" y="655560"/>
          <a:ext cx="822636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655560"/>
                    <a:ext cx="822636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66800" y="766800"/>
          <a:ext cx="810252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766800"/>
                    <a:ext cx="810252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31720" y="469800"/>
          <a:ext cx="846144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469800"/>
                    <a:ext cx="846144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92280" y="704880"/>
          <a:ext cx="8202600" cy="566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704880"/>
                    <a:ext cx="8202600" cy="56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82760" y="506520"/>
          <a:ext cx="8361360" cy="624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506520"/>
                    <a:ext cx="836136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95360" y="606600"/>
          <a:ext cx="847260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606600"/>
                    <a:ext cx="847260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95280" y="457200"/>
          <a:ext cx="862344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57200"/>
                    <a:ext cx="862344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44680" y="531720"/>
          <a:ext cx="8461080" cy="598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531720"/>
                    <a:ext cx="8461080" cy="59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81120" y="457200"/>
          <a:ext cx="828684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457200"/>
                    <a:ext cx="828684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55560" y="482760"/>
          <a:ext cx="7867800" cy="628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482760"/>
                    <a:ext cx="7867800" cy="62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9200" y="506520"/>
          <a:ext cx="834876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506520"/>
                    <a:ext cx="834876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06520" y="544680"/>
          <a:ext cx="838836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44680"/>
                    <a:ext cx="838836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5T16:05:38Z</dcterms:created>
  <dc:creator>jalvarez</dc:creator>
  <dc:description/>
  <dc:language>en-US</dc:language>
  <cp:lastModifiedBy>jalvarez</cp:lastModifiedBy>
  <cp:lastPrinted>2006-08-11T14:25:28Z</cp:lastPrinted>
  <dcterms:modified xsi:type="dcterms:W3CDTF">2008-06-18T17:13:41Z</dcterms:modified>
  <cp:revision>19</cp:revision>
  <dc:subject/>
  <dc:title>Sin título de diapositiva</dc:title>
</cp:coreProperties>
</file>