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EA1-BC7D-4B41-B886-FFF28A82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E9E-BE80-45B4-99EA-6CF21AD6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51A-DCA0-4E59-A5BE-1DDA6AFD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55E0-1092-423F-B087-69D4EC4E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0335-5FB8-44C8-AC20-AF28FF51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9D00-272B-491F-A992-D9E57E61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6E58-348D-4448-ACA0-BEEE6425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22D-FC16-409A-B2C0-7CC2263D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C273-4139-45A2-A881-7435FB4A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3BF8-6A23-4673-A1D8-2FEB8662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3702-94B6-4F15-BB4D-47975A54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E92A-3670-4911-9588-0324B83F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A741-9C97-4735-A47A-67CFD683C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9800" y="531720"/>
          <a:ext cx="8548920" cy="65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31720"/>
                    <a:ext cx="854892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71520" y="668160"/>
          <a:ext cx="838656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668160"/>
                    <a:ext cx="838656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68160" y="581040"/>
          <a:ext cx="820116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81040"/>
                    <a:ext cx="820116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593640"/>
          <a:ext cx="8201160" cy="59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93640"/>
                    <a:ext cx="8201160" cy="59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42960" y="531720"/>
          <a:ext cx="832500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31720"/>
                    <a:ext cx="832500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482760"/>
          <a:ext cx="8461080" cy="65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61080" cy="65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68440" y="655560"/>
          <a:ext cx="8226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655560"/>
                    <a:ext cx="8226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66800" y="766800"/>
          <a:ext cx="81025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766800"/>
                    <a:ext cx="81025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31720" y="469800"/>
          <a:ext cx="84614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69800"/>
                    <a:ext cx="84614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92280" y="704880"/>
          <a:ext cx="820260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704880"/>
                    <a:ext cx="820260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82760" y="506520"/>
          <a:ext cx="8361360" cy="62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06520"/>
                    <a:ext cx="83613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95360" y="60660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0660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457200"/>
          <a:ext cx="862344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57200"/>
                    <a:ext cx="862344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44680" y="531720"/>
          <a:ext cx="846108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31720"/>
                    <a:ext cx="846108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1120" y="457200"/>
          <a:ext cx="82868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457200"/>
                    <a:ext cx="82868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55560" y="482760"/>
          <a:ext cx="786780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482760"/>
                    <a:ext cx="786780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9200" y="506520"/>
          <a:ext cx="834876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06520"/>
                    <a:ext cx="834876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6520" y="544680"/>
          <a:ext cx="838836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44680"/>
                    <a:ext cx="838836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16:05:38Z</dcterms:created>
  <dc:creator>jalvarez</dc:creator>
  <dc:description/>
  <dc:language>en-US</dc:language>
  <cp:lastModifiedBy>jalvarez</cp:lastModifiedBy>
  <cp:lastPrinted>2006-08-11T14:25:28Z</cp:lastPrinted>
  <dcterms:modified xsi:type="dcterms:W3CDTF">2008-06-18T17:13:41Z</dcterms:modified>
  <cp:revision>19</cp:revision>
  <dc:subject/>
  <dc:title>Sin título de diapositiva</dc:title>
</cp:coreProperties>
</file>