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FE6E-C2A5-4849-AB0F-B2DA32B5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F3E7-FD9E-4F2B-9003-C300E05E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9EA5-7126-4189-A699-FB70501F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3598-85CF-452E-ABF6-E4C34A5A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8655-10B6-48BD-A8D8-29285FC4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3A91-C25E-4213-A213-7D551AD8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93EF-DE5F-4AB3-BD22-5BDF5540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C2FB-1CC0-4234-82ED-64D41ADF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AC65-D994-432A-9ABB-2054E50B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5D25-F11C-4420-A3DE-D97752B4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59D4-C79C-471F-9AEF-0493984A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8EA9-39DF-42F6-AB56-7C4F4955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45B4-F410-49F4-A8B5-D7D506D80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12920" y="351000"/>
          <a:ext cx="8580240" cy="67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351000"/>
                    <a:ext cx="8580240" cy="67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96720" y="480960"/>
          <a:ext cx="8398080" cy="64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480960"/>
                    <a:ext cx="8398080" cy="64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93560" y="565200"/>
          <a:ext cx="8458200" cy="636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65200"/>
                    <a:ext cx="8458200" cy="63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88800" y="399960"/>
          <a:ext cx="7802640" cy="670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99960"/>
                    <a:ext cx="7802640" cy="67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103480" y="166860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200" y="1262160"/>
            <a:ext cx="518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49920" y="12621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38280" y="1190160"/>
            <a:ext cx="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25560" y="17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9612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: operación borrar de TDA dic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rar primer n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360" y="1405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-93600"/>
            <a:ext cx="289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24000" y="1550880"/>
          <a:ext cx="8208720" cy="1217880"/>
        </p:xfrm>
        <a:graphic>
          <a:graphicData uri="http://schemas.openxmlformats.org/drawingml/2006/table">
            <a:tbl>
              <a:tblPr/>
              <a:tblGrid>
                <a:gridCol w="517320"/>
                <a:gridCol w="490680"/>
                <a:gridCol w="1349280"/>
                <a:gridCol w="1427040"/>
                <a:gridCol w="711360"/>
                <a:gridCol w="358920"/>
                <a:gridCol w="1099800"/>
                <a:gridCol w="1517760"/>
                <a:gridCol w="736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a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a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493560" y="2629440"/>
            <a:ext cx="3961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rar nodo inter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-93600"/>
            <a:ext cx="228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-93600"/>
            <a:ext cx="228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24000" y="2951280"/>
          <a:ext cx="8326440" cy="2611440"/>
        </p:xfrm>
        <a:graphic>
          <a:graphicData uri="http://schemas.openxmlformats.org/drawingml/2006/table">
            <a:tbl>
              <a:tblPr/>
              <a:tblGrid>
                <a:gridCol w="216000"/>
                <a:gridCol w="519480"/>
                <a:gridCol w="1059480"/>
                <a:gridCol w="1813680"/>
                <a:gridCol w="885240"/>
                <a:gridCol w="294480"/>
                <a:gridCol w="1165320"/>
                <a:gridCol w="1596240"/>
                <a:gridCol w="776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a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a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0" y="553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578484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boole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rr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Compara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25920" y="18381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8360" y="184464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47640" y="3716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2436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472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101080" y="4797360"/>
            <a:ext cx="82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56000" y="4797360"/>
            <a:ext cx="792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4797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27640" y="5589720"/>
            <a:ext cx="47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76280" y="450720"/>
          <a:ext cx="8104320" cy="598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50720"/>
                    <a:ext cx="8104320" cy="598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63680" y="438120"/>
          <a:ext cx="8454960" cy="657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438120"/>
                    <a:ext cx="8454960" cy="657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701640" y="476280"/>
          <a:ext cx="841680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76280"/>
                    <a:ext cx="841680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750960" y="514440"/>
          <a:ext cx="8116920" cy="62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960" y="514440"/>
                    <a:ext cx="8116920" cy="62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488880" y="501480"/>
          <a:ext cx="8355240" cy="633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501480"/>
                    <a:ext cx="835524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12920" y="225360"/>
          <a:ext cx="8769240" cy="703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225360"/>
                    <a:ext cx="8769240" cy="70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12920" y="450720"/>
          <a:ext cx="8643600" cy="729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450720"/>
                    <a:ext cx="8643600" cy="729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63680" y="351000"/>
          <a:ext cx="8592840" cy="693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51000"/>
                    <a:ext cx="8592840" cy="69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3680" y="363600"/>
          <a:ext cx="8329320" cy="718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63600"/>
                    <a:ext cx="8329320" cy="71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87440" y="666720"/>
          <a:ext cx="81709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440" y="666720"/>
                    <a:ext cx="81709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80960" y="433440"/>
          <a:ext cx="8494920" cy="723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33440"/>
                    <a:ext cx="8494920" cy="72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44600" y="565200"/>
          <a:ext cx="8507160" cy="636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565200"/>
                    <a:ext cx="8507160" cy="63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69800" y="446040"/>
          <a:ext cx="85489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6040"/>
                    <a:ext cx="85489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19:14:29Z</dcterms:created>
  <dc:creator>jalvarez</dc:creator>
  <dc:description/>
  <dc:language>en-US</dc:language>
  <cp:lastModifiedBy>jalvarez</cp:lastModifiedBy>
  <cp:lastPrinted>2006-09-05T13:00:13Z</cp:lastPrinted>
  <dcterms:modified xsi:type="dcterms:W3CDTF">2008-06-17T12:33:46Z</dcterms:modified>
  <cp:revision>35</cp:revision>
  <dc:subject/>
  <dc:title>Sin título de diapositiva</dc:title>
</cp:coreProperties>
</file>