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6CE-CEBD-4E29-873C-79CFB6AC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519-5E01-4EB6-879E-CA56499C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65E-8FF3-4D99-94B8-BAE435EA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625-11A4-48B8-BC55-D4B09D8A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C0D-7620-4D02-8356-E05F4F89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DCE-66D4-4F56-A0D9-B0993A5C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92F-6C2A-420F-A7F3-BEB925FB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BD1-BA2D-4227-8DCA-50E77A62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70E-BE18-4153-82A0-9059BECD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186-6A60-4E0F-A7AF-2C5C1A04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E7C-6633-4A8C-8FCF-1047150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0C1-EEDB-4440-8744-6D763C00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CD8C-3D0C-45ED-B460-CAC58E3BC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2920" y="351000"/>
          <a:ext cx="8580240" cy="67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351000"/>
                    <a:ext cx="8580240" cy="67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6720" y="480960"/>
          <a:ext cx="839808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39808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565200"/>
          <a:ext cx="845820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65200"/>
                    <a:ext cx="84582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8800" y="399960"/>
          <a:ext cx="780264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780264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03480" y="1668600"/>
            <a:ext cx="5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200" y="1262160"/>
            <a:ext cx="518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49920" y="1262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38280" y="1190160"/>
            <a:ext cx="0" cy="3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25560" y="1766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9612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operación borrar de TDA di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primer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360" y="1405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-93600"/>
            <a:ext cx="28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1550880"/>
          <a:ext cx="8208720" cy="1217880"/>
        </p:xfrm>
        <a:graphic>
          <a:graphicData uri="http://schemas.openxmlformats.org/drawingml/2006/table">
            <a:tbl>
              <a:tblPr/>
              <a:tblGrid>
                <a:gridCol w="517320"/>
                <a:gridCol w="490680"/>
                <a:gridCol w="1349280"/>
                <a:gridCol w="1427040"/>
                <a:gridCol w="711360"/>
                <a:gridCol w="358920"/>
                <a:gridCol w="1099800"/>
                <a:gridCol w="1517760"/>
                <a:gridCol w="736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93560" y="2629440"/>
            <a:ext cx="39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rar nod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93600"/>
            <a:ext cx="228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24000" y="2951280"/>
          <a:ext cx="8326440" cy="2611440"/>
        </p:xfrm>
        <a:graphic>
          <a:graphicData uri="http://schemas.openxmlformats.org/drawingml/2006/table">
            <a:tbl>
              <a:tblPr/>
              <a:tblGrid>
                <a:gridCol w="216000"/>
                <a:gridCol w="519480"/>
                <a:gridCol w="1059480"/>
                <a:gridCol w="1813680"/>
                <a:gridCol w="885240"/>
                <a:gridCol w="294480"/>
                <a:gridCol w="1165320"/>
                <a:gridCol w="1596240"/>
                <a:gridCol w="776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lab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ific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0" y="553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784840"/>
            <a:ext cx="77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boole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Compara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25920" y="1838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184464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3716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4360" y="3645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479736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4797360"/>
            <a:ext cx="792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797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27640" y="5589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76280" y="450720"/>
          <a:ext cx="8104320" cy="598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10432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63680" y="438120"/>
          <a:ext cx="8454960" cy="657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38120"/>
                    <a:ext cx="8454960" cy="657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01640" y="476280"/>
          <a:ext cx="841680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76280"/>
                    <a:ext cx="84168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750960" y="514440"/>
          <a:ext cx="8116920" cy="62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514440"/>
                    <a:ext cx="8116920" cy="62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88880" y="501480"/>
          <a:ext cx="8355240" cy="633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501480"/>
                    <a:ext cx="83552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2920" y="225360"/>
          <a:ext cx="876924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25360"/>
                    <a:ext cx="876924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12920" y="450720"/>
          <a:ext cx="8643600" cy="729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450720"/>
                    <a:ext cx="8643600" cy="729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63680" y="351000"/>
          <a:ext cx="8592840" cy="69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51000"/>
                    <a:ext cx="8592840" cy="69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3680" y="363600"/>
          <a:ext cx="8329320" cy="718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63600"/>
                    <a:ext cx="8329320" cy="71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87440" y="666720"/>
          <a:ext cx="81709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666720"/>
                    <a:ext cx="81709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33440"/>
          <a:ext cx="8494920" cy="72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494920" cy="72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44600" y="565200"/>
          <a:ext cx="8507160" cy="636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65200"/>
                    <a:ext cx="850716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69800" y="446040"/>
          <a:ext cx="8548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6040"/>
                    <a:ext cx="8548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9:14:29Z</dcterms:created>
  <dc:creator>jalvarez</dc:creator>
  <dc:description/>
  <dc:language>en-US</dc:language>
  <cp:lastModifiedBy>jalvarez</cp:lastModifiedBy>
  <cp:lastPrinted>2006-09-05T13:00:13Z</cp:lastPrinted>
  <dcterms:modified xsi:type="dcterms:W3CDTF">2008-06-17T12:33:46Z</dcterms:modified>
  <cp:revision>35</cp:revision>
  <dc:subject/>
  <dc:title>Sin título de diapositiva</dc:title>
</cp:coreProperties>
</file>