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72F-9733-4EAB-BBB0-289DC746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ACF-9A9C-4C0A-B377-2A21FCBB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18B-47FC-47DE-858D-B2B7E143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49F-9A40-479E-B0F6-D5BA6685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055-8213-47EE-B1B7-C53DD381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1C5-167C-43CF-A6B2-A453A80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736-374E-48EE-876F-070361F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DC5-7532-4D45-B36B-BD662776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234-8ACB-493F-ADB1-5237EBBC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A5E-921A-4C5E-B3C9-366AF24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D77-7DD4-4BE8-AC44-A818759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CE6-693C-4319-8586-CA2E3214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FBC9-CA5F-4E63-8422-FB6F23AC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550880"/>
          <a:ext cx="8208720" cy="121788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51280"/>
          <a:ext cx="8326440" cy="2611440"/>
        </p:xfrm>
        <a:graphic>
          <a:graphicData uri="http://schemas.openxmlformats.org/drawingml/2006/table">
            <a:tbl>
              <a:tblPr/>
              <a:tblGrid>
                <a:gridCol w="216000"/>
                <a:gridCol w="519480"/>
                <a:gridCol w="1059480"/>
                <a:gridCol w="1813680"/>
                <a:gridCol w="885240"/>
                <a:gridCol w="294480"/>
                <a:gridCol w="1165320"/>
                <a:gridCol w="1596240"/>
                <a:gridCol w="7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9-05T13:00:13Z</cp:lastPrinted>
  <dcterms:modified xsi:type="dcterms:W3CDTF">2008-06-17T12:33:46Z</dcterms:modified>
  <cp:revision>35</cp:revision>
  <dc:subject/>
  <dc:title>Sin título de diapositiva</dc:title>
</cp:coreProperties>
</file>