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445-52BE-4740-8D4C-1B25090C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637-50B3-4040-9FB8-6E5B2D66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214-817A-47AB-AE8D-4F37D240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D2E-E843-41E9-92AF-B0893E94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045-9448-4865-A119-97214DA1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4EA-F44C-47A6-B590-6892C698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BC4-47E7-4233-90F3-29A4CF22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882-9C4F-4555-BDA4-ACB9D249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BE6-40BD-4B42-ABFE-7B85CE43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E99-FBBE-44D0-9266-036A0695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067-7598-4796-BB14-DD39CBFF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173-6A50-4E4B-A125-08A4A84E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9280-A8AE-4B91-9E75-0BB509736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517680"/>
          <a:ext cx="7724880" cy="62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724880" cy="62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2392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rimero==null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517680"/>
          <a:ext cx="860256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17680"/>
                    <a:ext cx="860256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54040"/>
          <a:ext cx="846936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54040"/>
                    <a:ext cx="846936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0960" y="396720"/>
          <a:ext cx="8458200" cy="690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6720"/>
                    <a:ext cx="8458200" cy="690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63600" y="425520"/>
          <a:ext cx="8555040" cy="62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25520"/>
                    <a:ext cx="855504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4600" y="187200"/>
          <a:ext cx="855648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7200"/>
                    <a:ext cx="855648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691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691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08-06-11T15:05:41Z</dcterms:modified>
  <cp:revision>18</cp:revision>
  <dc:subject/>
  <dc:title>Sin título de diapositiva</dc:title>
</cp:coreProperties>
</file>