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0BE-740F-4805-9793-5B1736E1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012-334A-4D58-8598-8779DB0E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4367-4F86-4C76-A859-5C8C67ED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C22-92A9-432A-A1E5-8099D041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D3F5-5994-4683-B9CA-15CCDCB2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8512-F5AB-40A9-9A03-2CCC0866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A82-37A6-433A-9C93-3B8960E3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3C69-A70D-402E-92F9-606AC3DB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040-9D8F-4F51-B77B-F8010E8A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377F-4A2A-4E90-82FE-D9732CA2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298-6876-4961-BB9A-385EB10E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6B88-7BB3-4F5B-B3D2-2EAFB10C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0069-AAEF-4BB5-A667-56046A14A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4400" y="517680"/>
          <a:ext cx="7724880" cy="62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724880" cy="62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261000"/>
            <a:ext cx="864216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Objec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al comi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new Nodo(x, pri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x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y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223920"/>
            <a:ext cx="8785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Obje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xcepción si lista está vac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primero==null) throw new StackEmpt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recupera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aux=primero.valor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x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liminar primer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primero.sgte; 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volve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au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class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517680"/>
          <a:ext cx="860256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17680"/>
                    <a:ext cx="860256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4200" y="457200"/>
          <a:ext cx="8177040" cy="66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6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554040"/>
          <a:ext cx="8469360" cy="60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54040"/>
                    <a:ext cx="846936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44600"/>
          <a:ext cx="8506080" cy="764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506080" cy="76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0960" y="396720"/>
          <a:ext cx="8458200" cy="690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396720"/>
                    <a:ext cx="8458200" cy="690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65200" y="480960"/>
          <a:ext cx="820584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480960"/>
                    <a:ext cx="820584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1560" y="433440"/>
          <a:ext cx="8048880" cy="71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33440"/>
                    <a:ext cx="8048880" cy="71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14520"/>
          <a:ext cx="8132760" cy="66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14520"/>
                    <a:ext cx="8132760" cy="66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4720" y="457200"/>
          <a:ext cx="849492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57200"/>
                    <a:ext cx="849492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63600" y="425520"/>
          <a:ext cx="8555040" cy="62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25520"/>
                    <a:ext cx="8555040" cy="62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4600" y="187200"/>
          <a:ext cx="8556480" cy="681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7200"/>
                    <a:ext cx="8556480" cy="68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07960" y="457200"/>
          <a:ext cx="8394840" cy="66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57200"/>
                    <a:ext cx="8394840" cy="66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1560" y="649440"/>
          <a:ext cx="82296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649440"/>
                    <a:ext cx="82296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642960"/>
          <a:ext cx="77691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42960"/>
                    <a:ext cx="77691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180280" cy="60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180280" cy="60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8:37:05Z</dcterms:created>
  <dc:creator>jalvarez</dc:creator>
  <dc:description/>
  <dc:language>en-US</dc:language>
  <cp:lastModifiedBy>jalvarez</cp:lastModifiedBy>
  <cp:lastPrinted>2006-08-24T14:05:39Z</cp:lastPrinted>
  <dcterms:modified xsi:type="dcterms:W3CDTF">2008-06-11T15:05:41Z</dcterms:modified>
  <cp:revision>18</cp:revision>
  <dc:subject/>
  <dc:title>Sin título de diapositiva</dc:title>
</cp:coreProperties>
</file>