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87ED-9722-4637-BF62-D132ACE6E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4D1E-3752-4ECA-B1D0-A21EB4A0E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5A6B-B0B5-40C3-9E92-F982B2404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3A19-6B2C-42FA-8E14-504EE34E4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A544-F0DF-4C04-989F-3C0F73A88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B394-2E18-459F-85B5-7900856CA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1107-FC2A-4329-8E85-CA50156A1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3D42-9B63-4155-B96E-096AE8E16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E9A3-7FE6-4918-B59A-45F2F38D8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B2E4-2B08-4D1C-8F1B-4873F308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A8CF-76FB-431E-BC2E-927BAF03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2DE6-3D8D-47E8-87FA-9708AFCE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12F91-B51D-43C9-820D-06AAC391A2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65080" y="606600"/>
          <a:ext cx="762012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606600"/>
                    <a:ext cx="762012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985680" y="614520"/>
          <a:ext cx="7845480" cy="634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5680" y="614520"/>
                    <a:ext cx="7845480" cy="63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54200" y="457200"/>
          <a:ext cx="8177040" cy="625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457200"/>
                    <a:ext cx="8177040" cy="62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577800" y="614520"/>
          <a:ext cx="8373960" cy="597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614520"/>
                    <a:ext cx="8373960" cy="59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93560" y="577800"/>
          <a:ext cx="8193240" cy="579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577800"/>
                    <a:ext cx="8193240" cy="579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96880" y="584280"/>
          <a:ext cx="8292960" cy="6273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6880" y="584280"/>
                    <a:ext cx="8292960" cy="62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528480" y="504720"/>
          <a:ext cx="8374320" cy="563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504720"/>
                    <a:ext cx="8374320" cy="563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746280" y="601560"/>
          <a:ext cx="8132760" cy="553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280" y="601560"/>
                    <a:ext cx="8132760" cy="553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625320" y="480960"/>
          <a:ext cx="7904160" cy="570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480960"/>
                    <a:ext cx="7904160" cy="57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80960" y="577800"/>
          <a:ext cx="8373960" cy="6327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577800"/>
                    <a:ext cx="8373960" cy="632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85800" y="396720"/>
          <a:ext cx="7843680" cy="647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96720"/>
                    <a:ext cx="7843680" cy="647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57200" y="469800"/>
          <a:ext cx="8542440" cy="603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69800"/>
                    <a:ext cx="8542440" cy="603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96720" y="420840"/>
          <a:ext cx="8421840" cy="700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420840"/>
                    <a:ext cx="8421840" cy="700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19200" y="681120"/>
          <a:ext cx="791676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681120"/>
                    <a:ext cx="791676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938160" y="517680"/>
          <a:ext cx="7796160" cy="619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8160" y="517680"/>
                    <a:ext cx="7796160" cy="61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80960" y="457200"/>
          <a:ext cx="838692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457200"/>
                    <a:ext cx="838692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80960" y="433440"/>
          <a:ext cx="8531280" cy="618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433440"/>
                    <a:ext cx="8531280" cy="61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792000" y="568440"/>
          <a:ext cx="807732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568440"/>
                    <a:ext cx="807732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1T21:20:30Z</dcterms:created>
  <dc:creator>jalvarez</dc:creator>
  <dc:description/>
  <dc:language>en-US</dc:language>
  <cp:lastModifiedBy>jalvarez</cp:lastModifiedBy>
  <cp:lastPrinted>2006-07-21T17:48:13Z</cp:lastPrinted>
  <dcterms:modified xsi:type="dcterms:W3CDTF">2008-06-02T17:28:00Z</dcterms:modified>
  <cp:revision>27</cp:revision>
  <dc:subject/>
  <dc:title>Sin título de diapositiva</dc:title>
</cp:coreProperties>
</file>