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53A9-6643-49DD-A127-DC6FE4254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F2BB-3FAD-4D54-96A6-C4DE522E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1056-A90E-4362-8177-BB4BBF0CA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0C81-B587-4044-9CB6-5D0F646B5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B62A-0ABB-48AC-8294-BD5AAA25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5FD0-77A4-4AE6-98AC-07A6D55A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ED04-1688-4588-8D8A-F2A363CE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EECA-BD40-4977-BC29-C2C8AD2A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47E6-2C18-46DD-8964-AB862111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DAA5-7168-43F9-A370-9876AC5C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298F-464F-491A-AD09-83596C0B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DAC8-1361-4B33-A8BB-A2073BBB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0B3B-D65A-4B62-8232-AB2FE0589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65080" y="606600"/>
          <a:ext cx="762012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606600"/>
                    <a:ext cx="762012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85680" y="614520"/>
          <a:ext cx="7845480" cy="634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5680" y="614520"/>
                    <a:ext cx="7845480" cy="63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54200" y="457200"/>
          <a:ext cx="8177040" cy="625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57200"/>
                    <a:ext cx="8177040" cy="62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77800" y="614520"/>
          <a:ext cx="8373960" cy="597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614520"/>
                    <a:ext cx="8373960" cy="59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93560" y="577800"/>
          <a:ext cx="819324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577800"/>
                    <a:ext cx="819324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96880" y="584280"/>
          <a:ext cx="8292960" cy="627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584280"/>
                    <a:ext cx="8292960" cy="62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28480" y="504720"/>
          <a:ext cx="8374320" cy="563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504720"/>
                    <a:ext cx="8374320" cy="563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46280" y="601560"/>
          <a:ext cx="8132760" cy="553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601560"/>
                    <a:ext cx="8132760" cy="553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25320" y="480960"/>
          <a:ext cx="7904160" cy="57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80960"/>
                    <a:ext cx="7904160" cy="57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80960" y="577800"/>
          <a:ext cx="8373960" cy="632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577800"/>
                    <a:ext cx="8373960" cy="63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85800" y="396720"/>
          <a:ext cx="784368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96720"/>
                    <a:ext cx="784368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57200" y="469800"/>
          <a:ext cx="8542440" cy="603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69800"/>
                    <a:ext cx="8542440" cy="60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6720" y="420840"/>
          <a:ext cx="8421840" cy="700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420840"/>
                    <a:ext cx="8421840" cy="70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19200" y="681120"/>
          <a:ext cx="791676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681120"/>
                    <a:ext cx="79167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38160" y="517680"/>
          <a:ext cx="7796160" cy="619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517680"/>
                    <a:ext cx="7796160" cy="61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80960" y="457200"/>
          <a:ext cx="838692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57200"/>
                    <a:ext cx="838692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80960" y="433440"/>
          <a:ext cx="8531280" cy="618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33440"/>
                    <a:ext cx="8531280" cy="61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92000" y="568440"/>
          <a:ext cx="807732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568440"/>
                    <a:ext cx="807732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1T21:20:30Z</dcterms:created>
  <dc:creator>jalvarez</dc:creator>
  <dc:description/>
  <dc:language>en-US</dc:language>
  <cp:lastModifiedBy>jalvarez</cp:lastModifiedBy>
  <cp:lastPrinted>2006-07-21T17:48:13Z</cp:lastPrinted>
  <dcterms:modified xsi:type="dcterms:W3CDTF">2008-06-02T17:28:00Z</dcterms:modified>
  <cp:revision>27</cp:revision>
  <dc:subject/>
  <dc:title>Sin título de diapositiva</dc:title>
</cp:coreProperties>
</file>