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8D06-2BEB-4C9F-A0D2-D84B76EA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9F5-0163-4449-B762-473C0131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509-7248-466C-A865-F20CC2FD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D86-AA0A-4B55-AC9F-D7F78F0C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F67-CC3C-42D1-946A-1B1AADE8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C86-8BA8-4835-AB3E-4E822448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344-BE5F-4E09-8AB6-E02BE2B5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916-1EB6-4252-A513-30BA6FDE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FF3-08C1-4213-A055-1469B080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E94-5733-4FE9-B98A-DCBEF08F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94D-7A86-4ED7-B2A4-EA89CEF6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984D-A592-48F9-8FE8-6B44F19F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4E23-BED2-4DDA-A641-C2D954F8C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77800" y="614520"/>
          <a:ext cx="83739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614520"/>
                    <a:ext cx="83739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77800"/>
          <a:ext cx="81932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7800"/>
                    <a:ext cx="81932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96880" y="584280"/>
          <a:ext cx="8292960" cy="62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84280"/>
                    <a:ext cx="8292960" cy="62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28480" y="504720"/>
          <a:ext cx="837432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04720"/>
                    <a:ext cx="837432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6280" y="601560"/>
          <a:ext cx="8132760" cy="55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601560"/>
                    <a:ext cx="813276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25320" y="480960"/>
          <a:ext cx="790416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80960"/>
                    <a:ext cx="790416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0960" y="577800"/>
          <a:ext cx="837396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577800"/>
                    <a:ext cx="837396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469800"/>
          <a:ext cx="85424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424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6720" y="420840"/>
          <a:ext cx="8421840" cy="70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20840"/>
                    <a:ext cx="842184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9200" y="681120"/>
          <a:ext cx="79167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81120"/>
                    <a:ext cx="79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8160" y="517680"/>
          <a:ext cx="77961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517680"/>
                    <a:ext cx="77961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57200"/>
          <a:ext cx="83869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57200"/>
                    <a:ext cx="83869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0960" y="433440"/>
          <a:ext cx="85312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531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92000" y="568440"/>
          <a:ext cx="807732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68440"/>
                    <a:ext cx="80773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1:20:30Z</dcterms:created>
  <dc:creator>jalvarez</dc:creator>
  <dc:description/>
  <dc:language>en-US</dc:language>
  <cp:lastModifiedBy>jalvarez</cp:lastModifiedBy>
  <cp:lastPrinted>2006-07-21T17:48:13Z</cp:lastPrinted>
  <dcterms:modified xsi:type="dcterms:W3CDTF">2008-06-02T17:28:00Z</dcterms:modified>
  <cp:revision>27</cp:revision>
  <dc:subject/>
  <dc:title>Sin título de diapositiva</dc:title>
</cp:coreProperties>
</file>