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33A6-71CC-4BD1-9187-51052BF2B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9A6A-25EC-4CC8-9F48-C9DD1D530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07D6-FC8C-4900-8A93-4965E4C57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3986-B9FF-4354-9BEB-A391DD948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78CC-9462-44CD-8B52-E866DFC41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7726-E78B-4C81-B83B-3A6DFC90C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BA87-A48D-4B3B-A2C9-FCE4690EB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4BC4-4F47-4057-9681-037F1FE1A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FC31-EEF7-40DF-BEB6-B75E9B7B4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F058-A3EF-4661-87A5-61DFB5D9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05A1-0927-4287-A100-505919EA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F487-24C0-43A1-A98A-E4F1143D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29CA8-44BA-498B-BE87-E0C3331710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44600" y="493560"/>
          <a:ext cx="8613720" cy="621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93560"/>
                    <a:ext cx="8613720" cy="621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31640" y="431640"/>
          <a:ext cx="8539200" cy="721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431640"/>
                    <a:ext cx="8539200" cy="721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284040" y="444600"/>
          <a:ext cx="8921880" cy="721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040" y="444600"/>
                    <a:ext cx="8921880" cy="72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30360" y="568440"/>
          <a:ext cx="8242200" cy="6561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68440"/>
                    <a:ext cx="8242200" cy="65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504720" y="517680"/>
          <a:ext cx="8494920" cy="702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517680"/>
                    <a:ext cx="8494920" cy="702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93640" y="493560"/>
          <a:ext cx="7969320" cy="609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493560"/>
                    <a:ext cx="7969320" cy="60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07880" y="358920"/>
          <a:ext cx="8526600" cy="768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880" y="358920"/>
                    <a:ext cx="8526600" cy="768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68360" y="274680"/>
            <a:ext cx="82184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Matlab: vecto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765000"/>
            <a:ext cx="8218440" cy="53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nes(1,5); %1 1 1 1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zeros(1,5); %0 0 0 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:5; %1 2 3 4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:2:9; %1 3 5 7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inspace(0,1,5) ; %0 0.2500 0.5000 0.7500 1.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and(1,5); %0.xxxx 0.xxxx 0.xxxx 0.xxxx 0.xx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=[1 2 ; 3 4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(2,2); %4 arreglo(nºfila,nº colum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(1,: ); %fila 1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(:,2);  %columna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(2,2:end); %2ª a última columna de fila 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*a; %[7 9; 15 22] multiplicación de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.*a;%[1 4;9 16] punto a pu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39640" y="274680"/>
            <a:ext cx="81471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atlab: instrucciones if/else, while,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836640"/>
            <a:ext cx="874872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d=b^2-4*a*c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a==0 error(‘no es de 2º grado’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d&lt;0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rror(‘raices imaginarias’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d==0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warning(‘raices iguales’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disp((-b+sqrt(d))/(2*a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disp((-b-sqrt(d))/(2*a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i=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i&lt;=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disp(i); i=i+1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i=1..10; %variable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v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disp(i);   %instrucci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274680"/>
            <a:ext cx="8147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Matlab: fun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1125360"/>
            <a:ext cx="88930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%raizArea(a,b,eps,n): raiz y area de f en [a,b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Courier New"/>
              </a:rPr>
              <a:t>function[raiz area]=raizArea(a,b,eps,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a1=a; b1=b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while b1-a1 &gt; ep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x=(a1+b1)/2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if signo(f(x))==signo(f(a1))a1=x; else b1=x; 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Courier New"/>
              </a:rPr>
              <a:t>raiz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=(a1+b1)/2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=(b-a)/(n-1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r = a+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2*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b-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 = a+2*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2*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b-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3*(f(a)+4*sum(f(par))+2*sum(f(imp))+f(b));</a:t>
            </a:r>
            <a:r>
              <a:rPr b="1" lang="es-CL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Courier New"/>
              </a:rPr>
              <a:t>function y=signo(x)%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función interna del archiv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if x&lt;0 y=-1; elseif y&gt;0 r=1; else y=0; 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82680" y="222120"/>
          <a:ext cx="8562960" cy="701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222120"/>
                    <a:ext cx="8562960" cy="701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68440" y="469800"/>
          <a:ext cx="8412120" cy="696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469800"/>
                    <a:ext cx="8412120" cy="696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542880" y="469800"/>
          <a:ext cx="8366040" cy="813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2880" y="469800"/>
                    <a:ext cx="8366040" cy="813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79320" y="407880"/>
          <a:ext cx="8266320" cy="620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9320" y="407880"/>
                    <a:ext cx="8266320" cy="620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68360" y="345960"/>
          <a:ext cx="8389800" cy="651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45960"/>
                    <a:ext cx="8389800" cy="651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82600" y="457200"/>
          <a:ext cx="9225000" cy="700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2600" y="457200"/>
                    <a:ext cx="9225000" cy="700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44600" y="457200"/>
          <a:ext cx="8524800" cy="613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57200"/>
                    <a:ext cx="8524800" cy="613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44600" y="417600"/>
          <a:ext cx="8483400" cy="723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17600"/>
                    <a:ext cx="8483400" cy="72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2T19:49:31Z</dcterms:created>
  <dc:creator>jalvarez</dc:creator>
  <dc:description/>
  <dc:language>en-US</dc:language>
  <cp:lastModifiedBy>jalvarez</cp:lastModifiedBy>
  <cp:lastPrinted>2006-06-13T18:27:03Z</cp:lastPrinted>
  <dcterms:modified xsi:type="dcterms:W3CDTF">2008-06-03T13:28:15Z</dcterms:modified>
  <cp:revision>21</cp:revision>
  <dc:subject/>
  <dc:title>Sin título de diapositiva</dc:title>
</cp:coreProperties>
</file>