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540-5C97-4768-86AD-07F5D1F6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360-29D3-4E7F-A02C-FAC8BC03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6FA-FABC-4C1A-A2E5-82394B37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904-47F6-4D2B-B63C-C9588D28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CBC-E4A1-45F3-8131-E6CBB909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E16-F67F-4E7A-8CB3-FE9CDB05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B7A5-282D-4AD2-ABB7-B1BE403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C0C-A4FA-41CB-8D0F-AE8BFAF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76B-A1B0-4B5D-8FD9-2010B6D8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792-BA21-4AB4-9E31-3111E0C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1FB-2A10-4A39-972F-EF98AD2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A67-3D46-478F-B838-17F3FE9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3977-618E-4224-9F59-472E567B2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4600" y="493560"/>
          <a:ext cx="861372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93560"/>
                    <a:ext cx="861372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431640"/>
          <a:ext cx="853920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31640"/>
                    <a:ext cx="853920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84040" y="444600"/>
          <a:ext cx="8921880" cy="72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444600"/>
                    <a:ext cx="8921880" cy="72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30360" y="568440"/>
          <a:ext cx="82422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422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4720" y="517680"/>
          <a:ext cx="8494920" cy="70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17680"/>
                    <a:ext cx="8494920" cy="70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3640" y="493560"/>
          <a:ext cx="796932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3560"/>
                    <a:ext cx="796932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7880" y="358920"/>
          <a:ext cx="8526600" cy="76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358920"/>
                    <a:ext cx="8526600" cy="76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74680"/>
            <a:ext cx="8218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Matlab: v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765000"/>
            <a:ext cx="821844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es(1,5); %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zeros(1,5); %0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5; %1 2 3 4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:2:9; %1 3 5 7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space(0,1,5) ; %0 0.2500 0.5000 0.7500 1.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nd(1,5); %0.xxxx 0.xxxx 0.xxxx 0.xxxx 0.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=[1 2 ; 3 4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); %4 arreglo(nºfila,nº colum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1,: ); %fila 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:,2);  %column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(2,2:end); %2ª a última columna de fil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*a; %[7 9; 15 22] multiplicación de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.*a;%[1 4;9 16] punto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274680"/>
            <a:ext cx="814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tlab: instrucciones if/else, while,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836640"/>
            <a:ext cx="87487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=b^2-4*a*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a==0 error(‘no es de 2º grado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&lt;0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rror(‘raices imaginaria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d==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warning(‘raices iguales’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+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disp((-b-sqrt(d))/(2*a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i=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i=i+1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i=1..10; %variable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isp(i);   %instru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lab: fu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%raizArea(a,b,eps,n): raiz y area de f en [a,b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[raiz area]=raizArea(a,b,eps,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a1=a; b1=b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while b1-a1 &gt; e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x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signo(f(x))==signo(f(a1))a1=x; else b1=x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raiz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=(a1+b1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(b-a)/(n-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 = a+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 = a+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*(f(a)+4*sum(f(par))+2*sum(f(imp))+f(b));</a:t>
            </a: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Courier New"/>
              </a:rPr>
              <a:t>function y=signo(x)%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unción interna del arch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x&lt;0 y=-1; elseif y&gt;0 r=1; else y=0;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222120"/>
          <a:ext cx="8562960" cy="701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222120"/>
                    <a:ext cx="8562960" cy="701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68440" y="469800"/>
          <a:ext cx="8412120" cy="696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69800"/>
                    <a:ext cx="8412120" cy="69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42880" y="469800"/>
          <a:ext cx="8366040" cy="813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69800"/>
                    <a:ext cx="8366040" cy="813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9320" y="407880"/>
          <a:ext cx="8266320" cy="620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407880"/>
                    <a:ext cx="8266320" cy="62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45960"/>
          <a:ext cx="8389800" cy="651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5960"/>
                    <a:ext cx="8389800" cy="65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9:49:31Z</dcterms:created>
  <dc:creator>jalvarez</dc:creator>
  <dc:description/>
  <dc:language>en-US</dc:language>
  <cp:lastModifiedBy>jalvarez</cp:lastModifiedBy>
  <cp:lastPrinted>2006-06-13T18:27:03Z</cp:lastPrinted>
  <dcterms:modified xsi:type="dcterms:W3CDTF">2008-06-03T13:28:15Z</dcterms:modified>
  <cp:revision>21</cp:revision>
  <dc:subject/>
  <dc:title>Sin título de diapositiva</dc:title>
</cp:coreProperties>
</file>