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19E-3B27-4536-B145-6A5DD87E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22D-A36A-41D6-9F94-9B053C6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AA2-DE97-4E0B-BC8B-5560EA7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E1-3EB6-45FE-9E49-96A6618F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8F6-07E0-4934-BEB8-ABC04F36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6E4-B99A-4A66-A15F-D9B1B84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A4C-2B3D-4332-9615-DDFB6DE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61C-C3D3-4892-B71C-02B7D58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5A0-CA34-4F98-8F7B-DBCBEB6C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FBD-0E95-42BB-A1B8-9C2E17E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4F1-53E5-407C-87BD-7A5FE38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B34-B137-42DB-9CAB-92F5A35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82A-2486-4DA0-8960-E5C7AAAD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d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raices imaginaria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raices imagi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jalvarez</cp:lastModifiedBy>
  <dcterms:modified xsi:type="dcterms:W3CDTF">2008-05-28T20:42:11Z</dcterms:modified>
  <cp:revision>14</cp:revision>
  <dc:subject/>
  <dc:title>Diapositiva 1</dc:title>
</cp:coreProperties>
</file>