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C61-9E74-4A1C-9E0F-B87F5EB0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6A39-5298-4F6C-8462-9B8CE88E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4DC-149B-4E3E-9A6C-066BBB56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08CE-8AFA-4E81-8969-5D997A73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7CD-8E9C-4A5E-8255-1C518D69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F23-36B6-4758-BADB-376659D2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41F-77D4-4461-81A3-AB9C88AE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D4C-8752-4DF5-A22C-A5F7665A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CB6-3FD6-4B5C-A16D-B0AC07CF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265-B070-4820-AB32-1E280626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DD3-B1C1-4875-B096-479A871D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30A-6DE7-4A64-BCE9-072D5EF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238E-E2B2-4260-80E2-2148C29A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strucciones if/else y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9152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ribe el dato X en el string a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 a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g se reempl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fila %g: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title(‘…’) xlabel(‘…’)    ylabel(‘…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333360"/>
          <a:ext cx="8218440" cy="6134040"/>
        </p:xfrm>
        <a:graphic>
          <a:graphicData uri="http://schemas.openxmlformats.org/drawingml/2006/table">
            <a:tbl>
              <a:tblPr/>
              <a:tblGrid>
                <a:gridCol w="2739960"/>
                <a:gridCol w="3380040"/>
                <a:gridCol w="209844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pres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^  . ^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r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(negació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, divi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  /   \   .*   ./   .\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a, re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dor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 &lt;=  &gt;  &gt;=  ==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g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260280"/>
            <a:ext cx="792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f23(x): calcula x al cuadrado y al cu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 a b ] = 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f23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28640"/>
            <a:ext cx="850752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%f23(x): calcula x cuadrado y x cu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function[xx,xxx] = f23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x = 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xx = cubo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function y=cubo(x) %visible en arch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y =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x.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%raices(a,b,c): raíces de a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x+bx+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unction[r1,r2] = raices(a,b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^2 -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4*a*c; %discrimina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d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rror(‘raices imaginarias’); %ab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lseif d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warning(‘raices iguales’);%muestra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1=(-b +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2=(-b - sqrt(d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&gt;&gt;[x y]=raices(1,4,3)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&gt;[x y]=raices(1,1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x=-1  y=-3            raices imagim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74840" y="4383000"/>
            <a:ext cx="2925720" cy="0"/>
          </a:xfrm>
          <a:prstGeom prst="line">
            <a:avLst/>
          </a:prstGeom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194760" y="2510280"/>
            <a:ext cx="5120640" cy="23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457360" y="4383000"/>
            <a:ext cx="0" cy="45720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24440" y="3882960"/>
            <a:ext cx="1440" cy="549360"/>
          </a:xfrm>
          <a:prstGeom prst="line">
            <a:avLst/>
          </a:prstGeom>
          <a:ln w="648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3716280"/>
            <a:ext cx="276120" cy="4161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95640" y="3645000"/>
            <a:ext cx="1371600" cy="576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34080" y="4683240"/>
            <a:ext cx="457200" cy="3650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018040" y="3324240"/>
            <a:ext cx="549360" cy="18396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4118040"/>
            <a:ext cx="457200" cy="460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45000" y="4282920"/>
            <a:ext cx="0" cy="1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8400" y="3765600"/>
            <a:ext cx="903600" cy="45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9280" y="4416480"/>
            <a:ext cx="1645920" cy="49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274320"/>
            <a:ext cx="8100720" cy="37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: Calcular raíz por el método de búsqueda b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r x como punto medio del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a) entonces repetir el proceso en intervalo [x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f(x) tiene el mismo signo de f(b) entonces repetir el proceso en intervalo [a,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 Las iteraciones se detienen cuando el tamaño del intervalo de búsqueda alcance un epsil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2200" y="554076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r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i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a,b,e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7840" y="3875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iter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while b-a &gt;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==signo(f(a)) a=x; else b=x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(a+b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0 r=-1; elseif x&gt;0 r=1; else r=0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ción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signo(f(x)) == signo(f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4:32:44Z</dcterms:created>
  <dc:creator>Profesor</dc:creator>
  <dc:description/>
  <dc:language>en-US</dc:language>
  <cp:lastModifiedBy>jalvarez</cp:lastModifiedBy>
  <dcterms:modified xsi:type="dcterms:W3CDTF">2008-05-28T20:42:11Z</dcterms:modified>
  <cp:revision>14</cp:revision>
  <dc:subject/>
  <dc:title>Diapositiva 1</dc:title>
</cp:coreProperties>
</file>