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90D-B283-4F70-A731-DFAA67C0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D72-C2CA-457E-A0C6-A36DD47D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8EAC-B0CA-4805-AD5A-C9AE2DB2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21F-A270-4870-B217-176BE578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A7F-92A1-4CEE-AA5B-ECE92267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D22-6CC1-4462-AE91-09CA92A4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221-CB29-489F-9F1B-A2B1F88B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A2B1-79D4-4CF7-BD21-DAEBA53A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9D0-534E-4A75-9443-AD98379F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0B6-29C6-4AFF-8A0C-228F6B97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E33-69E2-4E4C-AE62-A5AFE10C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8C4-5822-4F97-A8D7-3A21B42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1402-C5A8-4BE1-B511-310B2002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d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raices imaginaria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raices imagi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jalvarez</cp:lastModifiedBy>
  <dcterms:modified xsi:type="dcterms:W3CDTF">2008-05-28T20:42:11Z</dcterms:modified>
  <cp:revision>14</cp:revision>
  <dc:subject/>
  <dc:title>Diapositiva 1</dc:title>
</cp:coreProperties>
</file>