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F09E-055E-47E5-BC54-2548A7F53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019C-773E-4458-8EB3-B1733B5C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CEE3-DB76-42E9-A6B5-AD29F00B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9B8E-0856-4F4E-BD60-75BC8222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E8A3-FB59-4339-91EB-33DC8531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A749-CDD6-41D4-A9DA-679C5A35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49F2-B5F2-4164-9621-8053AA5B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4C9C-8A71-4615-AA1F-D5C5F98D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9FDE-82EB-4ECC-8138-437B6656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67E5-C373-4FCB-A4F4-10AB43BA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3736-4374-4917-B9AD-327CBCD4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BA5C-B18C-44C3-AF95-1AA23622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AA5C-ABC1-4516-AD43-19F6EAC6E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765000"/>
            <a:ext cx="84358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0755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rea con editor de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1471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907920"/>
            <a:ext cx="84978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557360"/>
            <a:ext cx="850752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%pol(a,x): polinomio de coefs a en argumento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*2^0 + 2*2^1 + 3*2^2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a: área bajo la cur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Nota. Programe alguno de los méto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ctángulos: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+…+y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rapecios: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...+y 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/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mpson: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/3(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4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4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...+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que 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=f(a), 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=f(a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=f(a+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…,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f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delta=ancho de intervalos=(b-a)/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0920" y="260280"/>
            <a:ext cx="8713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ol. </a:t>
            </a: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Rectángulos: 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es-CL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+…+y</a:t>
            </a:r>
            <a:r>
              <a:rPr b="0" lang="es-CL" sz="4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1557360"/>
            <a:ext cx="878544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%area(a,b,n): area de f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en [a,b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usando n-1 rectángu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delta=(b-a)/(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x=linspace(a,b,n-1);%a,a+delta,…,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y=f(x);   % f(a),f(a+delta),… ,f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r=delta*(sum(y)-y(end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0920" y="438120"/>
            <a:ext cx="8642160" cy="54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imes New Roman"/>
              </a:rPr>
              <a:t>Sol. Trapecios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(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+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+...+y 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+(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+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)/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area(a,b,n): area de f en [a,b] %usando n-1 trape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r=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=linspace(a,b,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(b-a)/(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 </a:t>
            </a: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(sum(y)-(y(1)+y(end))/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9280" y="22680"/>
            <a:ext cx="8785440" cy="54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imes New Roman"/>
              </a:rPr>
              <a:t>Sol. Simpson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/3*(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+4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+4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+...+y</a:t>
            </a:r>
            <a:r>
              <a:rPr b="1" lang="es-ES" sz="4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area(a,b,n):area de f en [a,b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usando n p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r=area(a,b,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lta=(b-a)/(n-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es = a+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2*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b-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ares = a+2*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2*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b-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 =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3 * (f(a)+4*sum(f(pares))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*sum(f(impares))+f(b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=[1 2 3 4 5 6];  %punto y coma 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x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(5)  % a(end) o a(length(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s =    “variable por omis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(1,: ) %fila 1           &gt;&gt;a(:,2) %column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                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(2,1:2) %primeras 2 columnas de fil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 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 inter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+2)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 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/y  =  y\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+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-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=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an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.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y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x .\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\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5T18:53:51Z</dcterms:created>
  <dc:creator>jalvarez</dc:creator>
  <dc:description/>
  <dc:language>en-US</dc:language>
  <cp:lastModifiedBy>jalvarez</cp:lastModifiedBy>
  <dcterms:modified xsi:type="dcterms:W3CDTF">2008-05-26T19:31:45Z</dcterms:modified>
  <cp:revision>23</cp:revision>
  <dc:subject/>
  <dc:title>Programación en MATLAB</dc:title>
</cp:coreProperties>
</file>