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79A-CD6F-4D04-97F1-913C1251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D08-4B68-465A-8B3D-D04D933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9BF-05AF-4605-81A4-9B437247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E5C-2B4A-442A-911A-10C77FE9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FBD-4C8B-430F-9ED9-B2B0A10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E48-EEB2-4A76-B8D5-772CD027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FDC-9255-4BC6-851F-61D986FC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877-9BE1-4C37-862E-8773F9C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97F-A479-4A59-A926-B3B3DF6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059-DAB0-4866-AEDF-532E8B0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A3E-475B-44EB-93A0-F531280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893-6BA9-4B1B-B82E-3E83C41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367-097C-4E95-B7FC-41962C64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: área bajo la cu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8-05-26T19:31:45Z</dcterms:modified>
  <cp:revision>23</cp:revision>
  <dc:subject/>
  <dc:title>Programación en MATLAB</dc:title>
</cp:coreProperties>
</file>