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2636-B7FD-4981-B3BA-BBCFD35C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60D-3337-4199-AAA9-A3432A2A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F4A-09F9-4A92-8E88-496BC3A2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4E1-47E3-4E89-962F-AEEC826D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13D-16E2-4252-8E25-9380CEFA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AB4-1E25-4DCE-9DE8-42F5EC37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150-117E-49C2-A7B5-8765FD24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2E80-9BC1-4F85-B593-69417EDC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AF1-5154-4A6B-ADA5-B63AC321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C271-0739-4301-AAF7-FA0F3D5F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9D1F-A80C-4C89-94A7-BF0A8E7D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3C7-5FF6-41A0-8D97-49438335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2B51-0D78-4334-96E8-4795539B9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075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rea con editor de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14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907920"/>
            <a:ext cx="84978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557360"/>
            <a:ext cx="85075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pol(a,x): polinomio de coefs a en argumento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*2^0 + 2*2^1 + 3*2^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: área bajo la cur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Nota. Programe alguno de los mé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tángulos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+…+y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pecios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...+y 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/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mpson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/3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...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que 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), 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f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delta=ancho de intervalos=(b-a)/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260280"/>
            <a:ext cx="8713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ol. 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ectángulos: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s-CL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+…+y</a:t>
            </a:r>
            <a:r>
              <a:rPr b="0" lang="es-CL" sz="4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557360"/>
            <a:ext cx="87854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%area(a,b,n): area de f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en [a,b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usando n-1 rectáng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=(b-a)/(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x=linspace(a,b,n-1);%a,a+delta,…,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f(x);   % f(a),f(a+delta),… ,f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r=delta*(sum(y)-y(end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438120"/>
            <a:ext cx="8642160" cy="54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Sol. Trapecios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...+y 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)/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area(a,b,n): area de f en [a,b] %usando n-1 trape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=linspace(a,b,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(b-a)/(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(sum(y)-(y(1)+y(end))/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22680"/>
            <a:ext cx="8785440" cy="54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Sol. Simps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/3*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...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area(a,b,n):area de f en [a,b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usando n p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area(a,b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lta=(b-a)/(n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es = a+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ares = a+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 =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3 * (f(a)+4*sum(f(pares))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sum(f(impares))+f(b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 %punto y coma 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(5)  % a(end) o a(length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 =    “variable por omis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(1,: ) %fila 1           &gt;&gt;a(:,2) %column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       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(2,1:2) %primeras 2 columnas de fil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 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 inte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+2)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/y  =  y\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+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-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 .\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\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18:53:51Z</dcterms:created>
  <dc:creator>jalvarez</dc:creator>
  <dc:description/>
  <dc:language>en-US</dc:language>
  <cp:lastModifiedBy>jalvarez</cp:lastModifiedBy>
  <dcterms:modified xsi:type="dcterms:W3CDTF">2008-05-26T19:31:45Z</dcterms:modified>
  <cp:revision>23</cp:revision>
  <dc:subject/>
  <dc:title>Programación en MATLAB</dc:title>
</cp:coreProperties>
</file>