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511-35B7-4495-98DD-44A32AA4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D50-0271-4D68-AA47-ABB06037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08B-33E2-4F2F-AC3E-919AEF83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DCD-DECF-4B55-8BAC-497E2D72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B61-D1FE-414D-9305-0BA3516C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3F0-112F-4677-A719-EB8C0A1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E44-74EA-46B6-BFBE-A55ACDFA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402-9BFE-45B5-8073-959CB649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DC0-8FAC-42AF-B3F9-A253A46B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56D-029B-48B9-85B1-5A25FFB7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E53-78EB-4B80-A7BE-B8170A5F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C2B-F12A-421B-B2A5-5964730F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CFC3-E965-4304-9E8B-91DCFEC7B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07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14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0792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polinomio de coefs a en argumen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*2^0 + 2*2^1 + 3*2^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: área bajo la cu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Nota. Programe alguno de los 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peci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 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/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mpson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/3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que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),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elta=ancho de intervalos=(b-a)/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260280"/>
            <a:ext cx="871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ol. 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4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557360"/>
            <a:ext cx="8785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area(a,b,n): area de f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n [a,b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usando n-1 rectáng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%a,a+delta,…,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   % f(a),f(a+delta),… ,f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delta*(sum(y)-y(e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438120"/>
            <a:ext cx="864216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ol. Trapecios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...+y 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)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 area de f en [a,b] %usando n-1 trap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linspace(a,b,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sum(y)-(y(1)+y(end))/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22680"/>
            <a:ext cx="878544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ol. Simps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3*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=(b-a)/(n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a+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a+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 * (f(a)+4*sum(f(pares))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sum(f(impares))+f(b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punto y coma 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5)  % a(end) o a(length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    “variable por omis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1,: ) %fila 1           &gt;&gt;a(:,2) %column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2,1:2) %primeras 2 columnas de fil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08-05-26T19:31:45Z</dcterms:modified>
  <cp:revision>23</cp:revision>
  <dc:subject/>
  <dc:title>Programación en MATLAB</dc:title>
</cp:coreProperties>
</file>