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46C-186C-4D7D-95E2-6C66B5CA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B7F-E108-492A-84DF-C54475E4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4A5-5CE8-4564-9AFD-2731830B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B5D-1896-4231-95B9-BF76E87D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8E6-B506-42B2-8D87-ED222900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F40-6AC4-45A4-B791-22556B67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821-F266-42D2-B940-BDC17BBF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C1A-F72C-466F-8D62-02540B5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062-956E-46BF-BEC7-DBA9C857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FFC-A983-4E96-AC8E-4E730CB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22C-81E8-44DD-97BE-1FABECC8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D7C-98DC-4D01-8E59-59099444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C6EA-8D2D-4923-951B-2516CA8A8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4680" y="581040"/>
          <a:ext cx="79531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79531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55560" y="544680"/>
          <a:ext cx="813924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44680"/>
                    <a:ext cx="81392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31720" y="606600"/>
          <a:ext cx="839952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06600"/>
                    <a:ext cx="839952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457200"/>
          <a:ext cx="84996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4996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30360" y="619200"/>
          <a:ext cx="814068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19200"/>
                    <a:ext cx="81406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68160" y="519120"/>
          <a:ext cx="8164800" cy="587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519120"/>
                    <a:ext cx="81648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95280" y="903240"/>
          <a:ext cx="8350200" cy="50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3240"/>
                    <a:ext cx="83502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58800" y="333360"/>
          <a:ext cx="8485200" cy="61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33360"/>
                    <a:ext cx="84852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04800" y="550800"/>
          <a:ext cx="81486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50800"/>
                    <a:ext cx="8148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68440" y="519120"/>
          <a:ext cx="8350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19120"/>
                    <a:ext cx="8350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843120"/>
          <a:ext cx="801360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43120"/>
                    <a:ext cx="801360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30080" y="482760"/>
          <a:ext cx="8064720" cy="62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482760"/>
                    <a:ext cx="8064720" cy="62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66800" y="495360"/>
          <a:ext cx="80154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95360"/>
                    <a:ext cx="80154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53920" y="581040"/>
          <a:ext cx="782964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81040"/>
                    <a:ext cx="782964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31720" y="457200"/>
          <a:ext cx="838692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3869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2860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2:51:47Z</dcterms:created>
  <dc:creator>jalvarez</dc:creator>
  <dc:description/>
  <dc:language>en-US</dc:language>
  <cp:lastModifiedBy>jalvarez</cp:lastModifiedBy>
  <cp:lastPrinted>2005-08-24T12:55:15Z</cp:lastPrinted>
  <dcterms:modified xsi:type="dcterms:W3CDTF">2008-05-14T13:02:27Z</dcterms:modified>
  <cp:revision>11</cp:revision>
  <dc:subject/>
  <dc:title>Sin título de diapositiva</dc:title>
</cp:coreProperties>
</file>