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E58-DA14-4155-81E5-5837EF16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5A4-38DE-4AE5-A069-E1FF850C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D33-54B6-4DD7-8385-06AECF4B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AAA-EEA3-41FA-AFB5-6B8EC22F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73F-57B9-4B7B-A3BB-A7870368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FE8-DA6D-4CD5-B8F5-11EDBC86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3BC-FD4F-42AE-A726-EB61883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F51-7259-453F-B21C-61BDF89C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DE2-F2DF-4D57-8AEA-716E64EC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E5C-0E54-49A7-BC99-47004986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AE5-8E06-4C0B-9E57-9D5C4013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3A0-3942-4AAD-8161-D8D7EA1F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C0DA-B24E-4923-9E23-E873E0FA1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4680" y="581040"/>
          <a:ext cx="79531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79531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55560" y="544680"/>
          <a:ext cx="813924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44680"/>
                    <a:ext cx="81392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31720" y="606600"/>
          <a:ext cx="8399520" cy="57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06600"/>
                    <a:ext cx="839952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30360" y="446040"/>
          <a:ext cx="835020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7960" y="546120"/>
          <a:ext cx="8305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4612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07960" y="546120"/>
          <a:ext cx="8305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4612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457200"/>
          <a:ext cx="84996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4996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30360" y="619200"/>
          <a:ext cx="814068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19200"/>
                    <a:ext cx="81406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68160" y="519120"/>
          <a:ext cx="8164800" cy="5877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519120"/>
                    <a:ext cx="81648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95280" y="903240"/>
          <a:ext cx="8350200" cy="50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3240"/>
                    <a:ext cx="83502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58800" y="333360"/>
          <a:ext cx="8485200" cy="61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33360"/>
                    <a:ext cx="84852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04800" y="550800"/>
          <a:ext cx="81486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50800"/>
                    <a:ext cx="8148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68440" y="519120"/>
          <a:ext cx="8350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19120"/>
                    <a:ext cx="8350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843120"/>
          <a:ext cx="801360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43120"/>
                    <a:ext cx="801360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30080" y="482760"/>
          <a:ext cx="8064720" cy="62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482760"/>
                    <a:ext cx="8064720" cy="62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66800" y="495360"/>
          <a:ext cx="80154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95360"/>
                    <a:ext cx="80154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53920" y="581040"/>
          <a:ext cx="782964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81040"/>
                    <a:ext cx="782964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31720" y="457200"/>
          <a:ext cx="838692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3869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2860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2:51:47Z</dcterms:created>
  <dc:creator>jalvarez</dc:creator>
  <dc:description/>
  <dc:language>en-US</dc:language>
  <cp:lastModifiedBy>jalvarez</cp:lastModifiedBy>
  <cp:lastPrinted>2005-08-24T12:55:15Z</cp:lastPrinted>
  <dcterms:modified xsi:type="dcterms:W3CDTF">2008-05-14T13:02:27Z</dcterms:modified>
  <cp:revision>11</cp:revision>
  <dc:subject/>
  <dc:title>Sin título de diapositiva</dc:title>
</cp:coreProperties>
</file>