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33F4-DB7E-48CD-A910-AD7DE026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250E-0CD4-4B09-B48E-2CE0CF18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1553-B49A-438D-821F-236A20F1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C65C-1A45-462C-A137-266E940D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7888-BA26-4242-853C-877FF0A1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F697-7996-4029-A6C3-B4E2B13D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886B-47D5-4140-A293-43DB404C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AAFA-D142-4312-AEE6-1ACB51E8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838F-5E42-4EBC-BB88-66525EEE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5EC4-54EB-40E2-B0B1-6251355C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DDFA-6C37-4721-A6B8-4731265B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2DFA-9142-4F13-8A73-FA4CA2CE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1E62-9337-4779-BF22-EBE5B48C8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44680" y="581040"/>
          <a:ext cx="795312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81040"/>
                    <a:ext cx="795312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55560" y="544680"/>
          <a:ext cx="813924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44680"/>
                    <a:ext cx="813924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31720" y="606600"/>
          <a:ext cx="8399520" cy="576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606600"/>
                    <a:ext cx="8399520" cy="57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30360" y="446040"/>
          <a:ext cx="8350200" cy="60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46040"/>
                    <a:ext cx="8350200" cy="60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07960" y="546120"/>
          <a:ext cx="830592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4612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07960" y="546120"/>
          <a:ext cx="830592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4612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7200" y="457200"/>
          <a:ext cx="849960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49960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30360" y="619200"/>
          <a:ext cx="8140680" cy="542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19200"/>
                    <a:ext cx="814068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68160" y="519120"/>
          <a:ext cx="8164800" cy="5877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60" y="519120"/>
                    <a:ext cx="816480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95280" y="903240"/>
          <a:ext cx="8350200" cy="504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03240"/>
                    <a:ext cx="8350200" cy="50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58800" y="333360"/>
          <a:ext cx="8485200" cy="612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333360"/>
                    <a:ext cx="848520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04800" y="550800"/>
          <a:ext cx="81486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550800"/>
                    <a:ext cx="81486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68440" y="519120"/>
          <a:ext cx="83502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19120"/>
                    <a:ext cx="83502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5800" y="843120"/>
          <a:ext cx="801360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43120"/>
                    <a:ext cx="801360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30080" y="482760"/>
          <a:ext cx="8064720" cy="625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482760"/>
                    <a:ext cx="8064720" cy="62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66800" y="495360"/>
          <a:ext cx="801540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495360"/>
                    <a:ext cx="80154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53920" y="581040"/>
          <a:ext cx="7829640" cy="57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81040"/>
                    <a:ext cx="7829640" cy="57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31720" y="457200"/>
          <a:ext cx="8386920" cy="64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57200"/>
                    <a:ext cx="838692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2860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12:51:47Z</dcterms:created>
  <dc:creator>jalvarez</dc:creator>
  <dc:description/>
  <dc:language>en-US</dc:language>
  <cp:lastModifiedBy>jalvarez</cp:lastModifiedBy>
  <cp:lastPrinted>2005-08-24T12:55:15Z</cp:lastPrinted>
  <dcterms:modified xsi:type="dcterms:W3CDTF">2008-05-14T13:02:27Z</dcterms:modified>
  <cp:revision>11</cp:revision>
  <dc:subject/>
  <dc:title>Sin título de diapositiva</dc:title>
</cp:coreProperties>
</file>