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5741988" cy="7650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01F-1C65-40B1-B569-D4E2C6D7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BDA-3F11-44E3-B953-32E20637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A8A-38C0-46FA-89DE-7CBC3916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939-49BD-43C6-8EE1-C8DE4782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9A3-1546-4609-AC4B-F4B5AE2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D84-3BF2-4133-A080-89246A8F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9A8-3706-4EA9-A27E-608F9FF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9DD-FB09-4F1F-A602-81C2F223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644-D7EE-45B0-8452-53916554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65D-EDE9-44E3-8100-D082F37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DD3-0F0C-42DA-B880-4EDB1382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6A3-6CCE-437F-96D2-334D5EB0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3759-6654-4001-A930-2EB90B470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jalvarez</cp:lastModifiedBy>
  <cp:lastPrinted>2006-08-19T16:06:24Z</cp:lastPrinted>
  <dcterms:modified xsi:type="dcterms:W3CDTF">2008-05-13T12:25:47Z</dcterms:modified>
  <cp:revision>26</cp:revision>
  <dc:subject/>
  <dc:title>Sin título de diapositiva</dc:title>
</cp:coreProperties>
</file>