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5741988" cy="7650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DD47-272A-478D-BDFF-46AD73CE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A9EA-1127-457F-BCFC-431DA439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AB4-4545-4B78-89B6-7E25C1A9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8DAA-DEB0-40DC-84CA-A00F87FA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0EEF-F24C-44C7-84B4-9AE9B0A2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7C15-3AD1-4BE1-B332-611CFF3E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BB1C-3D10-4F09-B830-B770F697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EDA5-F0E1-4140-A513-0C4AB108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B4AA-3661-4A75-BA10-BA3330DE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4C25-0FB7-4398-A806-FB836396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362E-1DA1-4277-9529-800ADA5B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A2D1-8F76-4FFC-80AE-55AD6AB5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1AB5-9FBF-421A-9CC6-BD49699A2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04720" y="517680"/>
          <a:ext cx="8494920" cy="702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17680"/>
                    <a:ext cx="8494920" cy="70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74600" y="120600"/>
          <a:ext cx="8780400" cy="714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20600"/>
                    <a:ext cx="8780400" cy="71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19200" y="658800"/>
          <a:ext cx="8134200" cy="56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58800"/>
                    <a:ext cx="8134200" cy="56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93640" y="568440"/>
          <a:ext cx="8497800" cy="64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68440"/>
                    <a:ext cx="8497800" cy="64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03200" y="565200"/>
          <a:ext cx="868680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65200"/>
                    <a:ext cx="868680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84200" y="538200"/>
          <a:ext cx="832320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538200"/>
                    <a:ext cx="832320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84200" y="538200"/>
          <a:ext cx="820260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538200"/>
                    <a:ext cx="820260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84200" y="457200"/>
          <a:ext cx="86994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57200"/>
                    <a:ext cx="86994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74952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4. calculando término del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eno(double x,double epsil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uma=x, termino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3; true; i+=2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rmi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)/((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Math.abs(termino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=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psilon) break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um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termi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u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4374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5. abrevi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eno(double x,double epsil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uma=x, termino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h.abs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rmin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)/((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)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psil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+=2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termi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u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otangente: x –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5 -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eno: 1 –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!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! -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aritmo natural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 Z + Z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+ Z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5 + . . .) con Z =(x-1)/(x+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04720" y="685800"/>
          <a:ext cx="844704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685800"/>
                    <a:ext cx="844704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68440" y="506520"/>
          <a:ext cx="8437320" cy="61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06520"/>
                    <a:ext cx="8437320" cy="61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46200" y="538200"/>
          <a:ext cx="8067600" cy="56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538200"/>
                    <a:ext cx="8067600" cy="56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17600" y="511200"/>
          <a:ext cx="87138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511200"/>
                    <a:ext cx="87138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60400" y="550800"/>
          <a:ext cx="7705800" cy="59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550800"/>
                    <a:ext cx="7705800" cy="59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23800" y="577800"/>
          <a:ext cx="81756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77800"/>
                    <a:ext cx="8175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23800" y="577800"/>
          <a:ext cx="817560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77800"/>
                    <a:ext cx="817560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98400" y="511200"/>
          <a:ext cx="8136000" cy="61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11200"/>
                    <a:ext cx="8136000" cy="61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4:36:52Z</dcterms:created>
  <dc:creator>jalvarez</dc:creator>
  <dc:description/>
  <dc:language>en-US</dc:language>
  <cp:lastModifiedBy>jalvarez</cp:lastModifiedBy>
  <cp:lastPrinted>2006-08-19T16:06:24Z</cp:lastPrinted>
  <dcterms:modified xsi:type="dcterms:W3CDTF">2008-05-13T12:25:47Z</dcterms:modified>
  <cp:revision>26</cp:revision>
  <dc:subject/>
  <dc:title>Sin título de diapositiva</dc:title>
</cp:coreProperties>
</file>