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5741988" cy="7650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49B-D542-48CA-8F23-9CF66DE8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238-B791-4ECD-AEFD-785476B6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1EF-497C-4BDE-87DE-9A6CF103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980-ADE5-4C4F-8F87-E949A399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A58-03BB-4E3C-8532-9DE29587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710-C9D3-4B2D-BFAF-F9B274E0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22F-B3DF-471F-8A3F-20831812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665-1517-49D8-B59C-D7982619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CD3-B4FC-4AA9-8A49-014F110D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4B1-8937-493B-9B97-EC72431B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7AA-8477-4C0E-93AA-8D5CB838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747-7429-45AD-9478-522437ED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103E-2701-44DB-8860-91EF09E96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4600" y="120600"/>
          <a:ext cx="8780400" cy="71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20600"/>
                    <a:ext cx="8780400" cy="71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19200" y="658800"/>
          <a:ext cx="81342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8800"/>
                    <a:ext cx="81342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93640" y="568440"/>
          <a:ext cx="8497800" cy="64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68440"/>
                    <a:ext cx="849780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3200" y="565200"/>
          <a:ext cx="86868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65200"/>
                    <a:ext cx="86868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4200" y="538200"/>
          <a:ext cx="83232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3232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4200" y="538200"/>
          <a:ext cx="82026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2026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84200" y="457200"/>
          <a:ext cx="86994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57200"/>
                    <a:ext cx="86994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74952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4. calculando término del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true; i+=2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rmi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Math.abs(termino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psilon) break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374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5. abrevi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h.abs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+=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otangente: x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eno: 1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!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!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aritmo natura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 Z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+ . . .) con Z =(x-1)/(x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4720" y="685800"/>
          <a:ext cx="844704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685800"/>
                    <a:ext cx="844704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8440" y="506520"/>
          <a:ext cx="843732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43732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46200" y="538200"/>
          <a:ext cx="8067600" cy="56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538200"/>
                    <a:ext cx="8067600" cy="56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17600" y="511200"/>
          <a:ext cx="8713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511200"/>
                    <a:ext cx="8713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60400" y="550800"/>
          <a:ext cx="7705800" cy="59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550800"/>
                    <a:ext cx="770580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23800" y="577800"/>
          <a:ext cx="8175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23800" y="577800"/>
          <a:ext cx="817560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511200"/>
          <a:ext cx="8136000" cy="61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11200"/>
                    <a:ext cx="8136000" cy="61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4:36:52Z</dcterms:created>
  <dc:creator>jalvarez</dc:creator>
  <dc:description/>
  <dc:language>en-US</dc:language>
  <cp:lastModifiedBy>jalvarez</cp:lastModifiedBy>
  <cp:lastPrinted>2006-08-19T16:06:24Z</cp:lastPrinted>
  <dcterms:modified xsi:type="dcterms:W3CDTF">2008-05-13T12:25:47Z</dcterms:modified>
  <cp:revision>26</cp:revision>
  <dc:subject/>
  <dc:title>Sin título de diapositiva</dc:title>
</cp:coreProperties>
</file>