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C3C-7ACD-4D28-A968-8D964492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281-25D3-4B43-95F1-1A60C266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6E2-A417-401B-9D29-253AEBE6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D6B-E4BF-400F-923E-A96A118F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0F7-EED4-4BC7-AF17-C1B340BC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700-446E-4B22-BE8E-7AA5D84B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67F-8AA6-476B-8B8E-1B63BB6F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3E1-1B32-43E1-84E7-DC310EC7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7D2-6E9A-43F7-8A0E-9F77ACA5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3FD-7ED9-44F9-B49D-A913F6DE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4C7-138A-4172-8901-C6041DE6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033-A3FB-43D9-9C6D-C1EAFC5D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0041-F300-41D7-8DCE-3658FC043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1200" y="577800"/>
          <a:ext cx="84852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77800"/>
                    <a:ext cx="84852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1200" y="309600"/>
          <a:ext cx="86598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9600"/>
                    <a:ext cx="8659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8200" y="430200"/>
          <a:ext cx="82962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30200"/>
                    <a:ext cx="82962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9200" y="469800"/>
          <a:ext cx="8686800" cy="703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69800"/>
                    <a:ext cx="8686800" cy="70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6400" y="484200"/>
          <a:ext cx="78138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4200"/>
                    <a:ext cx="78138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406440"/>
          <a:ext cx="8585280" cy="68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6440"/>
                    <a:ext cx="85852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06440"/>
          <a:ext cx="8737560" cy="791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6440"/>
                    <a:ext cx="8737560" cy="79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5040" y="635040"/>
          <a:ext cx="8051760" cy="55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635040"/>
                    <a:ext cx="805176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44600" y="431640"/>
          <a:ext cx="8407440" cy="65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1640"/>
                    <a:ext cx="840744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44600"/>
          <a:ext cx="89154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9154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1200" y="565200"/>
          <a:ext cx="8094600" cy="53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65200"/>
                    <a:ext cx="809460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03200" y="469800"/>
          <a:ext cx="8578800" cy="59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788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58800" y="511200"/>
          <a:ext cx="8121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11200"/>
                    <a:ext cx="8121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08-05-08T19:18:44Z</dcterms:modified>
  <cp:revision>20</cp:revision>
  <dc:subject/>
  <dc:title>Sin título de diapositiva</dc:title>
</cp:coreProperties>
</file>