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361B-FDB1-4550-8161-4A56422C1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D16B-3986-499B-A211-BC0E4681D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10E6-651D-43FD-81EA-B06451037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6B0A-859F-49AE-ACB1-BBE25FD3E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0008-185A-4398-BB20-EE73877F4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FA796-AF07-4C70-8389-26C9822E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64A-9A3F-46CA-844A-8BC6ECD5A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4A02-8533-4254-9022-D0CF8C2A5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F6EA5-CD5C-47C4-BB6A-5072AF14E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3F35-159A-4E88-A0BC-5735B2E9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AF0B-D39C-4ADD-8B35-D47529423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B576-82E1-4068-BF88-08A0CF55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79E0A-102C-4F9F-8EB5-0209D3EECC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1200" y="577800"/>
          <a:ext cx="8485200" cy="5756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77800"/>
                    <a:ext cx="8485200" cy="575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511200" y="309600"/>
          <a:ext cx="8659800" cy="6400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309600"/>
                    <a:ext cx="8659800" cy="640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538200" y="430200"/>
          <a:ext cx="8296200" cy="6199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8200" y="430200"/>
                    <a:ext cx="829620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349200" y="469800"/>
          <a:ext cx="8686800" cy="7034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0" y="469800"/>
                    <a:ext cx="8686800" cy="703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06400" y="484200"/>
          <a:ext cx="7813800" cy="6804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6400" y="484200"/>
                    <a:ext cx="7813800" cy="680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444600" y="406440"/>
          <a:ext cx="8585280" cy="6845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06440"/>
                    <a:ext cx="8585280" cy="684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380880" y="406440"/>
          <a:ext cx="8737560" cy="7912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406440"/>
                    <a:ext cx="8737560" cy="791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30360" y="568440"/>
          <a:ext cx="8264520" cy="604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568440"/>
                    <a:ext cx="8264520" cy="604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5040" y="635040"/>
          <a:ext cx="8051760" cy="558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5040" y="635040"/>
                    <a:ext cx="8051760" cy="558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614520" y="577800"/>
          <a:ext cx="8192880" cy="5859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4520" y="577800"/>
                    <a:ext cx="8192880" cy="585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444600" y="431640"/>
          <a:ext cx="8407440" cy="6515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31640"/>
                    <a:ext cx="8407440" cy="651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282600" y="457200"/>
          <a:ext cx="9225000" cy="7005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2600" y="457200"/>
                    <a:ext cx="9225000" cy="700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444600" y="457200"/>
          <a:ext cx="8524800" cy="6132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57200"/>
                    <a:ext cx="8524800" cy="613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469800" y="444600"/>
          <a:ext cx="8915400" cy="669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9800" y="444600"/>
                    <a:ext cx="8915400" cy="669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65200"/>
          <a:ext cx="8094600" cy="5391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65200"/>
                    <a:ext cx="8094600" cy="53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444600" y="417600"/>
          <a:ext cx="8483400" cy="723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4600" y="417600"/>
                    <a:ext cx="8483400" cy="723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403200" y="469800"/>
          <a:ext cx="8578800" cy="5985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200" y="469800"/>
                    <a:ext cx="8578800" cy="598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658800" y="511200"/>
          <a:ext cx="812160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511200"/>
                    <a:ext cx="812160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11:23:41Z</dcterms:created>
  <dc:creator>jalvarez</dc:creator>
  <dc:description/>
  <dc:language>en-US</dc:language>
  <cp:lastModifiedBy>jalvarez</cp:lastModifiedBy>
  <cp:lastPrinted>2006-05-31T13:28:42Z</cp:lastPrinted>
  <dcterms:modified xsi:type="dcterms:W3CDTF">2008-05-08T19:18:44Z</dcterms:modified>
  <cp:revision>20</cp:revision>
  <dc:subject/>
  <dc:title>Sin título de diapositiva</dc:title>
</cp:coreProperties>
</file>