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A73-4B81-4A81-A6AE-9F67E8EF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C0F-BDDC-4352-848A-E5E6BA09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130-5AAF-4AB5-BC36-A9C20E5E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FC2-83CD-4577-AA76-CAE577A4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56C-9F8E-4C5D-8C71-8B8A2C23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0A8-A1DA-4753-AC46-3BAB9E5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018-9732-4634-9E5C-C8ECAC53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A7A-E280-48CE-8D28-481DD5C5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D61-A5FB-4FDC-A438-E2A902C2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99A-34DC-460A-98B3-CA058B8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BC1-83F5-4F73-8B83-9AEA8F8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3C8-B386-4FCD-877E-A5D9F72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2001-D6FC-425B-918A-C495F8BAB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8-05-08T19:18:44Z</dcterms:modified>
  <cp:revision>20</cp:revision>
  <dc:subject/>
  <dc:title>Sin título de diapositiva</dc:title>
</cp:coreProperties>
</file>