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BAD-65D1-4F81-B2A4-B5574D6D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87A-770C-4E30-91C0-60ADD6FC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12A-8E71-432F-826A-8CCA18F8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127F-6F8B-45EE-9FF4-9E03469E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EAFD-5D78-458E-B825-7E439D46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5CC8-D089-4F18-B27C-BA1A05E8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5AC3-CB43-475A-A010-FC3AE289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7C0-68A0-47CD-B885-EE368891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3AE5-C3F7-45E1-AC61-64F8DF59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2FF-0D51-4880-A014-85D65472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92CB-8B9F-4BA9-9B7D-FC89133A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929-D017-4556-BACB-2CA6E977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F7E8-CA30-45AE-9305-4A6A680F6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1200" y="577800"/>
          <a:ext cx="8485200" cy="57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77800"/>
                    <a:ext cx="848520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1200" y="309600"/>
          <a:ext cx="86598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309600"/>
                    <a:ext cx="86598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8200" y="430200"/>
          <a:ext cx="82962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30200"/>
                    <a:ext cx="82962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9200" y="469800"/>
          <a:ext cx="8686800" cy="703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69800"/>
                    <a:ext cx="8686800" cy="703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06400" y="484200"/>
          <a:ext cx="78138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484200"/>
                    <a:ext cx="78138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44600" y="406440"/>
          <a:ext cx="8585280" cy="684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06440"/>
                    <a:ext cx="85852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406440"/>
          <a:ext cx="8737560" cy="791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6440"/>
                    <a:ext cx="8737560" cy="79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30360" y="568440"/>
          <a:ext cx="82645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645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35040" y="635040"/>
          <a:ext cx="8051760" cy="558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635040"/>
                    <a:ext cx="805176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4520" y="577800"/>
          <a:ext cx="819288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77800"/>
                    <a:ext cx="819288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44600" y="431640"/>
          <a:ext cx="8407440" cy="651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31640"/>
                    <a:ext cx="840744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82600" y="457200"/>
          <a:ext cx="9225000" cy="70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457200"/>
                    <a:ext cx="9225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44600" y="457200"/>
          <a:ext cx="85248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5248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9800" y="444600"/>
          <a:ext cx="89154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9154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1200" y="565200"/>
          <a:ext cx="8094600" cy="539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65200"/>
                    <a:ext cx="809460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44600" y="417600"/>
          <a:ext cx="84834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17600"/>
                    <a:ext cx="84834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03200" y="469800"/>
          <a:ext cx="8578800" cy="598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7880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58800" y="511200"/>
          <a:ext cx="8121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11200"/>
                    <a:ext cx="8121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jalvarez</cp:lastModifiedBy>
  <cp:lastPrinted>2006-05-31T13:28:42Z</cp:lastPrinted>
  <dcterms:modified xsi:type="dcterms:W3CDTF">2008-05-08T19:18:44Z</dcterms:modified>
  <cp:revision>20</cp:revision>
  <dc:subject/>
  <dc:title>Sin título de diapositiva</dc:title>
</cp:coreProperties>
</file>