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3018-48ED-414B-ACEA-9F5D0D78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4AE6-6FC5-48AB-B671-1CF44D92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C4FC-0E99-4DA4-89B2-803F3305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C9D-8125-47DF-B860-30D198CE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D78-FC6A-4A88-8FDB-FB930E69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8DC-8F48-4FD5-B881-92DF142C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45F-C442-403C-839D-696C642E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0F9-71A0-4EDC-B837-5252440E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BD3F-BB23-4D04-9EF6-AD75E6C6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1D4-EF6F-4ED2-B997-AACE65A5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80D6-1EA3-41ED-A1CB-2CFD860E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FE81-02AE-4DE4-8396-5A48BA66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E7C6-B025-417A-AB0E-393C5FE1B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6520" y="420840"/>
          <a:ext cx="8461440" cy="60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20840"/>
                    <a:ext cx="8461440" cy="60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78040" y="544680"/>
          <a:ext cx="7904160" cy="59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904160" cy="59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92280" y="568440"/>
          <a:ext cx="8078760" cy="5913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568440"/>
                    <a:ext cx="807876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828720" y="642960"/>
          <a:ext cx="7854840" cy="56912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642960"/>
                    <a:ext cx="785484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06600" y="469800"/>
          <a:ext cx="8386560" cy="72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69800"/>
                    <a:ext cx="8386560" cy="72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31720" y="506520"/>
          <a:ext cx="826308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26308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31720" y="506520"/>
          <a:ext cx="847404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47404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43040" y="446040"/>
          <a:ext cx="8138880" cy="760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446040"/>
                    <a:ext cx="8138880" cy="760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04880" y="606600"/>
          <a:ext cx="8040600" cy="57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06600"/>
                    <a:ext cx="8040600" cy="57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68440" y="446040"/>
          <a:ext cx="832644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46040"/>
                    <a:ext cx="832644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06600" y="53172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3172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19120" y="593640"/>
          <a:ext cx="8474040" cy="653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93640"/>
                    <a:ext cx="8474040" cy="65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30360" y="506520"/>
          <a:ext cx="7645320" cy="49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06520"/>
                    <a:ext cx="764532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9760" y="558720"/>
          <a:ext cx="8456400" cy="56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558720"/>
                    <a:ext cx="845640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1120" y="606600"/>
          <a:ext cx="8163000" cy="602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06600"/>
                    <a:ext cx="8163000" cy="60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82760" y="433440"/>
          <a:ext cx="8535960" cy="66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535960" cy="66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92280" y="506520"/>
          <a:ext cx="79167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06520"/>
                    <a:ext cx="79167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06600" y="606600"/>
          <a:ext cx="82627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06600"/>
                    <a:ext cx="82627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93640" y="446040"/>
          <a:ext cx="828828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46040"/>
                    <a:ext cx="828828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581040"/>
          <a:ext cx="8101080" cy="65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81040"/>
                    <a:ext cx="8101080" cy="65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8:35:53Z</dcterms:created>
  <dc:creator>jalvarez</dc:creator>
  <dc:description/>
  <dc:language>en-US</dc:language>
  <cp:lastModifiedBy>jalvarez</cp:lastModifiedBy>
  <cp:lastPrinted>2006-05-23T16:18:20Z</cp:lastPrinted>
  <dcterms:modified xsi:type="dcterms:W3CDTF">2008-05-05T14:22:45Z</dcterms:modified>
  <cp:revision>11</cp:revision>
  <dc:subject/>
  <dc:title>Sin título de diapositiva</dc:title>
</cp:coreProperties>
</file>