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9F8-6555-4F81-865D-B5BB96DC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F4C-059C-4144-8122-56549BD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906-01C3-462F-845D-3560558A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C63-30C7-4AB3-9ABF-1C906D3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8F1-3539-4051-81F8-F55E754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333-2404-4F9A-946A-74ECBCC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2AD-2291-4AE6-9081-ACFDFD33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5B9-1E06-414A-AFED-65B1FB0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944-8A65-4147-A268-8BC6FFD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662-54DF-4764-B923-D1ED0DD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E4F-1E2E-44CE-954C-95FF7BD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BCF-9449-4DCE-B4ED-4E5EA67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FBA5-FFEA-4E17-A6C1-4043A5927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420840"/>
          <a:ext cx="8461440" cy="60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20840"/>
                    <a:ext cx="8461440" cy="60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28720" y="642960"/>
          <a:ext cx="7854840" cy="5691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642960"/>
                    <a:ext cx="7854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469800"/>
          <a:ext cx="838656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1720" y="506520"/>
          <a:ext cx="82630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2630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1720" y="506520"/>
          <a:ext cx="84740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740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3040" y="446040"/>
          <a:ext cx="8138880" cy="760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38880" cy="760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04880" y="606600"/>
          <a:ext cx="8040600" cy="57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04060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68440" y="446040"/>
          <a:ext cx="832644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2644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93640"/>
          <a:ext cx="8474040" cy="65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93640"/>
                    <a:ext cx="847404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0360" y="506520"/>
          <a:ext cx="7645320" cy="49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764532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9760" y="558720"/>
          <a:ext cx="8456400" cy="56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558720"/>
                    <a:ext cx="84564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06600"/>
          <a:ext cx="8163000" cy="60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06600"/>
          <a:ext cx="8262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262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581040"/>
          <a:ext cx="810108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81040"/>
                    <a:ext cx="810108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6-05-23T16:18:20Z</cp:lastPrinted>
  <dcterms:modified xsi:type="dcterms:W3CDTF">2008-05-05T14:22:45Z</dcterms:modified>
  <cp:revision>11</cp:revision>
  <dc:subject/>
  <dc:title>Sin título de diapositiva</dc:title>
</cp:coreProperties>
</file>