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281-90D7-401E-8004-BDC40F12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F7E-CAF6-4CEB-9E45-19911BB8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D1D-EA81-484F-AF8B-6D66E1C0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0B8-E202-4DF0-B2E1-C4A226FB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282-7FC1-4293-9B0D-F36DE40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F75-D954-43F5-A5E8-62D5AC4A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6D0-6E2E-4FCE-B9D6-1DD3ADE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767-1C43-42E1-9BD9-8A13F617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E38-C9B0-4B28-814E-BB587FC7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72F-0CBF-4F5B-B7D4-1E576E5F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78D-3003-447A-ACFA-630003D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C5B-6FED-4C1A-B8CF-427F766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E413-0E4B-4670-964D-F2BE4745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9760" y="558720"/>
          <a:ext cx="8456400" cy="56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558720"/>
                    <a:ext cx="84564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8-05-05T14:22:45Z</dcterms:modified>
  <cp:revision>11</cp:revision>
  <dc:subject/>
  <dc:title>Sin título de diapositiva</dc:title>
</cp:coreProperties>
</file>