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F91B-7D64-4804-A15B-8B6A2692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642F-8809-4085-8128-F4E6E63B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5973-639A-47B1-8135-C87EE21D5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26CB-EBD4-4496-A021-ADB19739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38A4-06CD-4602-8507-E8D427EC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892E-D8D4-42ED-AFD7-48C138F8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65CB-764C-4F88-8C73-972DCA4B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B079-2FEB-4BAA-A61C-11DE7C46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9C63-0A0F-4251-8F24-3286144E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1F39-B50B-414E-B50B-B87A0E10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0112-DB2C-4E9E-8DDC-6B5AA038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E80F-EB90-4093-B6A0-173BC5E9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0FA4-66BF-4BFC-A076-57DD2D7D4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06520" y="420840"/>
          <a:ext cx="8461440" cy="608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20840"/>
                    <a:ext cx="8461440" cy="60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78040" y="544680"/>
          <a:ext cx="7904160" cy="59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544680"/>
                    <a:ext cx="7904160" cy="59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92280" y="568440"/>
          <a:ext cx="8078760" cy="5913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280" y="568440"/>
                    <a:ext cx="807876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828720" y="642960"/>
          <a:ext cx="7854840" cy="56912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8720" y="642960"/>
                    <a:ext cx="785484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06600" y="469800"/>
          <a:ext cx="8386560" cy="72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69800"/>
                    <a:ext cx="8386560" cy="72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31720" y="506520"/>
          <a:ext cx="826308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26308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31720" y="506520"/>
          <a:ext cx="8474040" cy="60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474040" cy="60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43040" y="446040"/>
          <a:ext cx="8138880" cy="760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446040"/>
                    <a:ext cx="8138880" cy="760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04880" y="606600"/>
          <a:ext cx="8040600" cy="576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606600"/>
                    <a:ext cx="8040600" cy="57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68440" y="446040"/>
          <a:ext cx="832644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46040"/>
                    <a:ext cx="832644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06600" y="531720"/>
          <a:ext cx="83246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31720"/>
                    <a:ext cx="83246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19120" y="593640"/>
          <a:ext cx="8474040" cy="653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93640"/>
                    <a:ext cx="8474040" cy="653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30360" y="506520"/>
          <a:ext cx="7645320" cy="499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06520"/>
                    <a:ext cx="764532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09760" y="558720"/>
          <a:ext cx="8456400" cy="56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558720"/>
                    <a:ext cx="845640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1120" y="606600"/>
          <a:ext cx="8163000" cy="602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606600"/>
                    <a:ext cx="8163000" cy="60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82760" y="433440"/>
          <a:ext cx="8535960" cy="660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33440"/>
                    <a:ext cx="8535960" cy="66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92280" y="506520"/>
          <a:ext cx="791676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06520"/>
                    <a:ext cx="791676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06600" y="606600"/>
          <a:ext cx="82627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06600"/>
                    <a:ext cx="82627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93640" y="446040"/>
          <a:ext cx="8288280" cy="620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446040"/>
                    <a:ext cx="8288280" cy="62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43040" y="581040"/>
          <a:ext cx="8101080" cy="65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81040"/>
                    <a:ext cx="8101080" cy="65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8:35:53Z</dcterms:created>
  <dc:creator>jalvarez</dc:creator>
  <dc:description/>
  <dc:language>en-US</dc:language>
  <cp:lastModifiedBy>jalvarez</cp:lastModifiedBy>
  <cp:lastPrinted>2006-05-23T16:18:20Z</cp:lastPrinted>
  <dcterms:modified xsi:type="dcterms:W3CDTF">2008-05-05T14:22:45Z</dcterms:modified>
  <cp:revision>11</cp:revision>
  <dc:subject/>
  <dc:title>Sin título de diapositiva</dc:title>
</cp:coreProperties>
</file>