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6F3-749F-4898-8DF7-27D35E6D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45A-1497-43FF-86BE-19FC0C8B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19A-D9F5-44BE-8DCD-C436C829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6E9-E9C7-4858-85E7-960766D0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82B-D07E-40A4-BF8A-AA89EFA0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61B-EF11-4EA6-87FB-E89FD57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62E-23FD-4016-9FF7-513BEEA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73B-5DAB-4B08-A69E-2CE666A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ECA-84AB-4D75-90D4-2894CA4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786-9D39-43D4-B171-D78F4D8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46D-84EC-4A7B-B0C4-AAA3862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02A-7979-4F03-9ECB-6F6FD0F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77A-7211-44B5-A4FE-087B5AC6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07960"/>
          <a:ext cx="81918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1918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57200"/>
          <a:ext cx="848340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57200"/>
                    <a:ext cx="84834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546120"/>
          <a:ext cx="79120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12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65200"/>
          <a:ext cx="8445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5200"/>
                    <a:ext cx="8445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647640"/>
          <a:ext cx="8178840" cy="55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817884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0200" y="469800"/>
          <a:ext cx="880740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8074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9600" y="430200"/>
          <a:ext cx="8767800" cy="70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430200"/>
                    <a:ext cx="8767800" cy="70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8-05-02T11:53:42Z</dcterms:modified>
  <cp:revision>21</cp:revision>
  <dc:subject/>
  <dc:title>Sin título de diapositiva</dc:title>
</cp:coreProperties>
</file>