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A67-F538-4BD5-9D02-6A78E200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78E-B1D8-408C-89FB-CE6BF737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42A-59A5-4A89-AC51-71957E88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38E-B534-4606-8A2E-D612B66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278-8647-49B4-81F5-9C87C028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137-CD9F-4A33-AA70-04626E7F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52D-2B32-428C-91D1-9F756D15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87B-B435-40EB-B4D3-39D69B78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964-4DAE-4EC5-83EB-0AC2EE98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44A-FA66-432B-AD4C-1BB5F1A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105-D98F-4C6E-B1F4-CFF3926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381-607A-4F41-B275-83B3369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7A9A-65D2-4CB3-80A2-47DC4F7B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507960"/>
          <a:ext cx="81918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1918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57200"/>
          <a:ext cx="848340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57200"/>
                    <a:ext cx="84834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546120"/>
          <a:ext cx="79120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120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565200"/>
          <a:ext cx="8445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5200"/>
                    <a:ext cx="8445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647640"/>
          <a:ext cx="8178840" cy="55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817884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0200" y="469800"/>
          <a:ext cx="880740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80740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9600" y="430200"/>
          <a:ext cx="8767800" cy="70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430200"/>
                    <a:ext cx="8767800" cy="70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8-05-02T11:53:42Z</dcterms:modified>
  <cp:revision>21</cp:revision>
  <dc:subject/>
  <dc:title>Sin título de diapositiva</dc:title>
</cp:coreProperties>
</file>