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7A3-03EA-43A3-930B-497F280B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BFA-D2C0-4B47-BEB5-EE8F7DFE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53C-C5D4-40CC-A8FC-3A1A8127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72C-5250-40E4-8321-159B727B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8F8-D41D-4345-A588-E1D9CFA9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22F-F692-4D7F-8348-567AF2C1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6FB-4FE2-4B18-B776-5DFB1671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D79-CCAD-4BE9-8C08-3CA556AE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2B6-833A-4DC3-9BD6-D01A36A9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4D9-C4F9-4947-8E7E-3C31260B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3E6-7C38-4899-A8E9-BA02FF64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26F-10F1-4668-A9BD-0B9417C9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FD4A-8B56-4FCE-87C3-E4588AED6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507960"/>
          <a:ext cx="819180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07960"/>
                    <a:ext cx="819180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2760" y="457200"/>
          <a:ext cx="848340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57200"/>
                    <a:ext cx="848340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2120" y="546120"/>
          <a:ext cx="79120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120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565200"/>
          <a:ext cx="8445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65200"/>
                    <a:ext cx="8445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647640"/>
          <a:ext cx="8178840" cy="55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47640"/>
                    <a:ext cx="817884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30200" y="469800"/>
          <a:ext cx="880740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80740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9600" y="430200"/>
          <a:ext cx="8767800" cy="70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430200"/>
                    <a:ext cx="8767800" cy="70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08-05-02T11:53:42Z</dcterms:modified>
  <cp:revision>21</cp:revision>
  <dc:subject/>
  <dc:title>Sin título de diapositiva</dc:title>
</cp:coreProperties>
</file>