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503-72B0-415E-A11E-0EFAC20D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4F7-6ECB-4D4C-BD3B-FBCD5E0E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8CA-9FC9-4E50-AF84-6DC3B0D4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C7D-C001-4BE8-A90B-26A6B0B1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86A-C4F2-46E9-827D-4EA985E4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CD8-D365-4539-9BCC-413915A0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CE1-C63A-41B3-A62E-D3F98CAC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A90-2CF5-4AB1-9666-6F120773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19F2-3983-4296-A6AD-3D378312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58E-AF99-44B3-81B2-06915BC1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2E4-5C2D-4B45-B7B4-6667C9E9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204-D511-444B-984A-3FF16DFE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12F4-A6DB-4ED6-A5F9-41BC0BBEE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507960"/>
          <a:ext cx="8191800" cy="631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07960"/>
                    <a:ext cx="819180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35040" y="571680"/>
          <a:ext cx="814068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571680"/>
                    <a:ext cx="814068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31640" y="495360"/>
          <a:ext cx="8560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560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07960" y="482760"/>
          <a:ext cx="83440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07960" y="482760"/>
          <a:ext cx="8344080" cy="64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07960" y="482760"/>
          <a:ext cx="8344080" cy="61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82760"/>
                    <a:ext cx="8344080" cy="61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2760" y="457200"/>
          <a:ext cx="848340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57200"/>
                    <a:ext cx="848340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2120" y="546120"/>
          <a:ext cx="79120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120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565200"/>
          <a:ext cx="8445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65200"/>
                    <a:ext cx="8445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647640"/>
          <a:ext cx="8178840" cy="55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47640"/>
                    <a:ext cx="817884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30200" y="469800"/>
          <a:ext cx="880740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80740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9600" y="430200"/>
          <a:ext cx="8767800" cy="70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430200"/>
                    <a:ext cx="8767800" cy="70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22440" y="431640"/>
          <a:ext cx="8305560" cy="60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431640"/>
                    <a:ext cx="830556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5360" y="444600"/>
          <a:ext cx="85345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4600"/>
                    <a:ext cx="85345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93492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grabar n líneas en orden inve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Writer b=new PrintWriter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FileWriter(archivo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int i=n-1; i&gt;=0; --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println( lineas[i]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clo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08-05-02T11:53:42Z</dcterms:modified>
  <cp:revision>21</cp:revision>
  <dc:subject/>
  <dc:title>Sin título de diapositiva</dc:title>
</cp:coreProperties>
</file>