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721-3DFF-4916-89E7-BB679223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6D4-9546-475C-99D1-7EF1048D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F7F-423E-4CEE-B2DC-DF824DF7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6D8-165A-4754-B003-BC1CEF31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871-6D8D-479E-ABDB-F485F39A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132-AE33-456C-A065-7BD74A69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495-79BC-49D1-986A-635233FB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A52-7F3E-4D21-A82C-DF81B95A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461-E6E9-478B-AC4B-020E2081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C06-1AB1-41BE-AFC0-578F4B7C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4C4-365C-4364-9F75-0275C0C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916-6B77-4C02-B4DC-2FB87AA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158A-1D21-42BB-A824-FEDC3F845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511200"/>
          <a:ext cx="8094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11200"/>
                    <a:ext cx="8094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3200" y="523800"/>
          <a:ext cx="8512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23800"/>
                    <a:ext cx="8512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2980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2980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38200"/>
          <a:ext cx="82566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38200"/>
                    <a:ext cx="82566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17600" y="511200"/>
          <a:ext cx="856440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56440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50688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suma todos los elementos de un arreglo de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suma(int[]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x.length representa nº de elementos del arreg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=suma(poblac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20560" y="469800"/>
          <a:ext cx="8356680" cy="60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9800"/>
                    <a:ext cx="83566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571680"/>
          <a:ext cx="8115480" cy="59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71680"/>
                    <a:ext cx="811548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19040" y="800280"/>
          <a:ext cx="819144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800280"/>
                    <a:ext cx="819144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8-04-29T12:45:05Z</dcterms:modified>
  <cp:revision>16</cp:revision>
  <dc:subject/>
  <dc:title>Sin título de diapositiva</dc:title>
</cp:coreProperties>
</file>