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FB7-FBA4-4BF4-B8BA-98EA9D8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E94-FE26-4FB4-A3AA-F469ECD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E99-10CE-4BDF-B7AD-4988E0F1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141-BE37-4569-B0DE-1E710071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C5B-5F79-46CE-8DE8-DDCD54F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288-675C-44E6-9797-ED9DB03E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B7D-A825-413E-A860-2D3FD8C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415-023B-4416-BF43-C2A1BF28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FEB-172F-4B30-8808-9C9ABC3C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446-7B2F-4E6A-BACE-FB59A52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818-877D-4F6B-812D-9AF6030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43A-CC70-4CA5-A7CB-7B1DD83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D3E-2AB7-45B3-8FC3-C492A493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0360" y="482760"/>
          <a:ext cx="8003880" cy="674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482760"/>
                    <a:ext cx="800388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3200" y="457200"/>
          <a:ext cx="81900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57200"/>
                    <a:ext cx="8190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50800"/>
          <a:ext cx="828360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0800"/>
                    <a:ext cx="828360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511200"/>
          <a:ext cx="809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11200"/>
                    <a:ext cx="809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3200" y="523800"/>
          <a:ext cx="8512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23800"/>
                    <a:ext cx="8512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457200"/>
          <a:ext cx="82980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2980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23800" y="538200"/>
          <a:ext cx="82566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38200"/>
                    <a:ext cx="82566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7600" y="511200"/>
          <a:ext cx="856440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56440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50688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suma todos los elementos de un arreglo de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suma(int[]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s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0; i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.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x.length representa nº de elementos del arreg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=suma(poblac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20560" y="469800"/>
          <a:ext cx="8356680" cy="60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9800"/>
                    <a:ext cx="83566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571680"/>
          <a:ext cx="8115480" cy="59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71680"/>
                    <a:ext cx="811548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19040" y="800280"/>
          <a:ext cx="819144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800280"/>
                    <a:ext cx="819144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8-04-29T12:45:05Z</dcterms:modified>
  <cp:revision>16</cp:revision>
  <dc:subject/>
  <dc:title>Sin título de diapositiva</dc:title>
</cp:coreProperties>
</file>