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ED2-5E40-4E25-BB83-4B6E48CD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6B3-3314-4682-B819-0ACB388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7F0-2161-4369-BB67-52DCA835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3E3-8E57-4619-8D1B-EE3789D6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571-E7D8-4671-8929-0698C65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E4F-C8D5-4328-AF3C-51F437B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E96-A50D-4611-9756-EB10810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83B-FA3A-4034-B922-0EFD8D0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4FB-6B98-405C-BD86-A49D3D4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158-5C75-4992-A16C-D9B954D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237-2D8C-467E-AE41-84E2664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A76-ED62-492F-9182-5D00EBF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2AC4-511C-45E4-A6D1-CD29D517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511200"/>
          <a:ext cx="809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11200"/>
                    <a:ext cx="809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3200" y="523800"/>
          <a:ext cx="8512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23800"/>
                    <a:ext cx="8512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2980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2980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38200"/>
          <a:ext cx="82566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38200"/>
                    <a:ext cx="82566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7600" y="511200"/>
          <a:ext cx="856440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56440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0688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suma todos los elementos de un arreglo d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suma(int[]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x.length representa nº de elementos del arreg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=suma(poblac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20560" y="469800"/>
          <a:ext cx="8356680" cy="60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9800"/>
                    <a:ext cx="83566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571680"/>
          <a:ext cx="8115480" cy="59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71680"/>
                    <a:ext cx="811548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9040" y="800280"/>
          <a:ext cx="819144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00280"/>
                    <a:ext cx="8191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8-04-29T12:45:05Z</dcterms:modified>
  <cp:revision>16</cp:revision>
  <dc:subject/>
  <dc:title>Sin título de diapositiva</dc:title>
</cp:coreProperties>
</file>