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A9A-65B9-4B89-A177-2880F1D2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1BE-1042-4B3F-B9E4-7D287B0C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069-28AD-4FA8-82AF-25387240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BE3-FAF2-4655-9E88-4DD9E892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896-E842-42FC-AA90-4E7ADC6F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F10-99EF-43D0-8EA9-7F0B457F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7EB-50BD-43AE-9CEB-5FB4FF6E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4E7-FB4F-4960-B46A-94849430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744-CD7A-40F8-9CF1-63DFD41D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61D-8F7E-4FE4-AD2F-BDE4830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5DF-A67D-49D7-BC97-5537A018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60D-93E6-41D7-92AE-DE61B8C1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AD01-5451-4DAE-BEAE-EE488F753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0360" y="482760"/>
          <a:ext cx="8003880" cy="674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82760"/>
                    <a:ext cx="80038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511200"/>
          <a:ext cx="8094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11200"/>
                    <a:ext cx="8094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3200" y="523800"/>
          <a:ext cx="8512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23800"/>
                    <a:ext cx="8512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457200"/>
          <a:ext cx="82980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2980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23800" y="538200"/>
          <a:ext cx="82566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38200"/>
                    <a:ext cx="82566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17600" y="511200"/>
          <a:ext cx="856440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56440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506880"/>
            <a:ext cx="89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suma todos los elementos de un arreglo de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suma(int[]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0; i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.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x.length representa nº de elementos del arreg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=suma(poblac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20560" y="469800"/>
          <a:ext cx="8356680" cy="60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469800"/>
                    <a:ext cx="83566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571680"/>
          <a:ext cx="8115480" cy="59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71680"/>
                    <a:ext cx="811548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19040" y="800280"/>
          <a:ext cx="819144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800280"/>
                    <a:ext cx="819144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8-04-29T12:45:05Z</dcterms:modified>
  <cp:revision>16</cp:revision>
  <dc:subject/>
  <dc:title>Sin título de diapositiva</dc:title>
</cp:coreProperties>
</file>