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F041-320D-47C9-8263-BA6881A6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782D-1585-4D36-B93A-B7B52878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C5E6-D6FD-4E34-A039-9504F675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A99-69B8-46D0-AD6A-E608832C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E9A-C30F-48C9-81BF-449BB229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6CE5-7097-4342-B233-C23CD580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02D-0D18-4E2F-8C18-C0D7243C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02C6-D901-4E4F-9AE9-0C3EEF61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239-7CD5-4ED9-A833-F889F9C2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E07-D1A2-46CB-AA56-A6986DAC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ED1-CC45-4574-8C6A-57F1F6B1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D5A1-DE28-43D8-A40E-A547A278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348E-D555-4F65-9AB3-6748CF7BD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30360" y="482760"/>
          <a:ext cx="8003880" cy="6742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360" y="482760"/>
                    <a:ext cx="8003880" cy="67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3200" y="457200"/>
          <a:ext cx="81900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57200"/>
                    <a:ext cx="81900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85800" y="550800"/>
          <a:ext cx="828360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50800"/>
                    <a:ext cx="828360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4800" y="511200"/>
          <a:ext cx="8094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511200"/>
                    <a:ext cx="8094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03200" y="523800"/>
          <a:ext cx="851220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23800"/>
                    <a:ext cx="851220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96800" y="457200"/>
          <a:ext cx="829800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57200"/>
                    <a:ext cx="829800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23800" y="538200"/>
          <a:ext cx="825660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38200"/>
                    <a:ext cx="825660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17600" y="511200"/>
          <a:ext cx="8564400" cy="57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511200"/>
                    <a:ext cx="8564400" cy="57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506880"/>
            <a:ext cx="89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suma todos los elementos de un arreglo de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suma(int[]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s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0; i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.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++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x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x.length representa nº de elementos del arreg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o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otal=suma(poblac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20560" y="469800"/>
          <a:ext cx="8356680" cy="603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469800"/>
                    <a:ext cx="835668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96880" y="596880"/>
          <a:ext cx="8242200" cy="591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96880"/>
                    <a:ext cx="82422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8400" y="571680"/>
          <a:ext cx="8115480" cy="593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71680"/>
                    <a:ext cx="811548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55728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19040" y="800280"/>
          <a:ext cx="8191440" cy="513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800280"/>
                    <a:ext cx="819144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6-05-09T15:34:00Z</cp:lastPrinted>
  <dcterms:modified xsi:type="dcterms:W3CDTF">2008-04-29T12:45:05Z</dcterms:modified>
  <cp:revision>16</cp:revision>
  <dc:subject/>
  <dc:title>Sin título de diapositiva</dc:title>
</cp:coreProperties>
</file>