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FA77-CAA4-492A-9D14-451730794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8082-D328-45C6-BEC5-CC1519CC4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F267-ACE2-4021-8877-26C30288D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DAA3-9C7F-48DC-A367-C2B5ACB6C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030E-F3DF-43CF-85D3-40DF2E421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BD5C-44D6-4CE1-899E-BB81F3E3B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CF13-661B-42B9-ADC8-E7C3ABF62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9244-B0C4-4DCD-A3D2-720B516A8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38BA-DF79-436F-818E-14F9F834E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86C6-E8AB-4100-8218-BC3FA3BA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41B6-B219-4373-9FA4-A57DDB64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F27A-FF00-42BD-86B1-105FB3C0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A66BA-96D1-4C83-BE50-7C1CA131BE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Repaso/resumen: Introducción a la Programación orientada a obje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rch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lases y ob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Her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Venta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ibuj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Gráf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23800" y="565200"/>
          <a:ext cx="7988400" cy="648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565200"/>
                    <a:ext cx="7988400" cy="64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84200" y="390600"/>
          <a:ext cx="8269200" cy="645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390600"/>
                    <a:ext cx="8269200" cy="64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469800" y="523800"/>
          <a:ext cx="8069400" cy="559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523800"/>
                    <a:ext cx="8069400" cy="559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593640" y="557280"/>
          <a:ext cx="8448840" cy="5960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557280"/>
                    <a:ext cx="8448840" cy="59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847800" y="538200"/>
          <a:ext cx="8080200" cy="5916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47800" y="538200"/>
                    <a:ext cx="8080200" cy="59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390600" y="417600"/>
          <a:ext cx="8524800" cy="672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417600"/>
                    <a:ext cx="8524800" cy="67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403200" y="363600"/>
          <a:ext cx="8578800" cy="646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363600"/>
                    <a:ext cx="8578800" cy="64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403200" y="336600"/>
          <a:ext cx="8620200" cy="673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336600"/>
                    <a:ext cx="8620200" cy="673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419040" y="482760"/>
          <a:ext cx="8496360" cy="670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482760"/>
                    <a:ext cx="8496360" cy="67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417600" y="390600"/>
          <a:ext cx="8497800" cy="629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390600"/>
                    <a:ext cx="8497800" cy="62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355680" y="380880"/>
          <a:ext cx="8674200" cy="627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5680" y="380880"/>
                    <a:ext cx="8674200" cy="627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38280" y="528480"/>
          <a:ext cx="8229600" cy="623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8280" y="528480"/>
                    <a:ext cx="8229600" cy="623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469800" y="349200"/>
          <a:ext cx="8848800" cy="723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349200"/>
                    <a:ext cx="8848800" cy="72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79280" y="424440"/>
            <a:ext cx="896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operandos y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double op1,op2; private char 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void actionPerformed(ActionEvent x){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//obtener bot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utton b=(Button)x.getSourc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obtener primer caracter de texto del botó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har c=b.getLabel().charAt(0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atender boton (y actualizar vis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s;//nuevo contenido de vis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witch(c)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Q': System.exit(0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C': s=""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S': s="-"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.': s=visor.getText()+"."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default:  s=visor.getText()+c; break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díg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24000" y="189000"/>
            <a:ext cx="84960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se '+' : case '-': case '*': case '/'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guardar primer operando y operac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op1=Double.parseDouble(visor.getText(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p=c; s=“”; break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se '='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realizar operación entre operando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op2=Double.parseDouble(visor.getText()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switch(op)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+': op1+=op2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-': op1-=op2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*': op1*=op2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/': op1/=op2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s=""+op1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actualizar vis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isor.setText(s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}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-316080"/>
            <a:ext cx="86868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333360"/>
            <a:ext cx="8686800" cy="53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obtener una respuesta “si” o “n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String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iOn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ing r=U.readLine(x+” si o no?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.trim().toLowerCas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r.equals(“si”)||r.equals(“no”))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 :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iOn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invierte string. Ej:inverso(“roma”)=“am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String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nvers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x.length()==0) return “”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inverso(x.substring(1))+x.charAt(0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capicua: capicua(“reconocer”)=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boolean capicua(String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.equals(inverso(x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274680"/>
            <a:ext cx="80755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rch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836640"/>
            <a:ext cx="849600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lass CopiarArchivos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void main(String[]ar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throws IOException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BR I=new BR(new FR(U.readLine(“input?”)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W O=new PW(new FW(U.readLine(“output?”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nc=0,int nl=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ing line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while((linea=I.readLine())!= null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.println(line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++nl; nc+=linea.length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.close(); I.close(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U.println(nl+“ líneas “+nc+” caracteres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990720" y="507960"/>
          <a:ext cx="7683480" cy="622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507960"/>
                    <a:ext cx="7683480" cy="62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11280" y="0"/>
            <a:ext cx="74167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Objeto de clase Frac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39640" y="404640"/>
          <a:ext cx="7917120" cy="6821640"/>
        </p:xfrm>
        <a:graphic>
          <a:graphicData uri="http://schemas.openxmlformats.org/drawingml/2006/table">
            <a:tbl>
              <a:tblPr/>
              <a:tblGrid>
                <a:gridCol w="1100160"/>
                <a:gridCol w="513000"/>
                <a:gridCol w="515880"/>
                <a:gridCol w="1830240"/>
                <a:gridCol w="565200"/>
                <a:gridCol w="2441520"/>
                <a:gridCol w="439920"/>
                <a:gridCol w="5112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todos públic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present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va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truc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accio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ig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cedimien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d m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if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n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/clase f(…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ado                                               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ul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971640" y="234936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270828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2781360"/>
            <a:ext cx="50472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572000" y="3573360"/>
            <a:ext cx="504720" cy="719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4292640"/>
            <a:ext cx="50472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414972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16000" y="59500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4643280" y="3789360"/>
            <a:ext cx="649440" cy="18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2920" y="5300640"/>
            <a:ext cx="576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6237360"/>
            <a:ext cx="41767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19280" y="1413000"/>
            <a:ext cx="648180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47640" y="1413000"/>
            <a:ext cx="0" cy="518472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47640" y="6597720"/>
            <a:ext cx="655344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8101080" y="1341000"/>
            <a:ext cx="0" cy="525636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65200" y="390600"/>
          <a:ext cx="801360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200" y="390600"/>
                    <a:ext cx="80136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Uso de objetos de una cl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1371600"/>
            <a:ext cx="82296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Fracción más lejana (del promedio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 f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U.readLine(“nº/nº?”)), s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0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min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), max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), cero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n=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while(!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cero)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s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sumar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); ++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f(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max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&gt;0) max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asigna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f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f(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min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&lt;0) min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asigna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f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asignar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U.readLine(“nº/nº?”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s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dividi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new F(n)); //promed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U.println(“más lejana=“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max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rest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s)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compareT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s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rest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min))&gt;0 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max : min)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to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)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30200" y="469800"/>
          <a:ext cx="8942400" cy="672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200" y="469800"/>
                    <a:ext cx="8942400" cy="672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28:50Z</dcterms:created>
  <dc:creator>jalvarez</dc:creator>
  <dc:description/>
  <dc:language>en-US</dc:language>
  <cp:lastModifiedBy>jalvarez</cp:lastModifiedBy>
  <cp:lastPrinted>2006-04-13T19:29:55Z</cp:lastPrinted>
  <dcterms:modified xsi:type="dcterms:W3CDTF">2008-04-23T21:24:32Z</dcterms:modified>
  <cp:revision>35</cp:revision>
  <dc:subject/>
  <dc:title>Sin título de diapositiva</dc:title>
</cp:coreProperties>
</file>