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1F0-DFA1-4B3F-A8AD-ADE4CF48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582-FA5D-4102-9F69-ADC27C2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86C-6BBE-47E3-A2C2-EE954B86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99C-7406-4780-879B-6148B1F8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872-B418-4D6F-8FEC-D2723F8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8A1-1CF5-446E-9D1E-F611159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A38-958A-4EF9-AC80-0ADA6A8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1DE-1FE0-477E-BCF0-75C2193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D0F-A88D-452F-831F-337C1767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D1B-9C1B-4668-96B2-2126470D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658-A2D9-4CE4-92B7-9AFE2C1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D32-6647-4705-9ABC-69A8075F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632-B643-4278-A4D3-E336CA63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23T21:24:32Z</dcterms:modified>
  <cp:revision>35</cp:revision>
  <dc:subject/>
  <dc:title>Sin título de diapositiva</dc:title>
</cp:coreProperties>
</file>