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1E1-8EE8-4FAC-9754-91686EF4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B67-25FF-45E1-83F4-42A5032F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AAC2-0AF8-4E20-A319-E9631623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C93-FA0D-496B-80FE-80F47573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46F-CF6B-40DA-BC56-99B2BA8E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D6F-FA83-4FB2-92BF-4EB52127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FB8E-6956-48A4-8357-CE53A7E9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83AE-67A3-47D4-B596-AA9D73D4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3F53-51AD-48AC-8219-73236634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E25-E4FB-4109-B419-033B850F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6072-3A83-4FDD-A87D-5A7F2D6B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AE3-3B62-4E89-B12D-A6121417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C4C9-ADFF-44D7-999B-255B11739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paso/resumen: Introducción a la Programación orientada a obje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23800" y="565200"/>
          <a:ext cx="7988400" cy="64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65200"/>
                    <a:ext cx="798840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84200" y="390600"/>
          <a:ext cx="8269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390600"/>
                    <a:ext cx="8269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69800" y="523800"/>
          <a:ext cx="8069400" cy="55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23800"/>
                    <a:ext cx="806940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847800" y="538200"/>
          <a:ext cx="8080200" cy="59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538200"/>
                    <a:ext cx="808020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390600" y="417600"/>
          <a:ext cx="85248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17600"/>
                    <a:ext cx="85248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03200" y="363600"/>
          <a:ext cx="8578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63600"/>
                    <a:ext cx="8578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03200" y="336600"/>
          <a:ext cx="8620200" cy="67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36600"/>
                    <a:ext cx="8620200" cy="67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19040" y="482760"/>
          <a:ext cx="849636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482760"/>
                    <a:ext cx="849636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17600" y="390600"/>
          <a:ext cx="84978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90600"/>
                    <a:ext cx="84978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55680" y="380880"/>
          <a:ext cx="867420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80880"/>
                    <a:ext cx="867420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38280" y="528480"/>
          <a:ext cx="822960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528480"/>
                    <a:ext cx="822960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69800" y="349200"/>
          <a:ext cx="88488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49200"/>
                    <a:ext cx="88488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42444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perandos y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double op1,op2; private char 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actionPerformed(ActionEvent x)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//obtener bo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tton b=(Button)x.getSour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btener primer caracter de texto del botó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har c=b.getLabel().charA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tender boton (y actualizar vi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;//nuevo contenido de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(c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Q': System.exi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C': s="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S': s="-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.': s=visor.getText()+".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default:  s=visor.getText()+c; break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89000"/>
            <a:ext cx="8496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+' : case '-': case '*': case '/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guardar primer operando y operac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1=Double.parseDouble(visor.getTex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=c; s=“”; break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=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realizar operación entre operand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2=Double.parseDouble(visor.getText()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witch(op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+': op1+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-': op1-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*': op1*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/': op1/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=""+op1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ctualizar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sor.setText(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3336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.length()==0) return “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.substring(1))+x.charAt(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picua: capicua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capicua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.equals(inverso(x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075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836640"/>
            <a:ext cx="8496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opiarArchivos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hrows IOException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R I=new BR(new FR(U.readLine(“input?”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W O=new PW(new FW(U.readLine(“output?”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c=0,int nl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+nl; nc+=linea.lengt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90720" y="507960"/>
          <a:ext cx="7683480" cy="622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07960"/>
                    <a:ext cx="768348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0"/>
            <a:ext cx="741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bjeto de clase F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404640"/>
          <a:ext cx="7917120" cy="6821640"/>
        </p:xfrm>
        <a:graphic>
          <a:graphicData uri="http://schemas.openxmlformats.org/drawingml/2006/table">
            <a:tbl>
              <a:tblPr/>
              <a:tblGrid>
                <a:gridCol w="1100160"/>
                <a:gridCol w="513000"/>
                <a:gridCol w="515880"/>
                <a:gridCol w="1830240"/>
                <a:gridCol w="565200"/>
                <a:gridCol w="2441520"/>
                <a:gridCol w="439920"/>
                <a:gridCol w="511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cio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d m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/clase f(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971640" y="234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708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2781360"/>
            <a:ext cx="504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572000" y="3573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292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4149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643280" y="378936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2920" y="530064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6237360"/>
            <a:ext cx="417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1413000"/>
            <a:ext cx="64818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1413000"/>
            <a:ext cx="0" cy="5184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6597720"/>
            <a:ext cx="65534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101080" y="1341000"/>
            <a:ext cx="0" cy="5256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65200" y="390600"/>
          <a:ext cx="80136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390600"/>
                    <a:ext cx="801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0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“más lejana=“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0200" y="469800"/>
          <a:ext cx="894240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69800"/>
                    <a:ext cx="894240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8-04-23T21:24:32Z</dcterms:modified>
  <cp:revision>35</cp:revision>
  <dc:subject/>
  <dc:title>Sin título de diapositiva</dc:title>
</cp:coreProperties>
</file>