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5503863" cy="733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FD4-80BA-4DC6-916E-3576673F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A56-6540-4AF4-94A8-C0D49EBA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86D-A259-46C5-A1D7-CC20D0B3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3EA-11DF-4A33-B624-C46A08AB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17F-25A2-4033-A5DB-A2164C27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90C-6E3D-4EE4-AE6D-8BDB37ED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8E3-4A73-442E-8B32-38AC1F81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A85-0F56-42CA-AA9D-E0926FCB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5AE-38BC-4439-B51F-8745692A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6D4-F02D-4941-B144-D79AD6C5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306-891D-4055-974E-92B36791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F93-6B92-4A2F-80D2-B879CF9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8CE0-C71A-4717-AE54-8492CA708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5360" y="65556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sión de coorde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149480"/>
                <a:gridCol w="2736720"/>
                <a:gridCol w="129528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x+100)/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x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- H y/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41440" y="493560"/>
          <a:ext cx="8397720" cy="766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93560"/>
                    <a:ext cx="8397720" cy="766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4796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,         //f: referencia a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,             //nº de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a, double b,//extremos 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,        //objet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W, int H)      //ancho y alto de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valor(double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7960" y="507960"/>
          <a:ext cx="842004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07960"/>
                    <a:ext cx="84200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62120" y="482760"/>
          <a:ext cx="786132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2760"/>
                    <a:ext cx="786132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4160" y="368280"/>
          <a:ext cx="882648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68280"/>
                    <a:ext cx="882648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484200"/>
          <a:ext cx="8283600" cy="56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200"/>
                    <a:ext cx="828360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6592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awt.*; 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 Frame implements 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[]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enoCoseno().show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int W=300, H=2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anvas cv=new Canva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puntos=new TextFiel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pregunta=new Label(“nºpuntos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=new Button(“quit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=new Button(“seno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=new Button(“cosen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-38160"/>
            <a:ext cx="914400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 p=new Pane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setLayout(new Gridlayout(1,5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seno); p.add(cosen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pregunta); p.add(puntos); p.add(qu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W,H+2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BorderLayou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”Center”,cv); add(”South”,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04640"/>
            <a:ext cx="889308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Perfor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ctionEve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quit) System.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Integer.parseInt(puntos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=cv.getGraphic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se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Co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11200" y="496800"/>
          <a:ext cx="82962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29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24000" y="17640"/>
          <a:ext cx="8421480" cy="67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640"/>
                    <a:ext cx="8421480" cy="67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98400" y="528480"/>
          <a:ext cx="82296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28480"/>
                    <a:ext cx="82296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79400" y="550800"/>
          <a:ext cx="78534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0800"/>
                    <a:ext cx="78534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08-04-21T18:31:41Z</dcterms:modified>
  <cp:revision>24</cp:revision>
  <dc:subject/>
  <dc:title>Sin título de diapositiva</dc:title>
</cp:coreProperties>
</file>