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5503863" cy="7332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1D7-6596-4853-ACB7-8E7428FA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774F-9809-4D48-9482-D7EA681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9D9-8992-40E9-92AC-307EFA2A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79-3C78-4750-8B85-6CD99996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EB9-DC26-4ABA-9AF8-3A95EFB3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2E18-F33A-4354-9E7C-08D6089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3C8-06B8-4571-A72E-B1C35692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516-3D5B-4B4E-85F4-24EF908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10A-C776-4A84-A307-E61B734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634-5815-462F-8813-87DDAED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F0E-9173-4E48-9777-C91C8749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0FF-D11C-4F30-8080-FF5EC18C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98F8-B8C9-4806-9EC9-6E89C25A9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41440" y="493560"/>
          <a:ext cx="8397720" cy="766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93560"/>
                    <a:ext cx="8397720" cy="766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4796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,         //f: referencia a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,             //nº de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a, double b,//extremos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,      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W, int H)      //ancho y alto de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valor(double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07960"/>
          <a:ext cx="842004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07960"/>
                    <a:ext cx="84200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62120" y="482760"/>
          <a:ext cx="786132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2760"/>
                    <a:ext cx="78613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4160" y="368280"/>
          <a:ext cx="882648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368280"/>
                    <a:ext cx="882648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484200"/>
          <a:ext cx="8283600" cy="56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4200"/>
                    <a:ext cx="828360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457200"/>
          <a:ext cx="76071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57200"/>
                    <a:ext cx="76071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6592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awt.*; import java.awt.event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 Frame implements ActionListe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[]ar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enoCoseno().show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W=300, H=2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nvas cv=new Canva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xtField puntos=new TextFiel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Label pregunta=new Label(“nºpuntos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=new Button(“quit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=new Button(“seno”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=new Button(“coseno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-38160"/>
            <a:ext cx="9144000" cy="68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Cosen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nel p=new Panel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setLayout(new Gridlayout(1,5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seno); p.add(cosen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.add(pregunta); p.add(puntos); p.add(qu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iagramar ven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Size(W,H+2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ayout(new BorderLayou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(”Center”,cv); add(”South”,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ivar escuch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seno.addActionListener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04640"/>
            <a:ext cx="8893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Perfor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ctionEve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quit) System.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Integer.parseInt(puntos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phics g=cv.getGraphic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x.getSource()==s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raficar(new Coseno(),n,0,2*Math.PI,g,W,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11200" y="496800"/>
          <a:ext cx="82962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29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7640"/>
          <a:ext cx="8421480" cy="67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640"/>
                    <a:ext cx="8421480" cy="67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98400" y="528480"/>
          <a:ext cx="82296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28480"/>
                    <a:ext cx="82296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779400" y="550800"/>
          <a:ext cx="78534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0800"/>
                    <a:ext cx="78534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jalvarez</cp:lastModifiedBy>
  <cp:lastPrinted>2006-04-21T23:26:38Z</cp:lastPrinted>
  <dcterms:modified xsi:type="dcterms:W3CDTF">2008-04-21T18:31:41Z</dcterms:modified>
  <cp:revision>24</cp:revision>
  <dc:subject/>
  <dc:title>Sin título de diapositiva</dc:title>
</cp:coreProperties>
</file>