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5503863" cy="7332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C512-7B4D-40B8-A296-6E456807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FD6B-C532-457E-9151-8A6F6772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726C-476F-4AD8-B0B7-3DA5209D4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F9DD-8F2A-4B94-979C-CF9826E8A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63F6-5D81-4747-B4FE-E86EAA98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EEC7-7866-45D4-9E77-59B03C7A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49B9-1E27-426D-9B9D-383E617A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9411-99FB-47CF-B93A-178D36C0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1166-DAFC-4A9A-AAA3-78D57BE3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EF6C-A7E4-41E5-9297-59D8DC6E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5C6F-7442-4C8D-BBDE-A0268EED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8D9A-0526-4B96-A608-FFDF1E0F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C02A-12F7-457C-BD68-12BE54F6F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00240" y="692280"/>
          <a:ext cx="7013520" cy="53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692280"/>
                    <a:ext cx="7013520" cy="53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95360" y="655560"/>
          <a:ext cx="847260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655560"/>
                    <a:ext cx="847260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878040" y="544680"/>
          <a:ext cx="7459560" cy="566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544680"/>
                    <a:ext cx="7459560" cy="56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nversión de coordena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85800" y="1981080"/>
          <a:ext cx="7772400" cy="3429000"/>
        </p:xfrm>
        <a:graphic>
          <a:graphicData uri="http://schemas.openxmlformats.org/drawingml/2006/table">
            <a:tbl>
              <a:tblPr/>
              <a:tblGrid>
                <a:gridCol w="1149480"/>
                <a:gridCol w="2736720"/>
                <a:gridCol w="1295280"/>
                <a:gridCol w="2590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izon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ti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(x+100)/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=x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 - H y/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619200" y="469800"/>
          <a:ext cx="83246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469800"/>
                    <a:ext cx="83246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541440" y="493560"/>
          <a:ext cx="8397720" cy="766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493560"/>
                    <a:ext cx="8397720" cy="766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0920" y="147960"/>
            <a:ext cx="8642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fic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,         //f: referencia a ob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n,             //nº de pu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a, double b,//extremos interv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phics g,        //objeto grá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W, int H)      //ancho y alto de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fac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valor(double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07960" y="507960"/>
          <a:ext cx="8420040" cy="590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507960"/>
                    <a:ext cx="842004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62120" y="482760"/>
          <a:ext cx="7861320" cy="631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82760"/>
                    <a:ext cx="7861320" cy="63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54160" y="368280"/>
          <a:ext cx="8826480" cy="628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160" y="368280"/>
                    <a:ext cx="8826480" cy="628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457200" y="484200"/>
          <a:ext cx="8283600" cy="564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84200"/>
                    <a:ext cx="8283600" cy="56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43040" y="457200"/>
          <a:ext cx="7607160" cy="669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457200"/>
                    <a:ext cx="7607160" cy="66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9280" y="565920"/>
            <a:ext cx="8785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java.awt.*; import java.awt.event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oCosen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tends Frame implements ActionListe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[]ar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SenoCoseno().show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int W=300, H=2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Canvas cv=new Canvas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TextField puntos=new TextField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Label pregunta=new Label(“nºpuntos?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quit=new Button(“quit”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o=new Button(“seno”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seno=new Button(“coseno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0920" y="-38160"/>
            <a:ext cx="9144000" cy="68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oCosen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diagramar pa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nel p=new Panel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.setLayout(new Gridlayout(1,5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.add(seno); p.add(cosen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.add(pregunta); p.add(puntos); p.add(qui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diagramar ven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Size(W,H+25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ayout(new BorderLayout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(”Center”,cv); add(”South”,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activar escuch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quit.addActionListener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o.addActionListener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seno.addActionListener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404640"/>
            <a:ext cx="8893080" cy="53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Perfor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ctionEvent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x.getSource()==quit) System.exit(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n=Integer.parseInt(puntos.getText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phics g=cv.getGraphics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x.getSource()==se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ficar(new Seno(),n,0,2*Math.PI,g,W,H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ficar(new Coseno(),n,0,2*Math.PI,g,W,H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511200" y="496800"/>
          <a:ext cx="82962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496800"/>
                    <a:ext cx="8296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324000" y="17640"/>
          <a:ext cx="8421480" cy="679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640"/>
                    <a:ext cx="8421480" cy="67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63800" y="531720"/>
          <a:ext cx="7211880" cy="566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531720"/>
                    <a:ext cx="72118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65160" y="730080"/>
          <a:ext cx="7211880" cy="53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730080"/>
                    <a:ext cx="7211880" cy="53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965160" y="841320"/>
          <a:ext cx="7211880" cy="517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841320"/>
                    <a:ext cx="7211880" cy="51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2819520" y="1600200"/>
            <a:ext cx="0" cy="380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965160" y="730080"/>
          <a:ext cx="721188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730080"/>
                    <a:ext cx="721188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101600" y="717480"/>
          <a:ext cx="7199280" cy="529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717480"/>
                    <a:ext cx="7199280" cy="52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698400" y="528480"/>
          <a:ext cx="8229600" cy="619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528480"/>
                    <a:ext cx="8229600" cy="61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779400" y="550800"/>
          <a:ext cx="7853400" cy="593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550800"/>
                    <a:ext cx="7853400" cy="59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18:17:19Z</dcterms:created>
  <dc:creator>jalvarez</dc:creator>
  <dc:description/>
  <dc:language>en-US</dc:language>
  <cp:lastModifiedBy>jalvarez</cp:lastModifiedBy>
  <cp:lastPrinted>2006-04-21T23:26:38Z</cp:lastPrinted>
  <dcterms:modified xsi:type="dcterms:W3CDTF">2008-04-21T18:31:41Z</dcterms:modified>
  <cp:revision>24</cp:revision>
  <dc:subject/>
  <dc:title>Sin título de diapositiva</dc:title>
</cp:coreProperties>
</file>