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830-5B88-4997-B6A2-F5755554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74C-82AD-4206-9B9D-B28A70D4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1A9-7681-45C2-AC06-E838037D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553-4668-4640-9F19-87CB4707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68B-BC7F-494D-B81E-0C1EAC53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52C-EFAC-4190-9E61-B910F359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82E4-ED55-4622-AD27-CD743713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61B-19D8-439A-9429-99DD7508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628-6604-4136-9762-8A41443F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EF5-DE6B-4C42-A85C-F90BFCD8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AF0C-97D4-4E5A-89E9-7AE37188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FDC-882A-4345-AEC1-51828833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3FB3-1931-4558-9370-D4336A1A3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12880" y="419040"/>
          <a:ext cx="8013600" cy="665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419040"/>
                    <a:ext cx="8013600" cy="66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4680" y="557280"/>
          <a:ext cx="84484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57280"/>
                    <a:ext cx="84484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30200" y="444600"/>
          <a:ext cx="8485200" cy="69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44600"/>
                    <a:ext cx="8485200" cy="69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76200" y="390600"/>
          <a:ext cx="8578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90600"/>
                    <a:ext cx="8578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63600" y="417600"/>
          <a:ext cx="86868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17600"/>
                    <a:ext cx="86868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41480" y="660240"/>
          <a:ext cx="7124760" cy="56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660240"/>
                    <a:ext cx="7124760" cy="56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4200"/>
          <a:ext cx="84330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4200"/>
                    <a:ext cx="84330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60240" y="584280"/>
          <a:ext cx="8229600" cy="509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584280"/>
                    <a:ext cx="822960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0600" y="417600"/>
          <a:ext cx="84582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4582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274320"/>
            <a:ext cx="813600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ayout(new GridLayout(3,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Size(200,50*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componentes a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p1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respuesta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p2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ivar escuch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er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ugar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. Agregar botones “ayuda” y “rendirs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06440" y="457200"/>
          <a:ext cx="8559720" cy="70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457200"/>
                    <a:ext cx="855972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469800"/>
          <a:ext cx="8559720" cy="63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9800"/>
                    <a:ext cx="855972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648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648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35020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35020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7640" y="482760"/>
          <a:ext cx="810252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482760"/>
                    <a:ext cx="810252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08-04-16T12:42:11Z</dcterms:modified>
  <cp:revision>34</cp:revision>
  <dc:subject/>
  <dc:title>Sin título de diapositiva</dc:title>
</cp:coreProperties>
</file>