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D6C-0412-4803-867D-D4893039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6B8-C93E-4B49-93C8-68665486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44D-3236-48BE-863A-89ADE1F1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0BA-A3D3-4B64-98AB-367C713C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2C6-EDF9-4BC9-B9A0-D97024B1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4C7-5364-4379-BA33-D225AE60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19F-83C2-4BBE-A2BC-5B091646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894-412E-493A-8F90-3F27CE9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7E4-39CF-4B9E-AE88-2A6C8B6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350-05D4-4660-BE20-8F40A85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31B-EC5A-4D94-BD84-54931A5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5A0-2709-4F10-B0A3-BEF8B89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F20D-5173-4B14-8ED4-AEA90FCEF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2880" y="419040"/>
          <a:ext cx="801360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19040"/>
                    <a:ext cx="801360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0200" y="444600"/>
          <a:ext cx="84852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44600"/>
                    <a:ext cx="84852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6200" y="390600"/>
          <a:ext cx="8578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0600"/>
                    <a:ext cx="8578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63600" y="417600"/>
          <a:ext cx="8686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17600"/>
                    <a:ext cx="8686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41480" y="660240"/>
          <a:ext cx="712476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660240"/>
                    <a:ext cx="71247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4200"/>
          <a:ext cx="84330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84330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60240" y="584280"/>
          <a:ext cx="8229600" cy="50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584280"/>
                    <a:ext cx="822960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417600"/>
          <a:ext cx="84582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4582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274320"/>
            <a:ext cx="81360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. Agregar botones “ayuda” y “rendirs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6440" y="457200"/>
          <a:ext cx="855972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57200"/>
                    <a:ext cx="855972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69800"/>
          <a:ext cx="855972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597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7640" y="482760"/>
          <a:ext cx="81025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482760"/>
                    <a:ext cx="81025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8-04-16T12:42:11Z</dcterms:modified>
  <cp:revision>34</cp:revision>
  <dc:subject/>
  <dc:title>Sin título de diapositiva</dc:title>
</cp:coreProperties>
</file>