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E21-F54E-445E-BE01-B90A6DC7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C2E-6764-4AF0-89BF-9158DFE2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E5B-502A-447A-ABB1-71FDCE31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09F-A38C-4678-8B9D-63D7AA21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694-4404-4D3D-81E5-60B18D90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A0E-D9F0-45B7-B42E-F972B2FB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537-FFBA-4136-B67A-495A3751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85F-3EB0-421E-BDFF-87F36A3F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65D-8D9A-4C92-ACD2-10DA0793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82A-FD79-494A-9788-E2C96EB5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A01-357D-419A-86A2-5434245B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67C-6758-4EC0-9FBB-C35379CC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2B8D-AF14-473E-8067-D5AEF130E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12880" y="419040"/>
          <a:ext cx="8013600" cy="665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419040"/>
                    <a:ext cx="8013600" cy="66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30200" y="444600"/>
          <a:ext cx="848520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44600"/>
                    <a:ext cx="848520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76200" y="390600"/>
          <a:ext cx="8578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90600"/>
                    <a:ext cx="8578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63600" y="417600"/>
          <a:ext cx="86868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17600"/>
                    <a:ext cx="86868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41480" y="660240"/>
          <a:ext cx="7124760" cy="56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660240"/>
                    <a:ext cx="712476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4200"/>
          <a:ext cx="84330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4200"/>
                    <a:ext cx="84330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60240" y="584280"/>
          <a:ext cx="8229600" cy="509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584280"/>
                    <a:ext cx="822960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0600" y="417600"/>
          <a:ext cx="84582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4582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274320"/>
            <a:ext cx="81360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GridLayout(3,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200,50*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componentes a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1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respuest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ugar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. Agregar botones “ayuda” y “rendirs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6440" y="457200"/>
          <a:ext cx="8559720" cy="70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57200"/>
                    <a:ext cx="855972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469800"/>
          <a:ext cx="8559720" cy="63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5972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7640" y="482760"/>
          <a:ext cx="81025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482760"/>
                    <a:ext cx="81025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08-04-16T12:42:11Z</dcterms:modified>
  <cp:revision>34</cp:revision>
  <dc:subject/>
  <dc:title>Sin título de diapositiva</dc:title>
</cp:coreProperties>
</file>