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AF46-7BBD-4538-AB1C-574C0871F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837F-9429-4B5C-AA82-6551C67F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CA78-055E-4AD1-9E14-A19CEE9A8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A788-5490-4588-8935-28440F38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4627-FDBC-48E7-955A-A6239389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4E80-69B4-4B10-9623-FEF18A5F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7DCC-839E-4CEC-B072-8D883BB3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1932-1178-4AAA-868C-1DD509F5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824E-7CD6-440F-9EA5-936E25FF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EE72-CD0D-482D-A78E-C8585A33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F7CA-3214-49F5-9817-CB16CE98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DA39-EBC3-4E7E-8490-D79B4B0D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51E3-9130-49D1-98C8-DCE3631AF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12880" y="419040"/>
          <a:ext cx="8013600" cy="665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80" y="419040"/>
                    <a:ext cx="8013600" cy="66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44680" y="557280"/>
          <a:ext cx="844848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57280"/>
                    <a:ext cx="844848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30200" y="444600"/>
          <a:ext cx="8485200" cy="695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44600"/>
                    <a:ext cx="8485200" cy="69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76200" y="390600"/>
          <a:ext cx="8578800" cy="62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390600"/>
                    <a:ext cx="85788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63600" y="417600"/>
          <a:ext cx="8686800" cy="61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417600"/>
                    <a:ext cx="868680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041480" y="660240"/>
          <a:ext cx="7124760" cy="56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1480" y="660240"/>
                    <a:ext cx="7124760" cy="56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69800" y="484200"/>
          <a:ext cx="843300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4200"/>
                    <a:ext cx="843300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60240" y="584280"/>
          <a:ext cx="8229600" cy="509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240" y="584280"/>
                    <a:ext cx="8229600" cy="50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90600" y="417600"/>
          <a:ext cx="8458200" cy="63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17600"/>
                    <a:ext cx="845820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68360" y="274320"/>
            <a:ext cx="8136000" cy="57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iagramar ven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ayout(new GridLayout(3,1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Size(200,50*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agregar componentes a ven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(p1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(respuesta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(p2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activar escuch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mero.addActionListener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ugar.addActionListener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quit.addActionListener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uesto. Agregar botones “ayuda” y “rendirse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03240" y="581040"/>
          <a:ext cx="789156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581040"/>
                    <a:ext cx="78915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89000" y="779400"/>
          <a:ext cx="721188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779400"/>
                    <a:ext cx="721188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06440" y="457200"/>
          <a:ext cx="8559720" cy="701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457200"/>
                    <a:ext cx="855972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57200" y="469800"/>
          <a:ext cx="8559720" cy="6324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69800"/>
                    <a:ext cx="8559720" cy="632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42960" y="692280"/>
          <a:ext cx="8053200" cy="520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92280"/>
                    <a:ext cx="8053200" cy="52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30080" y="630360"/>
          <a:ext cx="81648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630360"/>
                    <a:ext cx="81648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31720" y="506520"/>
          <a:ext cx="8350200" cy="627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06520"/>
                    <a:ext cx="8350200" cy="62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47640" y="482760"/>
          <a:ext cx="8102520" cy="619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482760"/>
                    <a:ext cx="8102520" cy="61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5:15:25Z</dcterms:created>
  <dc:creator>jalvarez</dc:creator>
  <dc:description/>
  <dc:language>en-US</dc:language>
  <cp:lastModifiedBy>jalvarez</cp:lastModifiedBy>
  <cp:lastPrinted>2006-04-18T16:26:29Z</cp:lastPrinted>
  <dcterms:modified xsi:type="dcterms:W3CDTF">2008-04-16T12:42:11Z</dcterms:modified>
  <cp:revision>34</cp:revision>
  <dc:subject/>
  <dc:title>Sin título de diapositiva</dc:title>
</cp:coreProperties>
</file>