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D9E0-CA8C-4C6E-B14D-5547005B6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5921-3BA4-4C70-A8AD-ED7B743A5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9FD8-9F4D-4085-BD22-6A60D0CD1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E796-A831-4FA2-953B-443D9C23C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E864-1A28-42FD-81C7-11558D44E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5611-FE8C-4CC9-AA1E-3E02F7C14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B178-ADB2-4BD0-B3AE-ABE66D8DB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D853-0ADF-4E16-A770-6C0B27020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4143-7D3D-4DE2-801D-92EBE62D2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9A4D-1D64-41E5-B311-01996EB77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883E-C89C-4D8B-9763-15F0DC5D8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9123-F4CC-4E23-8B05-056E8D646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D0795-1577-457C-884C-EC4866FA19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12880" y="419040"/>
          <a:ext cx="8013600" cy="6654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2880" y="419040"/>
                    <a:ext cx="8013600" cy="66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544680" y="557280"/>
          <a:ext cx="8448480" cy="635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680" y="557280"/>
                    <a:ext cx="8448480" cy="63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430200" y="444600"/>
          <a:ext cx="8485200" cy="6951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0200" y="444600"/>
                    <a:ext cx="8485200" cy="695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376200" y="390600"/>
          <a:ext cx="8578800" cy="629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6200" y="390600"/>
                    <a:ext cx="8578800" cy="629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363600" y="417600"/>
          <a:ext cx="8686800" cy="619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600" y="417600"/>
                    <a:ext cx="868680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1041480" y="660240"/>
          <a:ext cx="7124760" cy="568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1480" y="660240"/>
                    <a:ext cx="7124760" cy="568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69800" y="484200"/>
          <a:ext cx="8433000" cy="618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4200"/>
                    <a:ext cx="8433000" cy="61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660240" y="584280"/>
          <a:ext cx="8229600" cy="5092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0240" y="584280"/>
                    <a:ext cx="8229600" cy="509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390600" y="417600"/>
          <a:ext cx="8458200" cy="631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0600" y="417600"/>
                    <a:ext cx="8458200" cy="631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68360" y="274320"/>
            <a:ext cx="8136000" cy="57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diagramar vent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Layout(new GridLayout(3,1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Size(200,50*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agregar componentes a vent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(p1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(respuesta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(p2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activar escuch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umero.addActionListener(thi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jugar.addActionListener(thi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quit.addActionListener(thi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uesto. Agregar botones “ayuda” y “rendirse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903240" y="581040"/>
          <a:ext cx="7891560" cy="596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3240" y="581040"/>
                    <a:ext cx="7891560" cy="59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089000" y="779400"/>
          <a:ext cx="7211880" cy="550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9000" y="779400"/>
                    <a:ext cx="7211880" cy="550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406440" y="457200"/>
          <a:ext cx="8559720" cy="7010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457200"/>
                    <a:ext cx="8559720" cy="70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57200" y="469800"/>
          <a:ext cx="8559720" cy="6324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69800"/>
                    <a:ext cx="8559720" cy="632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42960" y="692280"/>
          <a:ext cx="8053200" cy="520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692280"/>
                    <a:ext cx="8053200" cy="520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730080" y="630360"/>
          <a:ext cx="8164800" cy="603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080" y="630360"/>
                    <a:ext cx="8164800" cy="60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531720" y="506520"/>
          <a:ext cx="8350200" cy="6272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506520"/>
                    <a:ext cx="8350200" cy="627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47640" y="482760"/>
          <a:ext cx="8102520" cy="619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640" y="482760"/>
                    <a:ext cx="8102520" cy="61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5T15:15:25Z</dcterms:created>
  <dc:creator>jalvarez</dc:creator>
  <dc:description/>
  <dc:language>en-US</dc:language>
  <cp:lastModifiedBy>jalvarez</cp:lastModifiedBy>
  <cp:lastPrinted>2006-04-18T16:26:29Z</cp:lastPrinted>
  <dcterms:modified xsi:type="dcterms:W3CDTF">2008-04-16T12:42:11Z</dcterms:modified>
  <cp:revision>34</cp:revision>
  <dc:subject/>
  <dc:title>Sin título de diapositiva</dc:title>
</cp:coreProperties>
</file>