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D6D-AA6E-4604-B9DC-09F16AA0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CE5-0516-4001-9488-F30D30A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D0C-A6D1-425A-9D11-47AAC7C6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533-E39E-4EC9-9195-310FDB0E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F65-42ED-4AD5-AE49-B238699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145-D1FE-4868-9F2E-8D8F306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C4A-4052-4138-847A-DB9AD24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496-C12E-41C6-87AB-9E8FB97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B2B-C838-4A5C-BBBB-846F1C3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26A-889A-4DF3-8313-B0624EC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92C-813F-41AF-BA3A-D6F4A12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91E-DC94-4825-8628-87DAB27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DD5F-7ACC-4580-BCA4-A5E12B862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: Con clase abstracta que obliga a redefini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mite crear objetos, no admite new Figur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mite definir otras fig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3200" y="469800"/>
          <a:ext cx="8593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4200" y="484200"/>
          <a:ext cx="845820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4582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2836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2836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96800" y="496800"/>
          <a:ext cx="8418600" cy="65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418600" cy="65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14T16:11:19Z</dcterms:modified>
  <cp:revision>28</cp:revision>
  <dc:subject/>
  <dc:title>Sin título de diapositiva</dc:title>
</cp:coreProperties>
</file>