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263-5A41-4FFC-BC61-E0274661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CFE-80BE-48ED-80FF-3802B12C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AF4-E5F6-4320-8F6C-37400250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3EB-FBA4-4882-B34C-C713FF8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1B7-7752-4F3D-A697-34E8FBA9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527-3C17-4AF3-85EC-36145A9F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A99-4ED4-495C-9858-3B9F76C7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98A-444C-46FA-B5CA-AEBC774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F4D-9430-4BFE-831A-32959F5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3BA2-8C4F-4E1E-BBEC-D4CA965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AC7-A880-4E78-A476-927F259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2B7-CCD6-414D-98CC-7550C6B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7050-4303-4E06-8F91-504548CFA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26028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4: Con clase abstracta que obliga a redefinir 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mite crear objetos, no admite new Figur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mite definir otras fig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3200" y="469800"/>
          <a:ext cx="8593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4200" y="484200"/>
          <a:ext cx="8458200" cy="68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458200" cy="68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283600" cy="66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283600" cy="66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96800" y="496800"/>
          <a:ext cx="8418600" cy="65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418600" cy="65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8-04-14T16:11:19Z</dcterms:modified>
  <cp:revision>28</cp:revision>
  <dc:subject/>
  <dc:title>Sin título de diapositiva</dc:title>
</cp:coreProperties>
</file>