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EC67-BA69-42B7-B08A-C9E0BACD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6F0B-2466-4475-AC2A-44478A7E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302B-E0F5-4CE2-8DCF-D206AD2A4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2028-1125-442F-BA00-291B07B4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4F88-2379-49D2-866C-6ECD2B05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2740-7208-4928-9FC4-A8EF2CB8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EC80-732F-454E-857B-40A799F2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A2A3-55C9-4283-8FAB-2F27E08C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3287-DCC9-44D9-8964-6FD40960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694A-2A39-4F5F-8566-1AE1C43A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AFE9-813C-4CE2-8D2A-C13A5825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4FE2-700D-41E3-8DB8-9E0E7EF0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C452-5854-41F7-8557-3F40B087E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98400" y="538200"/>
          <a:ext cx="7720200" cy="568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538200"/>
                    <a:ext cx="772020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604800" y="444600"/>
          <a:ext cx="8229600" cy="644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444600"/>
                    <a:ext cx="8229600" cy="64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79280" y="26028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4: Con clase abstracta que obliga a redefinir 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 clas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.x=x; if(x&lt;=0) U.abortar(“debe ser &gt;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ermite crear objetos, no admite new Figura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be tener al menos un método abstra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stract encabezamien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bliga a clases extendidas a redefinir métodos abstra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ermite definir otras fig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-21960"/>
            <a:ext cx="87138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Rectangulo extends Figura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ctangul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,double y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per(x); this.y=y; if(y&lt;=0) U.abortar(“&lt;=0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x*y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2*(x+y)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Triangulo extends Figura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,z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angul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,double y,double z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per(x); this.y=y; this.z=z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y&lt;=0 || z&lt;=0 || x+y&lt;=z || x+z&lt;=y || y+z&lt;=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abortar(“no forman triangulo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x+y+z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=(x+y+z)/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Math.sqrt(s*(s-x)*(s-y)*(s-z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03200" y="469800"/>
          <a:ext cx="8593200" cy="649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593200" cy="649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57200" y="457200"/>
          <a:ext cx="8593200" cy="62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85932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84200" y="403200"/>
          <a:ext cx="8163000" cy="636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03200"/>
                    <a:ext cx="816300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793800" y="619200"/>
          <a:ext cx="7893000" cy="607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619200"/>
                    <a:ext cx="7893000" cy="60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511200" y="698400"/>
          <a:ext cx="8377200" cy="566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698400"/>
                    <a:ext cx="8377200" cy="56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84200" y="403200"/>
          <a:ext cx="8163000" cy="636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03200"/>
                    <a:ext cx="816300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476280"/>
          <a:ext cx="8404200" cy="661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8404200" cy="66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84200" y="484200"/>
          <a:ext cx="8458200" cy="68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84200"/>
                    <a:ext cx="8458200" cy="68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03200" y="469800"/>
          <a:ext cx="8593200" cy="698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593200" cy="698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260280"/>
            <a:ext cx="80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lass Circulo extends Circunfer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68360" y="1125360"/>
          <a:ext cx="7848720" cy="6031080"/>
        </p:xfrm>
        <a:graphic>
          <a:graphicData uri="http://schemas.openxmlformats.org/drawingml/2006/table">
            <a:tbl>
              <a:tblPr/>
              <a:tblGrid>
                <a:gridCol w="1141200"/>
                <a:gridCol w="874800"/>
                <a:gridCol w="2370240"/>
                <a:gridCol w="438120"/>
                <a:gridCol w="1150920"/>
                <a:gridCol w="873000"/>
                <a:gridCol w="100044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nfer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imet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nfer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 flipH="1">
            <a:off x="250920" y="270828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5013360"/>
            <a:ext cx="252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564000" y="3500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50920" y="573408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932000" y="2565360"/>
            <a:ext cx="647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59280" y="3213000"/>
            <a:ext cx="36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2565360"/>
            <a:ext cx="0" cy="35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80000" y="3573360"/>
            <a:ext cx="0" cy="2087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932000" y="5661000"/>
            <a:ext cx="647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96800" y="444600"/>
          <a:ext cx="8283600" cy="66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44600"/>
                    <a:ext cx="8283600" cy="66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0920" y="17172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olución 1. Con clases 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irculo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ul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x; if(r&lt;=0) U.abortar(“radio&lt;=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Math.PI*r*r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2*Math.PI*r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uadrado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adrad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x; if(a&lt;=0) U.abortar(“lado&lt;=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a*a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4*a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9280" y="171720"/>
            <a:ext cx="896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2. Con jerarquía de cl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.x=x; if(x&lt;=0) U.abortar(“&lt;=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irculo extend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ul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super(x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Math.PI*x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2*Math.PI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uadrado extend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adrad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super(x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x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4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96800" y="496800"/>
          <a:ext cx="8418600" cy="650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96800"/>
                    <a:ext cx="8418600" cy="65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08-04-14T16:11:19Z</dcterms:modified>
  <cp:revision>28</cp:revision>
  <dc:subject/>
  <dc:title>Sin título de diapositiva</dc:title>
</cp:coreProperties>
</file>