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AD0-4702-49BF-977E-F560F026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753-AF81-4D76-BF1F-1A391E2D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833-3CE1-4DA2-9750-25C66F17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C56-C34A-41A8-AFED-0BE55B9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40A-62CA-47DA-B11A-55D7EFF7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209-A236-447F-8F43-802AED1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676-2829-4E2F-AE7E-7D3CBF74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4D9-9F4E-4241-8704-3EA0282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F05-FF1C-4841-9AD6-168F93C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9F2-AD15-4928-B446-4025006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97-308C-4066-970C-D6A0936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03E-16A5-45B2-9F46-47A32D7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EF1-FA24-4CEE-BBDE-D8624751C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1800" y="550800"/>
          <a:ext cx="82170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550800"/>
                    <a:ext cx="8217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0600" y="403200"/>
          <a:ext cx="8578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0600" y="403200"/>
          <a:ext cx="8578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390600"/>
          <a:ext cx="848520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0600"/>
                    <a:ext cx="848520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8-04-09T13:53:54Z</dcterms:modified>
  <cp:revision>63</cp:revision>
  <dc:subject/>
  <dc:title>Sin título de diapositiva</dc:title>
</cp:coreProperties>
</file>