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F9B4-E7C0-4EA4-99D1-F359C1A7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DC02-6DDD-46FD-ACB1-04530A93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96C8-867D-482C-8F50-B45FB94C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7584-5EEE-4789-95D2-640B67F0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EDC1-14E6-445F-BE3B-A6094BA0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9877-B88F-45BC-915F-4EF3F14F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CF42-E173-4DE9-82B5-D4E31EFF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35DA-CA20-4F0E-B904-95C67A81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0B27-276A-433B-BFF5-6C817254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6AD6-85AC-4669-B4CA-6E04C798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98A9-2E66-4503-9783-586AD25D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3A56-4AF5-4186-B105-A9765224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6CBA-30C9-4358-97D7-7C3F38999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4800" y="484200"/>
          <a:ext cx="8015400" cy="67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484200"/>
                    <a:ext cx="8015400" cy="67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98400" y="444600"/>
          <a:ext cx="7683480" cy="695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444600"/>
                    <a:ext cx="7683480" cy="69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336680" y="878040"/>
          <a:ext cx="7062840" cy="555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878040"/>
                    <a:ext cx="7062840" cy="55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58800" y="363600"/>
          <a:ext cx="8163000" cy="70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363600"/>
                    <a:ext cx="8163000" cy="70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31800" y="550800"/>
          <a:ext cx="8217000" cy="60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1800" y="550800"/>
                    <a:ext cx="8217000" cy="60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90600" y="403200"/>
          <a:ext cx="8578800" cy="625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03200"/>
                    <a:ext cx="85788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90600" y="403200"/>
          <a:ext cx="8578800" cy="61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03200"/>
                    <a:ext cx="857880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015920" y="673200"/>
          <a:ext cx="7620120" cy="58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673200"/>
                    <a:ext cx="7620120" cy="58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90600" y="390600"/>
          <a:ext cx="8485200" cy="610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390600"/>
                    <a:ext cx="8485200" cy="61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23800" y="484200"/>
          <a:ext cx="8325000" cy="621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484200"/>
                    <a:ext cx="832500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30120" y="304920"/>
          <a:ext cx="7950240" cy="70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304920"/>
                    <a:ext cx="7950240" cy="70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30120" y="419040"/>
          <a:ext cx="8521920" cy="652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419040"/>
                    <a:ext cx="8521920" cy="65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49160" y="596880"/>
          <a:ext cx="8001000" cy="55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596880"/>
                    <a:ext cx="8001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2400" y="725400"/>
          <a:ext cx="7504200" cy="60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725400"/>
                    <a:ext cx="750420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77800" y="523800"/>
          <a:ext cx="8148600" cy="59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523800"/>
                    <a:ext cx="814860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11360" y="469800"/>
          <a:ext cx="7734240" cy="627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469800"/>
                    <a:ext cx="773424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23960" y="558720"/>
          <a:ext cx="805176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558720"/>
                    <a:ext cx="805176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30160" y="746280"/>
          <a:ext cx="7526520" cy="57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160" y="746280"/>
                    <a:ext cx="75265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jalvarez</cp:lastModifiedBy>
  <cp:lastPrinted>2006-04-08T15:00:39Z</cp:lastPrinted>
  <dcterms:modified xsi:type="dcterms:W3CDTF">2008-04-09T13:53:54Z</dcterms:modified>
  <cp:revision>63</cp:revision>
  <dc:subject/>
  <dc:title>Sin título de diapositiva</dc:title>
</cp:coreProperties>
</file>