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EF3-1B05-4F1C-8D39-0B0D78C6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6DA-ABD1-4B43-967C-E06A1A3C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63E-3048-468C-A8A3-DE634B3D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FBC-B141-4729-860C-528EF422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E35-3FC0-4DDF-9A05-F1E7FE9C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1E2-899D-499F-BCC3-408DEC87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CF2-8399-4453-800E-BC4E0B4E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FAE-64B4-4FAD-9876-74FA78E7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821-2F87-4873-B3CA-4EE8489F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A45-8307-48D2-A7C6-C5DF6A20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A53-D3A4-4323-9F9B-D13CC9F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138-1126-4955-950B-3B83CC38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A81B-FF41-4EA7-BDC2-BD167C03B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1800" y="550800"/>
          <a:ext cx="82170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550800"/>
                    <a:ext cx="8217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0600" y="403200"/>
          <a:ext cx="8578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3200"/>
                    <a:ext cx="8578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0600" y="403200"/>
          <a:ext cx="85788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3200"/>
                    <a:ext cx="85788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0600" y="390600"/>
          <a:ext cx="848520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90600"/>
                    <a:ext cx="848520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8-04-09T13:53:54Z</dcterms:modified>
  <cp:revision>63</cp:revision>
  <dc:subject/>
  <dc:title>Sin título de diapositiva</dc:title>
</cp:coreProperties>
</file>