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279-FEF4-48C6-BAA9-0725EE86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427-108C-4CF4-A6D0-5F020B81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AE6-5CEB-42D2-B2CB-9FC0F83F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834-AF1C-488D-9371-248FB7A6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711-7306-4F91-AED3-2E535A07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544-DF39-473B-BA92-B2A4AB52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BE-CD73-4BBD-85E7-1AD0358E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E12-F522-420F-BFB7-FD6004C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1F0-4EB6-42EC-8CE6-0CC7B474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94A-8875-4B30-9311-29C8DC6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6F9-D249-4694-87B7-E9336CE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86A-0D13-45C7-A7BB-1D9FA39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8964-FBFC-4850-B10C-DAAA95D24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1800" y="550800"/>
          <a:ext cx="82170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550800"/>
                    <a:ext cx="8217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0600" y="403200"/>
          <a:ext cx="8578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0600" y="403200"/>
          <a:ext cx="8578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390600"/>
          <a:ext cx="848520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0600"/>
                    <a:ext cx="848520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8-04-09T13:53:54Z</dcterms:modified>
  <cp:revision>63</cp:revision>
  <dc:subject/>
  <dc:title>Sin título de diapositiva</dc:title>
</cp:coreProperties>
</file>