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BEC-E4AC-4499-8EF4-4670069D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8CF-6F59-47B2-89D3-DAFC4B4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110-49FC-4015-92F0-10FA09EA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050-D995-4CD5-9258-EE6F4D1D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352-08F9-4CB2-8EE7-C9D3C509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232-3165-425D-BD36-A5AA9E1A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3E8-1046-4E7D-B1EF-0F77A7E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0F1-F056-4FD4-9D6F-E4FAF7D6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F02-ED2F-4E0D-A4E1-BCF04785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EC6-5069-4492-9B7A-20E6BA7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0BC-F40E-48C3-8197-EE3D5A8E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753-51D6-4102-AA72-02ABF63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1EE5-1AF9-4525-9494-8DA4D797D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496800"/>
          <a:ext cx="84042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96800"/>
                    <a:ext cx="84042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30200" y="484200"/>
          <a:ext cx="85788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5788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5360" y="457200"/>
          <a:ext cx="8547120" cy="57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47120" cy="57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625320"/>
          <a:ext cx="8035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25320"/>
                    <a:ext cx="8035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8-04-07T17:00:58Z</dcterms:modified>
  <cp:revision>27</cp:revision>
  <dc:subject/>
  <dc:title>Sin título de diapositiva</dc:title>
</cp:coreProperties>
</file>