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8366-E269-4568-98DA-2FEDD72D0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D769-9533-41F0-A055-FDF3925A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B7CD-4E4D-4EE8-B3C1-44A4357CE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98A5-6C43-4974-8DCF-D4CE12A14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403F-7CDE-4503-A15B-8469C89C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FAE1-0165-4463-8E74-0572F998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6369-3C99-458A-ADD7-3645C7F3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B2D7-8456-488F-A297-DD2DF34B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39AA-4BB9-4116-90DC-54019CF4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BC31-6F6F-44B1-BEA0-EACBA067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2BD2-9009-40B4-AA3D-98EF9B96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333B-4274-470A-ACC1-E8E2F3B3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2662-0435-43C7-AC9A-F20C26BB2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rchivos en disco: motiv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1700280"/>
          <a:ext cx="8569080" cy="4970520"/>
        </p:xfrm>
        <a:graphic>
          <a:graphicData uri="http://schemas.openxmlformats.org/drawingml/2006/table">
            <a:tbl>
              <a:tblPr/>
              <a:tblGrid>
                <a:gridCol w="2252520"/>
                <a:gridCol w="2859120"/>
                <a:gridCol w="3457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oria (RA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de memo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átil (contenido se pierd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manente (contenido se mantie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lo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ápid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t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mpo ac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ante (a cualquier luga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 (depende de cercanía a cabeza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ato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0 veces -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itada (máx 4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or (máx 500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52400" y="523800"/>
          <a:ext cx="7799400" cy="619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523800"/>
                    <a:ext cx="779940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41400" y="725400"/>
          <a:ext cx="7758000" cy="644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1400" y="725400"/>
                    <a:ext cx="7758000" cy="64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38200" y="550800"/>
          <a:ext cx="8296200" cy="64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550800"/>
                    <a:ext cx="829620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50800" y="496800"/>
          <a:ext cx="8404200" cy="567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496800"/>
                    <a:ext cx="8404200" cy="567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77800" y="484200"/>
          <a:ext cx="8458200" cy="740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484200"/>
                    <a:ext cx="8458200" cy="74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30200" y="484200"/>
          <a:ext cx="8578800" cy="644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484200"/>
                    <a:ext cx="8578800" cy="64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95360" y="457200"/>
          <a:ext cx="8547120" cy="577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57200"/>
                    <a:ext cx="8547120" cy="57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69800" y="625320"/>
          <a:ext cx="8035920" cy="55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25320"/>
                    <a:ext cx="8035920" cy="55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68280" y="368280"/>
          <a:ext cx="8661600" cy="704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368280"/>
                    <a:ext cx="8661600" cy="70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11200" y="417600"/>
          <a:ext cx="8337600" cy="691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417600"/>
                    <a:ext cx="8337600" cy="69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68400" y="673200"/>
          <a:ext cx="711360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0" y="673200"/>
                    <a:ext cx="711360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68400" y="673200"/>
          <a:ext cx="7327800" cy="595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0" y="673200"/>
                    <a:ext cx="7327800" cy="59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85800" y="433440"/>
          <a:ext cx="8121600" cy="602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33440"/>
                    <a:ext cx="8121600" cy="602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95400" y="604800"/>
          <a:ext cx="7704000" cy="55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5400" y="604800"/>
                    <a:ext cx="7704000" cy="55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93800" y="469800"/>
          <a:ext cx="7839000" cy="613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469800"/>
                    <a:ext cx="7839000" cy="61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93800" y="469800"/>
          <a:ext cx="7731000" cy="605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469800"/>
                    <a:ext cx="7731000" cy="60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52400" y="511200"/>
          <a:ext cx="7894800" cy="64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511200"/>
                    <a:ext cx="789480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4:59:48Z</dcterms:created>
  <dc:creator>jalvarez</dc:creator>
  <dc:description/>
  <dc:language>en-US</dc:language>
  <cp:lastModifiedBy>jalvarez</cp:lastModifiedBy>
  <cp:lastPrinted>2006-04-04T19:13:56Z</cp:lastPrinted>
  <dcterms:modified xsi:type="dcterms:W3CDTF">2008-04-07T17:00:58Z</dcterms:modified>
  <cp:revision>27</cp:revision>
  <dc:subject/>
  <dc:title>Sin título de diapositiva</dc:title>
</cp:coreProperties>
</file>