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D6A-F095-49A4-8803-D921A312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20-60AB-471C-A148-4C41BA9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49C-9DDB-4C40-9BB1-BA9AC368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512-9500-439A-B7DE-81719CE8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2BC-ED5A-498B-B77A-B41D7C24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66B-05C1-47FC-A129-CC14F9B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EFC-DACD-4663-9014-09C5680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3D1-67E5-4594-BCC3-600EC4A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4A7-EBA4-402E-A7AA-F638905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D31-DE09-412D-921E-EEABAF2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890-E66A-4F20-9199-1534981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E3A-3B4A-4940-8226-E3A6932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5D99-CA21-4EF5-967E-6E950C14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496800"/>
          <a:ext cx="84042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96800"/>
                    <a:ext cx="84042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0200" y="484200"/>
          <a:ext cx="85788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5788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5360" y="457200"/>
          <a:ext cx="8547120" cy="57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47120" cy="57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8-04-07T17:00:58Z</dcterms:modified>
  <cp:revision>27</cp:revision>
  <dc:subject/>
  <dc:title>Sin título de diapositiva</dc:title>
</cp:coreProperties>
</file>