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8314-4210-4402-ACCD-D212F90B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E9E2-865A-4AEF-BEF5-E3026F2F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593-DC94-4BAA-9906-058FD5A8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3FD-AB8E-4240-9766-2D3750B1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C68A-8D64-4FAE-A513-FCB82675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DC6-792A-4FB3-9085-950D9FE9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4C6-363B-4CF9-92E0-93308715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0D8-D846-41B9-9AE7-ECA3C595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603-A2D4-4828-A663-85A97D1C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BF6-CA93-4814-AD5E-F46BEDF3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A1C3-7510-4D63-81FA-1AFCE917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54D-9989-4BE3-863A-95486C21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B1E7-EC03-46BA-92F6-041A721D4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2400" y="523800"/>
          <a:ext cx="77994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23800"/>
                    <a:ext cx="77994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41400" y="725400"/>
          <a:ext cx="775800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725400"/>
                    <a:ext cx="775800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38200" y="550800"/>
          <a:ext cx="82962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550800"/>
                    <a:ext cx="82962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50800" y="496800"/>
          <a:ext cx="8404200" cy="56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496800"/>
                    <a:ext cx="840420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77800" y="484200"/>
          <a:ext cx="8458200" cy="74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4200"/>
                    <a:ext cx="8458200" cy="74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30200" y="484200"/>
          <a:ext cx="85788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84200"/>
                    <a:ext cx="85788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95360" y="457200"/>
          <a:ext cx="8547120" cy="577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57200"/>
                    <a:ext cx="8547120" cy="57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9800" y="625320"/>
          <a:ext cx="8035920" cy="55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25320"/>
                    <a:ext cx="8035920" cy="55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68280" y="368280"/>
          <a:ext cx="8661600" cy="70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368280"/>
                    <a:ext cx="8661600" cy="70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1200" y="417600"/>
          <a:ext cx="8337600" cy="69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17600"/>
                    <a:ext cx="8337600" cy="69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8400" y="673200"/>
          <a:ext cx="71136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1136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68400" y="673200"/>
          <a:ext cx="7327800" cy="59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3278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433440"/>
          <a:ext cx="8121600" cy="602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3440"/>
                    <a:ext cx="812160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5400" y="604800"/>
          <a:ext cx="7704000" cy="55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604800"/>
                    <a:ext cx="770400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93800" y="469800"/>
          <a:ext cx="78390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8390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93800" y="469800"/>
          <a:ext cx="773100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7310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2400" y="511200"/>
          <a:ext cx="78948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11200"/>
                    <a:ext cx="78948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08-04-07T17:00:58Z</dcterms:modified>
  <cp:revision>27</cp:revision>
  <dc:subject/>
  <dc:title>Sin título de diapositiva</dc:title>
</cp:coreProperties>
</file>