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D8F-3868-4EEF-80C3-B679CCB1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D81-DCB4-49D7-9734-C128633E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F8B-16DF-4BC6-AAB0-15FA813F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F2E-45A2-4E83-945B-F32E89CB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18F-D42F-4684-87B7-3EC4A667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9EC-8763-408F-97D1-084D8632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29B-AEFA-4D13-9CDF-CC86EF5A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686-5113-4C0F-BF56-1AFAF374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FB0-BDE4-4DC1-BFE5-8E269655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966-B0F8-4040-8B76-36F31F87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BB9-4A83-42F5-A5E1-2E072EB2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DCA-E42F-4E25-AECF-07A8144E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007E-4AF8-4363-A4FD-8BAF17A09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4440" y="495360"/>
          <a:ext cx="8163000" cy="67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63000" cy="67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fibonacci(i)=i-ésimo de 0,1,1,2,3,5,8,13,21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binaciones(x,y)=x!/(y!(x-y)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Combinaciones(10,2)=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j: combinaciones de 10 esferas numeradas 0 a 9 tomados de 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invertir(x): escribe x al re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ej: invertir(12345) escribe 5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&lt;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)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1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&gt;=10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!=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umero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void combinacionesDigitos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=0,n=0; x&lt;=9; ++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y=x+1; y&lt;=9; ++y)//int 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!=y) U.println(++n +”:”+x +“,“+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diasMes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1:case 3:case 5:case 7:case 8:case 10:case 12:return 31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4:case 6:case 9:case 11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turn 3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e 2: return bisiesto(a) ? 29 :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95360" y="431640"/>
          <a:ext cx="7683480" cy="622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31640"/>
                    <a:ext cx="7683480" cy="622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68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Ej: siOno(“acepta a esta mujer como esposa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Ej: inverso(“roma”)=“a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Ej: inverso(1234)=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inverso(“”+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17600"/>
          <a:ext cx="8271000" cy="67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17600"/>
                    <a:ext cx="8271000" cy="67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70080"/>
            <a:ext cx="9468000" cy="61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x){System.out.println(x);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System.out.print(x);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xit(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//terminar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ectura/escritura y asig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ir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Círculo y cuadrado inscrit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=U.readDouble(“radio?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a=2*r/Math.sqrt(2);//lado cuad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perímetro=“ + (2*Math.PI*r+4*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área=“ + (Math.PI*r*r-a*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55692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orcentajes de enteros a,b,c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 = U.readInt(“a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b = U.readInt(“b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c = U.readInt(“c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”a=” + a*factor + ”%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”b=” + b*factor + ”%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”c=” + c*factor + ”%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: operador de resto de di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predefin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: definición y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 = x/10000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 = x/10000 % 1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 x % 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a*10000 + m*100 + 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2=U.readInt(“fecha2(DDMMAAAA)?”); U.println(“mayor=“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max( aaaammdd(f1), aaaammdd(f2) 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i=2; double p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=p*x; i=i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&gt;=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1/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trones para proceso de l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hasta fin         //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8-04-02T16:03:02Z</dcterms:modified>
  <cp:revision>41</cp:revision>
  <dc:subject/>
  <dc:title>Diapositiva 1</dc:title>
</cp:coreProperties>
</file>